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wmf" ContentType="image/x-wmf"/>
  <Override PartName="/ppt/media/image11.wmf" ContentType="image/x-wmf"/>
  <Override PartName="/ppt/media/image3.png" ContentType="image/png"/>
  <Override PartName="/ppt/media/image16.png" ContentType="image/png"/>
  <Override PartName="/ppt/media/image15.wmf" ContentType="image/x-wmf"/>
  <Override PartName="/ppt/media/image1.jpeg" ContentType="image/jpeg"/>
  <Override PartName="/ppt/media/image2.wmf" ContentType="image/x-wmf"/>
  <Override PartName="/ppt/media/image5.jpeg" ContentType="image/jpeg"/>
  <Override PartName="/ppt/media/image9.wmf" ContentType="image/x-wmf"/>
  <Override PartName="/ppt/media/image14.wmf" ContentType="image/x-wmf"/>
  <Override PartName="/ppt/media/image6.png" ContentType="image/png"/>
  <Override PartName="/ppt/media/image10.wmf" ContentType="image/x-wmf"/>
  <Override PartName="/ppt/media/image4.jpeg" ContentType="image/jpeg"/>
  <Override PartName="/ppt/media/image7.wmf" ContentType="image/x-wmf"/>
  <Override PartName="/ppt/media/image8.png" ContentType="image/png"/>
  <Override PartName="/ppt/media/image12.wmf" ContentType="image/x-wmf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E91DBB-3669-4BE5-8769-098836BFB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04760" y="22093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904760" y="3886200"/>
            <a:ext cx="556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904760" y="4802040"/>
            <a:ext cx="556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3A4518-8E03-4123-8F2A-CA42F9819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904760" y="22093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904760" y="3886200"/>
            <a:ext cx="2714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5240" y="3886200"/>
            <a:ext cx="2714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904760" y="4802040"/>
            <a:ext cx="2714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55240" y="4802040"/>
            <a:ext cx="2714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EA7FE7-6BB8-4C61-BA76-BD25067A7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04760" y="22093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904760" y="3886200"/>
            <a:ext cx="17910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85760" y="3886200"/>
            <a:ext cx="17910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66760" y="3886200"/>
            <a:ext cx="17910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904760" y="4802040"/>
            <a:ext cx="17910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85760" y="4802040"/>
            <a:ext cx="17910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66760" y="4802040"/>
            <a:ext cx="17910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F9FBA6-1032-4B42-BF89-C7830B99D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9B4DF-5480-49A3-A245-9FE563752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904760" y="22093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904760" y="3886200"/>
            <a:ext cx="5562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B3D52-F2E9-481A-8F5E-0EC841528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04760" y="22093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904760" y="3886200"/>
            <a:ext cx="5562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A0D4F-7332-4A6B-AFBA-4FF6B3697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04760" y="22093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904760" y="3886200"/>
            <a:ext cx="2714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55240" y="3886200"/>
            <a:ext cx="2714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509E8-4B1C-4024-B72B-6D8108180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904760" y="22093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686C9-52A1-41B6-898B-1532F1993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904760" y="2209320"/>
            <a:ext cx="655308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82BDF-135B-475A-9C9F-96E290F2F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904760" y="22093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904760" y="3886200"/>
            <a:ext cx="2714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55240" y="3886200"/>
            <a:ext cx="2714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904760" y="4802040"/>
            <a:ext cx="2714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841E7-7015-4BEB-8D1A-E5A02EE24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04760" y="22093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904760" y="3886200"/>
            <a:ext cx="5562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C5C5D7-3820-4651-8516-CFBA9F41E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04760" y="22093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904760" y="3886200"/>
            <a:ext cx="2714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55240" y="3886200"/>
            <a:ext cx="2714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755240" y="4802040"/>
            <a:ext cx="2714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7A366-ADC7-4A50-AB4F-DE181A223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04760" y="22093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904760" y="3886200"/>
            <a:ext cx="2714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55240" y="3886200"/>
            <a:ext cx="2714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904760" y="4802040"/>
            <a:ext cx="556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ED66E-1FA7-454A-9DDC-7A56F0CFE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04760" y="22093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904760" y="3886200"/>
            <a:ext cx="556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904760" y="4802040"/>
            <a:ext cx="556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D4A98-BCE3-4A8D-920B-68106470E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04760" y="22093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904760" y="3886200"/>
            <a:ext cx="2714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5240" y="3886200"/>
            <a:ext cx="2714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904760" y="4802040"/>
            <a:ext cx="2714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755240" y="4802040"/>
            <a:ext cx="2714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252DD-5E2D-4BE0-A88E-89D390C2C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904760" y="22093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904760" y="3886200"/>
            <a:ext cx="17910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785760" y="3886200"/>
            <a:ext cx="17910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666760" y="3886200"/>
            <a:ext cx="17910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904760" y="4802040"/>
            <a:ext cx="17910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785760" y="4802040"/>
            <a:ext cx="17910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666760" y="4802040"/>
            <a:ext cx="17910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780E5-C573-4E80-959B-CDAC77D80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04760" y="22093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04760" y="3886200"/>
            <a:ext cx="5562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CC2B0E-4EC8-4B57-9EC2-3BDB8EE05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04760" y="22093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904760" y="3886200"/>
            <a:ext cx="2714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55240" y="3886200"/>
            <a:ext cx="2714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8547DB-5982-4FA6-8988-FAFA0B8D6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04760" y="22093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553922-7150-40E3-A511-412E2FD5A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904760" y="2209320"/>
            <a:ext cx="655308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339CD0-C434-4306-99BB-083401819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04760" y="22093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904760" y="3886200"/>
            <a:ext cx="2714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55240" y="3886200"/>
            <a:ext cx="2714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904760" y="4802040"/>
            <a:ext cx="2714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100073-8CC8-4593-9D63-AB0F675FD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904760" y="22093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904760" y="3886200"/>
            <a:ext cx="2714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55240" y="3886200"/>
            <a:ext cx="2714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55240" y="4802040"/>
            <a:ext cx="2714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D2E8F8-B919-4041-ABFC-F71EF6A9E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04760" y="22093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904760" y="3886200"/>
            <a:ext cx="2714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55240" y="3886200"/>
            <a:ext cx="2714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904760" y="4802040"/>
            <a:ext cx="556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28A2AE-C05A-413D-8082-141D1C9A9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69343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447560"/>
            <a:ext cx="6934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0" y="6477120"/>
            <a:ext cx="27432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238880" y="647712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5110D-E49E-42D7-A9E4-8B0B85C9EA96}" type="slidenum">
              <a:rPr b="0" lang="fr-F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 flipH="1">
            <a:off x="685800" y="762120"/>
            <a:ext cx="68580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>
          <a:xfrm>
            <a:off x="3125520" y="6477120"/>
            <a:ext cx="2895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Fond2" descr=""/>
          <p:cNvPicPr/>
          <p:nvPr/>
        </p:nvPicPr>
        <p:blipFill>
          <a:blip r:embed="rId2"/>
          <a:stretch/>
        </p:blipFill>
        <p:spPr>
          <a:xfrm>
            <a:off x="533520" y="1905120"/>
            <a:ext cx="8458200" cy="39621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904760" y="22093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0" y="647712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5520" y="6477120"/>
            <a:ext cx="2895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7238880" y="647712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FCB5A-83DC-4B03-AB2E-972DC63939E3}" type="slidenum">
              <a:rPr b="0" lang="fr-F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1905120" y="2743200"/>
            <a:ext cx="723888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000066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66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66680" y="2133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18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447560" y="5638680"/>
            <a:ext cx="7391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abrice AGU - IR2000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2002-2003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752480" y="1600200"/>
            <a:ext cx="6553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800000"/>
                </a:solidFill>
                <a:latin typeface="Arial"/>
              </a:rPr>
              <a:t>Serveurs d’application web pour jav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erveurs d'applications web pour ja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E70C1-98CA-47BF-82EF-9DC25D35F7BF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Fabrice AGU - 24/10/2002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69343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800000"/>
                </a:solidFill>
                <a:latin typeface="Arial"/>
              </a:rPr>
              <a:t>Java Server Page (JSP)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520" y="1066680"/>
            <a:ext cx="815364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élange de code HTML et de Java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ransformé en HTML par le serveur d’application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533520" y="3429000"/>
          <a:ext cx="8057880" cy="2021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3429000"/>
                    <a:ext cx="8057880" cy="202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Serveurs d'applications web pour ja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FD1201-FB2E-49DD-903C-AD145B4EFC5F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abrice AGU - 24/10/2002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69343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800000"/>
                </a:solidFill>
                <a:latin typeface="Arial"/>
              </a:rPr>
              <a:t>Java Server Page (JSP) - Exemple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115" name="exempleCodeJSP" descr=""/>
          <p:cNvPicPr/>
          <p:nvPr/>
        </p:nvPicPr>
        <p:blipFill>
          <a:blip r:embed="rId1"/>
          <a:stretch/>
        </p:blipFill>
        <p:spPr>
          <a:xfrm>
            <a:off x="152280" y="1447920"/>
            <a:ext cx="8763120" cy="4419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Serveurs d'applications web pour jav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B76D61-27B8-4805-8BC0-EAA62938E8C2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abrice AGU - 24/10/2002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6934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Modules Java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1295280" y="2514600"/>
          <a:ext cx="5334120" cy="366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2514600"/>
                    <a:ext cx="5334120" cy="366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153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Arial"/>
              </a:rPr>
              <a:t>Génériques, réutilisables, maintenance facile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Arial"/>
              </a:rPr>
              <a:t>S’ajoutent simplement au sein d’un site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Serveurs d'applications web pour ja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525F8F-F2DE-4D9C-9DAF-B64172AD0BA9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abrice AGU - 24/10/2002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69343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Module Java – Exemple : Castor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120" y="838080"/>
            <a:ext cx="76201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Arial"/>
              </a:rPr>
              <a:t>But : supprimer toutes requêtes SQL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Arial"/>
              </a:rPr>
              <a:t>Pooling de connexions (groupes de connexions)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Arial"/>
              </a:rPr>
              <a:t>Cache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1066680" y="2438280"/>
          <a:ext cx="5662800" cy="301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438280"/>
                    <a:ext cx="566280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" name=""/>
          <p:cNvSpPr/>
          <p:nvPr/>
        </p:nvSpPr>
        <p:spPr>
          <a:xfrm>
            <a:off x="609480" y="5791320"/>
            <a:ext cx="69343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Arial"/>
              </a:rPr>
              <a:t>Mapping de la BDD (format XM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Serveurs d'applications web pour ja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CFE935-3A5D-44CA-B7D3-27FB4F70A3B1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abrice AGU - 24/10/2002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6934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Panorama de quelque AS pour Java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457200" y="1447920"/>
            <a:ext cx="7924680" cy="322236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458640" y="48769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030640" y="48769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Serveurs d'applications web pour jav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EA70E9-C301-43BE-9319-742C625CFB91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abrice AGU - 24/10/2002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6934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Comparatifs des principaux AS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AS testés : WebLogic, WebSphere, JRun, JBos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Points soulevés :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Compatibilité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Pérennité / Références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Richesse fonctionnelle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Coût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Serveurs d'applications web pour ja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99D890-BE2B-4D68-910F-4EB3D772C1C4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abrice AGU - 24/10/2002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69343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Comparatifs – </a:t>
            </a: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Times New Roman"/>
              </a:rPr>
              <a:t>Compatibilité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609480" y="1447920"/>
          <a:ext cx="7496280" cy="2374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447920"/>
                    <a:ext cx="7496280" cy="237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76960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Système d’exploitation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9480" y="4267080"/>
            <a:ext cx="76964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BDD reconnue par JDB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09480" y="4800600"/>
            <a:ext cx="76964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Norme JSP 1.0 et 1.1 / Java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Serveurs d'applications web pour ja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F81C7B-31F2-484B-AFCA-0263071388B2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abrice AGU - 24/10/2002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69343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Comparatifs – Pérennité / références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693432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Arial"/>
              </a:rPr>
              <a:t>Outils : </a:t>
            </a: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Doit représenter l'offre leader de l'éditeur.</a:t>
            </a:r>
            <a:r>
              <a:rPr b="1" lang="fr-FR" sz="2000" spc="-1" strike="noStrike">
                <a:solidFill>
                  <a:srgbClr val="000066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Arial"/>
              </a:rPr>
              <a:t>Editeur : </a:t>
            </a: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Taille importante et ne pas être en position de se faire racheter / DCP / RJ / LJ</a:t>
            </a:r>
            <a:r>
              <a:rPr b="1" lang="fr-FR" sz="2000" spc="-1" strike="noStrike">
                <a:solidFill>
                  <a:srgbClr val="000066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838080" y="2514600"/>
            <a:ext cx="6553440" cy="3627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Serveurs d'applications web pour ja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6B0643-67B1-407D-9367-96E2308EB8AE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abrice AGU - 24/10/2002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69343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Comparatifs - </a:t>
            </a: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Times New Roman"/>
              </a:rPr>
              <a:t>Richesse fonctionnelle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560" y="990720"/>
            <a:ext cx="7467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Fonctions supplémentaires, monté en charge, facilité d’utilisation,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762120" y="2286000"/>
          <a:ext cx="6933960" cy="3838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286000"/>
                    <a:ext cx="6933960" cy="383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Serveurs d'applications web pour ja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B75B04-10D9-4BC0-9F6C-653DF604B1E1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abrice AGU - 24/10/2002</a:t>
            </a: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69343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Comparatif - Coût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609480" y="1371600"/>
          <a:ext cx="7872480" cy="362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371600"/>
                    <a:ext cx="7872480" cy="362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Serveurs d'applications web pour jav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4232F5-5BC5-4A73-95DF-EDADC5BC9A94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abrice AGU - 24/10/2002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69343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Plan de la présentation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7848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A quoi ça sert ?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0" algn="just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Qu’est-ce que c’est ?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Pourquoi Java ?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Java Server Page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Panorama de quelques Serveurs d’application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Conclusion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Serveurs d'applications web pour ja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1D54D4-1A07-4B58-BD98-D8B7E0BFC365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abrice AGU - 24/10/2002</a:t>
            </a: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69343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Démonstration…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148" name="Concole%20Was%20PPT" descr=""/>
          <p:cNvPicPr/>
          <p:nvPr/>
        </p:nvPicPr>
        <p:blipFill>
          <a:blip r:embed="rId1"/>
          <a:stretch/>
        </p:blipFill>
        <p:spPr>
          <a:xfrm>
            <a:off x="609480" y="762120"/>
            <a:ext cx="7772400" cy="5545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Serveurs d'applications web pour jav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C9024B-D9D7-490B-8A3E-9EACF3863B3E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abrice AGU - 24/10/2002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69343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Conclusion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S dédié Java : site Internet de grande envergure (rapidité, coût)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Les logiciels libres et/ou gratuits n’ont pas encore leur place dans ce domaine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Serveurs d'applications web pour ja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DA7C20-03D7-4462-ABD1-3C94DBFE7F95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abrice AGU - 24/10/2002</a:t>
            </a: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66680" y="2133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18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752480" y="2057400"/>
            <a:ext cx="65534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Questions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erveurs d'applications web pour jav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C46A3-AA26-4DB9-A5BF-CCD538C85394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Fabrice AGU - 24/10/2002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69343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Times New Roman"/>
              </a:rPr>
              <a:t>A quoi ça sert ?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066320"/>
            <a:ext cx="8381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Arial"/>
              </a:rPr>
              <a:t>Besoins sur Internet / Intranet / Extranet :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Arial"/>
              </a:rPr>
              <a:t>Communiquer avec des bases de données,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Arial"/>
              </a:rPr>
              <a:t>Consulter des web services,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Arial"/>
              </a:rPr>
              <a:t>Effectuer des recherches,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Arial"/>
              </a:rPr>
              <a:t>…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Arial"/>
              </a:rPr>
              <a:t>Solution :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Arial"/>
              </a:rPr>
              <a:t>Site dynamique (Google, leMonde.fr, Météo France, SNCF)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Utilisation d’un serveur d’application web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Serveurs d'applications web pour ja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43993F-8313-4478-8B8A-263C522BEF4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abrice AGU - 24/10/2002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800000"/>
                </a:solidFill>
                <a:latin typeface="Arial"/>
              </a:rPr>
              <a:t>Qu’est-ce qu’un Serveur d’application web ?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Arial"/>
              </a:rPr>
              <a:t>Logiciel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Arial"/>
              </a:rPr>
              <a:t>Situé entre le navigateur web et le back-office (scripts, bases de données, …)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Arial"/>
              </a:rPr>
              <a:t>Définition : </a:t>
            </a: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Un environnement de l'architecture qui fournit les briques techniques nécessaires à l'exécution d'applications web.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fr-FR" sz="2400" spc="-1" strike="noStrike">
                <a:solidFill>
                  <a:srgbClr val="ff0000"/>
                </a:solidFill>
                <a:latin typeface="Arial"/>
              </a:rPr>
              <a:t>ATTENTION : APACHE N’EST PAS UN SERVEUR D’APPLICATION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Serveurs d'applications web pour ja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1820CF-F217-4FB7-B783-190B9DC268A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abrice AGU - 24/10/2002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391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Times New Roman"/>
              </a:rPr>
              <a:t>Structure d’un serveur Internet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304920" y="914400"/>
          <a:ext cx="8381880" cy="542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914400"/>
                    <a:ext cx="8381880" cy="542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Serveurs d'applications web pour jav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C11B6E-8A92-4313-AEB3-81DFDCDDA787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abrice AGU - 24/10/2002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69343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Fonctionnalités attendues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120" y="837720"/>
            <a:ext cx="815364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Arial"/>
              </a:rPr>
              <a:t>Le support des plates-formes </a:t>
            </a:r>
            <a:r>
              <a:rPr b="0" lang="fr-FR" sz="2400" spc="-1" strike="noStrike">
                <a:solidFill>
                  <a:srgbClr val="000066"/>
                </a:solidFill>
                <a:latin typeface="Arial"/>
              </a:rPr>
              <a:t>(Unix, Windows, …)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Arial"/>
              </a:rPr>
              <a:t>La répartition de charges </a:t>
            </a:r>
            <a:r>
              <a:rPr b="0" lang="fr-FR" sz="2400" spc="-1" strike="noStrike">
                <a:solidFill>
                  <a:srgbClr val="000066"/>
                </a:solidFill>
                <a:latin typeface="Arial"/>
              </a:rPr>
              <a:t>(multiprocess, clustering)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Arial"/>
              </a:rPr>
              <a:t>La reprise sur incident </a:t>
            </a:r>
            <a:r>
              <a:rPr b="0" lang="fr-FR" sz="2400" spc="-1" strike="noStrike">
                <a:solidFill>
                  <a:srgbClr val="000066"/>
                </a:solidFill>
                <a:latin typeface="Arial"/>
              </a:rPr>
              <a:t>(watchdog, redirection)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Arial"/>
              </a:rPr>
              <a:t>Le pooling de connexions </a:t>
            </a:r>
            <a:r>
              <a:rPr b="0" lang="fr-FR" sz="2400" spc="-1" strike="noStrike">
                <a:solidFill>
                  <a:srgbClr val="000066"/>
                </a:solidFill>
                <a:latin typeface="Arial"/>
              </a:rPr>
              <a:t>(montée en charge, Castor)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Arial"/>
              </a:rPr>
              <a:t>L'ouverture vers l'existant, le respect des standards </a:t>
            </a:r>
            <a:r>
              <a:rPr b="0" lang="fr-FR" sz="2400" spc="-1" strike="noStrike">
                <a:solidFill>
                  <a:srgbClr val="000066"/>
                </a:solidFill>
                <a:latin typeface="Arial"/>
              </a:rPr>
              <a:t>(Serveur HTTP, BDD, ERP, XML, …)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Arial"/>
              </a:rPr>
              <a:t>La gestion de contexte </a:t>
            </a:r>
            <a:r>
              <a:rPr b="0" lang="fr-FR" sz="2400" spc="-1" strike="noStrike">
                <a:solidFill>
                  <a:srgbClr val="000066"/>
                </a:solidFill>
                <a:latin typeface="Arial"/>
              </a:rPr>
              <a:t>(sessions internautes)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Arial"/>
              </a:rPr>
              <a:t>La sécurité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Arial"/>
              </a:rPr>
              <a:t>L'administration</a:t>
            </a:r>
            <a:r>
              <a:rPr b="0" lang="fr-FR" sz="2400" spc="-1" strike="noStrike">
                <a:solidFill>
                  <a:srgbClr val="000066"/>
                </a:solidFill>
                <a:latin typeface="Arial"/>
              </a:rPr>
              <a:t> (interfaces, facilité)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Arial"/>
              </a:rPr>
              <a:t>La productivité </a:t>
            </a:r>
            <a:r>
              <a:rPr b="0" lang="fr-FR" sz="2400" spc="-1" strike="noStrike">
                <a:solidFill>
                  <a:srgbClr val="000066"/>
                </a:solidFill>
                <a:latin typeface="Arial"/>
              </a:rPr>
              <a:t>(time-to-market, outils supplémentaires)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Serveurs d'applications web pour ja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B437F5-764A-45D5-98C5-73497FCA25C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abrice AGU - 24/10/2002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69343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Architecture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102" name="archi%20-%209iAS" descr=""/>
          <p:cNvPicPr/>
          <p:nvPr/>
        </p:nvPicPr>
        <p:blipFill>
          <a:blip r:embed="rId1"/>
          <a:stretch/>
        </p:blipFill>
        <p:spPr>
          <a:xfrm>
            <a:off x="152280" y="3352680"/>
            <a:ext cx="3886200" cy="294984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120" y="9907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outes ces fonctionnalités impliquent une architecture !!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Tous les Serveurs d’application (AS) ont une architecture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04" name="archi%20-%20jboss4" descr=""/>
          <p:cNvPicPr/>
          <p:nvPr/>
        </p:nvPicPr>
        <p:blipFill>
          <a:blip r:embed="rId2"/>
          <a:stretch/>
        </p:blipFill>
        <p:spPr>
          <a:xfrm>
            <a:off x="5181480" y="37339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105" name="archi%20-%20general" descr=""/>
          <p:cNvPicPr/>
          <p:nvPr/>
        </p:nvPicPr>
        <p:blipFill>
          <a:blip r:embed="rId3"/>
          <a:stretch/>
        </p:blipFill>
        <p:spPr>
          <a:xfrm>
            <a:off x="2590920" y="2666880"/>
            <a:ext cx="3352680" cy="199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Serveurs d'applications web pour ja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4A1AD9-2D85-4A3E-B7DA-CF3D8819AF3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abrice AGU - 24/10/2002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69343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Charges - Nombre de Connexions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107" name="websphere%20workload%20example" descr=""/>
          <p:cNvPicPr/>
          <p:nvPr/>
        </p:nvPicPr>
        <p:blipFill>
          <a:blip r:embed="rId1"/>
          <a:stretch/>
        </p:blipFill>
        <p:spPr>
          <a:xfrm>
            <a:off x="380880" y="838080"/>
            <a:ext cx="8153640" cy="5599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Serveurs d'applications web pour jav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8C00AA-7C0E-43B9-B534-03F58CB778AA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abrice AGU - 24/10/2002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69343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Times New Roman"/>
              </a:rPr>
              <a:t>Pourquoi Java ?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1447560"/>
            <a:ext cx="6934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Arial"/>
              </a:rPr>
              <a:t>Programmation orienté objet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Réutilisation des composants, répartition modulaire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Développement simple, rapide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Arial"/>
              </a:rPr>
              <a:t>Multiplateforme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Unix, Linux, Windows,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Arial"/>
              </a:rPr>
              <a:t>Rapidité d’exécution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Arial"/>
              </a:rPr>
              <a:t>Forte pérennité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Arial"/>
              </a:rPr>
              <a:t>=&gt; JSP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Serveurs d'applications web pour ja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D07A56-F534-4EFA-8A5E-BB0D85520484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abrice AGU - 24/10/2002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3T16:31:28Z</dcterms:created>
  <dc:creator>Fabrice AGU</dc:creator>
  <dc:description/>
  <dc:language>en-US</dc:language>
  <cp:lastModifiedBy>fagu</cp:lastModifiedBy>
  <dcterms:modified xsi:type="dcterms:W3CDTF">2002-10-23T21:18:24Z</dcterms:modified>
  <cp:revision>317</cp:revision>
  <dc:subject>Serveurs d'application web pour java</dc:subject>
  <dc:title>Serveurs d'application web pour java</dc:title>
</cp:coreProperties>
</file>