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AF12-9139-4AA7-9C8A-C8BBF0F1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4B3E-836D-4C54-9C1B-2F322AB9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4362-BDCC-4529-A395-0A35948A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C7DA-B1FD-4B19-B62C-7CEE28E0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7688-7F3B-4C98-B169-36FE6900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2A05-7F57-4955-95AE-542B7DC8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6636-CC98-4BD2-B049-8E4CEDD8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B7F3-5B52-4F87-B721-7F09E15F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036E-51F9-4EFA-B767-C206B68A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21FA-C1F4-46CB-9340-B36B979F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11D1-5CC8-4B0E-A15E-B2E3636A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226D-34DE-4D2B-BBEA-66D63874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9CDA-E7DD-4CFE-B33A-2E0C94944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4.png"/><Relationship Id="rId16" Type="http://schemas.openxmlformats.org/officeDocument/2006/relationships/image" Target="../media/image5.png"/><Relationship Id="rId17" Type="http://schemas.openxmlformats.org/officeDocument/2006/relationships/image" Target="../media/image4.png"/><Relationship Id="rId18" Type="http://schemas.openxmlformats.org/officeDocument/2006/relationships/image" Target="../media/image5.png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image" Target="../media/image3.png"/><Relationship Id="rId2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Administration Windows NT et alternatives Lin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LON David – Sept.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90720" y="60948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amb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2286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676520"/>
            <a:ext cx="7848360" cy="58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n 1991,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Andrew Tridgell développe un programme de gestion de fichiers basé sur SMB (Server Message Block) implémenté par Microsoft et IB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jourd’hui, Samba est géré et développé par la SAMBA  TEAM sous la direction active d’Andrew Tridgel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amba : Open Source, distribué sous licence GPL G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icrosoft contribue matériellement à promouvoir la définition de SMB et du système de fichiers CIFS (Common Internet File 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IFS est le nom retenu par Microsoft pour les futures versions du protocole SMB intégré dans Window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Samba :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ichier de configuration : smb.con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mbmount / smbum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mb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mb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mon partage : smb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mon NetBios : nmb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Sam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1981080"/>
            <a:ext cx="1828800" cy="38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 P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6200" y="1981080"/>
            <a:ext cx="167652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 B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08760" y="5486400"/>
            <a:ext cx="18543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 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62280" y="3414600"/>
            <a:ext cx="3638520" cy="1462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6324480" y="4572000"/>
            <a:ext cx="95256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191120" y="3467160"/>
            <a:ext cx="834840" cy="7063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5730840"/>
            <a:ext cx="2228760" cy="822240"/>
          </a:xfrm>
          <a:prstGeom prst="cloudCallout">
            <a:avLst>
              <a:gd name="adj1" fmla="val 91666"/>
              <a:gd name="adj2" fmla="val -32819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EXTERI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057400" y="1981080"/>
            <a:ext cx="647640" cy="10414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048120" y="1981080"/>
            <a:ext cx="647640" cy="1041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7397640" y="4329000"/>
            <a:ext cx="647640" cy="1040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43480" y="4267080"/>
            <a:ext cx="2158920" cy="403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TES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733920" y="4876920"/>
            <a:ext cx="304560" cy="36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6095880"/>
            <a:ext cx="1746000" cy="379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ROU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3124080"/>
            <a:ext cx="4572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33920" y="3048120"/>
            <a:ext cx="457200" cy="385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00200" y="408312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762120" y="3324240"/>
            <a:ext cx="647640" cy="10414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52280" y="4462560"/>
            <a:ext cx="1924200" cy="566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DE FICH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0600" y="6095880"/>
            <a:ext cx="2844720" cy="354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 D’IM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5105520" y="4952520"/>
            <a:ext cx="3045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5486400" y="4979880"/>
            <a:ext cx="647640" cy="10400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 flipH="1">
            <a:off x="5486040" y="3124080"/>
            <a:ext cx="60948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05720" y="1981080"/>
            <a:ext cx="16761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D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0" y="3747960"/>
            <a:ext cx="2057400" cy="290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 DH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400800" y="3276720"/>
            <a:ext cx="99072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7543800" y="2590920"/>
            <a:ext cx="80496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1981080" y="1981080"/>
            <a:ext cx="1054080" cy="1066680"/>
            <a:chOff x="1981080" y="1981080"/>
            <a:chExt cx="1054080" cy="1066680"/>
          </a:xfrm>
        </p:grpSpPr>
        <p:pic>
          <p:nvPicPr>
            <p:cNvPr id="158" name="" descr=""/>
            <p:cNvPicPr/>
            <p:nvPr/>
          </p:nvPicPr>
          <p:blipFill>
            <a:blip r:embed="rId8"/>
            <a:stretch/>
          </p:blipFill>
          <p:spPr>
            <a:xfrm>
              <a:off x="1981080" y="1981080"/>
              <a:ext cx="80460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maracas" descr=""/>
            <p:cNvPicPr/>
            <p:nvPr/>
          </p:nvPicPr>
          <p:blipFill>
            <a:blip r:embed="rId9"/>
            <a:stretch/>
          </p:blipFill>
          <p:spPr>
            <a:xfrm>
              <a:off x="2590560" y="2285640"/>
              <a:ext cx="444600" cy="45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5824440" y="1981080"/>
            <a:ext cx="804960" cy="106704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3060720" y="1981080"/>
            <a:ext cx="1054080" cy="1066680"/>
            <a:chOff x="3060720" y="1981080"/>
            <a:chExt cx="1054080" cy="1066680"/>
          </a:xfrm>
        </p:grpSpPr>
        <p:pic>
          <p:nvPicPr>
            <p:cNvPr id="162" name="" descr=""/>
            <p:cNvPicPr/>
            <p:nvPr/>
          </p:nvPicPr>
          <p:blipFill>
            <a:blip r:embed="rId11"/>
            <a:stretch/>
          </p:blipFill>
          <p:spPr>
            <a:xfrm>
              <a:off x="3060720" y="1981080"/>
              <a:ext cx="80460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maracas" descr=""/>
            <p:cNvPicPr/>
            <p:nvPr/>
          </p:nvPicPr>
          <p:blipFill>
            <a:blip r:embed="rId12"/>
            <a:stretch/>
          </p:blipFill>
          <p:spPr>
            <a:xfrm>
              <a:off x="3670200" y="2285640"/>
              <a:ext cx="4446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"/>
          <p:cNvGrpSpPr/>
          <p:nvPr/>
        </p:nvGrpSpPr>
        <p:grpSpPr>
          <a:xfrm>
            <a:off x="609480" y="3276720"/>
            <a:ext cx="1054080" cy="1066680"/>
            <a:chOff x="609480" y="3276720"/>
            <a:chExt cx="1054080" cy="1066680"/>
          </a:xfrm>
        </p:grpSpPr>
        <p:pic>
          <p:nvPicPr>
            <p:cNvPr id="165" name="" descr=""/>
            <p:cNvPicPr/>
            <p:nvPr/>
          </p:nvPicPr>
          <p:blipFill>
            <a:blip r:embed="rId13"/>
            <a:stretch/>
          </p:blipFill>
          <p:spPr>
            <a:xfrm>
              <a:off x="609480" y="3276720"/>
              <a:ext cx="80460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maracas" descr=""/>
            <p:cNvPicPr/>
            <p:nvPr/>
          </p:nvPicPr>
          <p:blipFill>
            <a:blip r:embed="rId14"/>
            <a:stretch/>
          </p:blipFill>
          <p:spPr>
            <a:xfrm>
              <a:off x="1218960" y="3581280"/>
              <a:ext cx="4446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"/>
          <p:cNvGrpSpPr/>
          <p:nvPr/>
        </p:nvGrpSpPr>
        <p:grpSpPr>
          <a:xfrm>
            <a:off x="5486400" y="4952880"/>
            <a:ext cx="1054080" cy="1066680"/>
            <a:chOff x="5486400" y="4952880"/>
            <a:chExt cx="1054080" cy="1066680"/>
          </a:xfrm>
        </p:grpSpPr>
        <p:pic>
          <p:nvPicPr>
            <p:cNvPr id="168" name="" descr=""/>
            <p:cNvPicPr/>
            <p:nvPr/>
          </p:nvPicPr>
          <p:blipFill>
            <a:blip r:embed="rId15"/>
            <a:stretch/>
          </p:blipFill>
          <p:spPr>
            <a:xfrm>
              <a:off x="5486400" y="4952880"/>
              <a:ext cx="80460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maracas" descr=""/>
            <p:cNvPicPr/>
            <p:nvPr/>
          </p:nvPicPr>
          <p:blipFill>
            <a:blip r:embed="rId16"/>
            <a:stretch/>
          </p:blipFill>
          <p:spPr>
            <a:xfrm>
              <a:off x="6095880" y="5257440"/>
              <a:ext cx="4446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0" name=""/>
          <p:cNvGrpSpPr/>
          <p:nvPr/>
        </p:nvGrpSpPr>
        <p:grpSpPr>
          <a:xfrm>
            <a:off x="4191120" y="3124080"/>
            <a:ext cx="1129320" cy="1066680"/>
            <a:chOff x="4191120" y="3124080"/>
            <a:chExt cx="1129320" cy="1066680"/>
          </a:xfrm>
        </p:grpSpPr>
        <p:pic>
          <p:nvPicPr>
            <p:cNvPr id="171" name="" descr=""/>
            <p:cNvPicPr/>
            <p:nvPr/>
          </p:nvPicPr>
          <p:blipFill>
            <a:blip r:embed="rId17"/>
            <a:stretch/>
          </p:blipFill>
          <p:spPr>
            <a:xfrm>
              <a:off x="4191120" y="3124080"/>
              <a:ext cx="86256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maracas" descr=""/>
            <p:cNvPicPr/>
            <p:nvPr/>
          </p:nvPicPr>
          <p:blipFill>
            <a:blip r:embed="rId18"/>
            <a:stretch/>
          </p:blipFill>
          <p:spPr>
            <a:xfrm>
              <a:off x="4844160" y="3428640"/>
              <a:ext cx="4762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3" name=""/>
          <p:cNvGrpSpPr/>
          <p:nvPr/>
        </p:nvGrpSpPr>
        <p:grpSpPr>
          <a:xfrm>
            <a:off x="7327800" y="4343400"/>
            <a:ext cx="1054080" cy="1066680"/>
            <a:chOff x="7327800" y="4343400"/>
            <a:chExt cx="1054080" cy="1066680"/>
          </a:xfrm>
        </p:grpSpPr>
        <p:pic>
          <p:nvPicPr>
            <p:cNvPr id="174" name="" descr=""/>
            <p:cNvPicPr/>
            <p:nvPr/>
          </p:nvPicPr>
          <p:blipFill>
            <a:blip r:embed="rId19"/>
            <a:stretch/>
          </p:blipFill>
          <p:spPr>
            <a:xfrm>
              <a:off x="7327800" y="4343400"/>
              <a:ext cx="80460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maracas" descr=""/>
            <p:cNvPicPr/>
            <p:nvPr/>
          </p:nvPicPr>
          <p:blipFill>
            <a:blip r:embed="rId20"/>
            <a:stretch/>
          </p:blipFill>
          <p:spPr>
            <a:xfrm>
              <a:off x="7937280" y="4647960"/>
              <a:ext cx="444600" cy="45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6" name="" descr=""/>
          <p:cNvPicPr/>
          <p:nvPr/>
        </p:nvPicPr>
        <p:blipFill>
          <a:blip r:embed="rId21"/>
          <a:stretch/>
        </p:blipFill>
        <p:spPr>
          <a:xfrm>
            <a:off x="3124080" y="5410080"/>
            <a:ext cx="12319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DD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320" y="1981080"/>
            <a:ext cx="1828800" cy="38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 P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1981080"/>
            <a:ext cx="167652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 B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08760" y="5486400"/>
            <a:ext cx="18543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 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3429000"/>
            <a:ext cx="3638520" cy="1461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6324480" y="4572000"/>
            <a:ext cx="95256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191120" y="3467160"/>
            <a:ext cx="834840" cy="7063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2057400" y="1981080"/>
            <a:ext cx="647640" cy="10414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3048120" y="1981080"/>
            <a:ext cx="647640" cy="10414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397640" y="4329000"/>
            <a:ext cx="647640" cy="10400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543480" y="4267080"/>
            <a:ext cx="2158920" cy="403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TES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733920" y="4876920"/>
            <a:ext cx="304560" cy="36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6095880"/>
            <a:ext cx="1746000" cy="379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ROU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3124080"/>
            <a:ext cx="4572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33920" y="3048120"/>
            <a:ext cx="457200" cy="385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00200" y="408312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762120" y="3324240"/>
            <a:ext cx="647640" cy="10414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52280" y="4462560"/>
            <a:ext cx="1924200" cy="566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DE FICH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00600" y="6095880"/>
            <a:ext cx="2844720" cy="354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 D’IM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105520" y="4952520"/>
            <a:ext cx="3045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5486400" y="4979880"/>
            <a:ext cx="647640" cy="104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 flipH="1">
            <a:off x="5486040" y="2971800"/>
            <a:ext cx="6858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238880" y="2286000"/>
            <a:ext cx="182880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DD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981080" y="1981080"/>
            <a:ext cx="1054080" cy="1066680"/>
            <a:chOff x="1981080" y="1981080"/>
            <a:chExt cx="1054080" cy="1066680"/>
          </a:xfrm>
        </p:grpSpPr>
        <p:pic>
          <p:nvPicPr>
            <p:cNvPr id="201" name="" descr=""/>
            <p:cNvPicPr/>
            <p:nvPr/>
          </p:nvPicPr>
          <p:blipFill>
            <a:blip r:embed="rId7"/>
            <a:stretch/>
          </p:blipFill>
          <p:spPr>
            <a:xfrm>
              <a:off x="1981080" y="1981080"/>
              <a:ext cx="80460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maracas" descr=""/>
            <p:cNvPicPr/>
            <p:nvPr/>
          </p:nvPicPr>
          <p:blipFill>
            <a:blip r:embed="rId8"/>
            <a:stretch/>
          </p:blipFill>
          <p:spPr>
            <a:xfrm>
              <a:off x="2590560" y="2285640"/>
              <a:ext cx="444600" cy="45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3" name="" descr=""/>
          <p:cNvPicPr/>
          <p:nvPr/>
        </p:nvPicPr>
        <p:blipFill>
          <a:blip r:embed="rId9"/>
          <a:stretch/>
        </p:blipFill>
        <p:spPr>
          <a:xfrm>
            <a:off x="6324480" y="2286000"/>
            <a:ext cx="804960" cy="1066680"/>
          </a:xfrm>
          <a:prstGeom prst="rect">
            <a:avLst/>
          </a:prstGeom>
          <a:ln w="0">
            <a:noFill/>
          </a:ln>
        </p:spPr>
      </p:pic>
      <p:grpSp>
        <p:nvGrpSpPr>
          <p:cNvPr id="204" name=""/>
          <p:cNvGrpSpPr/>
          <p:nvPr/>
        </p:nvGrpSpPr>
        <p:grpSpPr>
          <a:xfrm>
            <a:off x="3060720" y="1981080"/>
            <a:ext cx="1054080" cy="1066680"/>
            <a:chOff x="3060720" y="1981080"/>
            <a:chExt cx="1054080" cy="1066680"/>
          </a:xfrm>
        </p:grpSpPr>
        <p:pic>
          <p:nvPicPr>
            <p:cNvPr id="205" name="" descr=""/>
            <p:cNvPicPr/>
            <p:nvPr/>
          </p:nvPicPr>
          <p:blipFill>
            <a:blip r:embed="rId10"/>
            <a:stretch/>
          </p:blipFill>
          <p:spPr>
            <a:xfrm>
              <a:off x="3060720" y="1981080"/>
              <a:ext cx="80460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maracas" descr=""/>
            <p:cNvPicPr/>
            <p:nvPr/>
          </p:nvPicPr>
          <p:blipFill>
            <a:blip r:embed="rId11"/>
            <a:stretch/>
          </p:blipFill>
          <p:spPr>
            <a:xfrm>
              <a:off x="3670200" y="2285640"/>
              <a:ext cx="4446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609480" y="3276720"/>
            <a:ext cx="1054080" cy="1066680"/>
            <a:chOff x="609480" y="3276720"/>
            <a:chExt cx="1054080" cy="1066680"/>
          </a:xfrm>
        </p:grpSpPr>
        <p:pic>
          <p:nvPicPr>
            <p:cNvPr id="208" name="" descr=""/>
            <p:cNvPicPr/>
            <p:nvPr/>
          </p:nvPicPr>
          <p:blipFill>
            <a:blip r:embed="rId12"/>
            <a:stretch/>
          </p:blipFill>
          <p:spPr>
            <a:xfrm>
              <a:off x="609480" y="3276720"/>
              <a:ext cx="80460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maracas" descr=""/>
            <p:cNvPicPr/>
            <p:nvPr/>
          </p:nvPicPr>
          <p:blipFill>
            <a:blip r:embed="rId13"/>
            <a:stretch/>
          </p:blipFill>
          <p:spPr>
            <a:xfrm>
              <a:off x="1218960" y="3581280"/>
              <a:ext cx="4446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0" name=""/>
          <p:cNvGrpSpPr/>
          <p:nvPr/>
        </p:nvGrpSpPr>
        <p:grpSpPr>
          <a:xfrm>
            <a:off x="5423040" y="4952880"/>
            <a:ext cx="1054080" cy="1066680"/>
            <a:chOff x="5423040" y="4952880"/>
            <a:chExt cx="1054080" cy="1066680"/>
          </a:xfrm>
        </p:grpSpPr>
        <p:pic>
          <p:nvPicPr>
            <p:cNvPr id="211" name="" descr=""/>
            <p:cNvPicPr/>
            <p:nvPr/>
          </p:nvPicPr>
          <p:blipFill>
            <a:blip r:embed="rId14"/>
            <a:stretch/>
          </p:blipFill>
          <p:spPr>
            <a:xfrm>
              <a:off x="5423040" y="4952880"/>
              <a:ext cx="80460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maracas" descr=""/>
            <p:cNvPicPr/>
            <p:nvPr/>
          </p:nvPicPr>
          <p:blipFill>
            <a:blip r:embed="rId15"/>
            <a:stretch/>
          </p:blipFill>
          <p:spPr>
            <a:xfrm>
              <a:off x="6032520" y="5257440"/>
              <a:ext cx="4446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" name=""/>
          <p:cNvGrpSpPr/>
          <p:nvPr/>
        </p:nvGrpSpPr>
        <p:grpSpPr>
          <a:xfrm>
            <a:off x="4191120" y="3124080"/>
            <a:ext cx="1129320" cy="1066680"/>
            <a:chOff x="4191120" y="3124080"/>
            <a:chExt cx="1129320" cy="1066680"/>
          </a:xfrm>
        </p:grpSpPr>
        <p:pic>
          <p:nvPicPr>
            <p:cNvPr id="214" name="" descr=""/>
            <p:cNvPicPr/>
            <p:nvPr/>
          </p:nvPicPr>
          <p:blipFill>
            <a:blip r:embed="rId16"/>
            <a:stretch/>
          </p:blipFill>
          <p:spPr>
            <a:xfrm>
              <a:off x="4191120" y="3124080"/>
              <a:ext cx="86256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maracas" descr=""/>
            <p:cNvPicPr/>
            <p:nvPr/>
          </p:nvPicPr>
          <p:blipFill>
            <a:blip r:embed="rId17"/>
            <a:stretch/>
          </p:blipFill>
          <p:spPr>
            <a:xfrm>
              <a:off x="4844160" y="3428640"/>
              <a:ext cx="47628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"/>
          <p:cNvSpPr/>
          <p:nvPr/>
        </p:nvSpPr>
        <p:spPr>
          <a:xfrm>
            <a:off x="209520" y="5730840"/>
            <a:ext cx="2228760" cy="822240"/>
          </a:xfrm>
          <a:prstGeom prst="cloudCallout">
            <a:avLst>
              <a:gd name="adj1" fmla="val 91666"/>
              <a:gd name="adj2" fmla="val -32819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EXTERI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8"/>
          <a:stretch/>
        </p:blipFill>
        <p:spPr>
          <a:xfrm>
            <a:off x="3124080" y="5410080"/>
            <a:ext cx="12319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 domaine 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on de domaine NT intéress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istration simple mais lour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istration à distance diffic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ésentation de Windows 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tructure d’un réseau Windows 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lternatives Lin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ésentation de Windows 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oints fort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vivia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tui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pan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oints Fa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ta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cur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ésentation Windows 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Gestion par bases de regist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otocole natif Netb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no utilisat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d’un réseau 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1981080"/>
            <a:ext cx="1828800" cy="38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 P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1981080"/>
            <a:ext cx="167652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 B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08760" y="5486400"/>
            <a:ext cx="18543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 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62280" y="3414600"/>
            <a:ext cx="3638520" cy="1462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6324480" y="4572000"/>
            <a:ext cx="95256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191120" y="3467160"/>
            <a:ext cx="834840" cy="706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5410080"/>
            <a:ext cx="2228760" cy="822600"/>
          </a:xfrm>
          <a:prstGeom prst="cloudCallout">
            <a:avLst>
              <a:gd name="adj1" fmla="val 91666"/>
              <a:gd name="adj2" fmla="val -32819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EXTERI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057400" y="1981080"/>
            <a:ext cx="647640" cy="1041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048120" y="1981080"/>
            <a:ext cx="647640" cy="1041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7397640" y="4329000"/>
            <a:ext cx="647640" cy="1040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543480" y="4267080"/>
            <a:ext cx="2158920" cy="403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TES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3124080" y="5280120"/>
            <a:ext cx="1231920" cy="609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>
            <a:off x="3733920" y="4876920"/>
            <a:ext cx="304560" cy="36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19520" y="6043680"/>
            <a:ext cx="1746000" cy="379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ROU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3124080"/>
            <a:ext cx="4572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3048120"/>
            <a:ext cx="457200" cy="385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408312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762120" y="3324240"/>
            <a:ext cx="647640" cy="1041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2280" y="4462560"/>
            <a:ext cx="1924200" cy="566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DE FICH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0600" y="6095880"/>
            <a:ext cx="2844720" cy="354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 D’IM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105520" y="4952520"/>
            <a:ext cx="3045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5486400" y="4979880"/>
            <a:ext cx="647640" cy="1040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>
            <a:off x="5867280" y="1981080"/>
            <a:ext cx="648000" cy="1041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flipH="1">
            <a:off x="5486040" y="3124080"/>
            <a:ext cx="60948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1981080"/>
            <a:ext cx="16761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D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0" y="3747960"/>
            <a:ext cx="2057400" cy="290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 DH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7550280" y="2590920"/>
            <a:ext cx="647640" cy="1039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H="1">
            <a:off x="6400800" y="3276720"/>
            <a:ext cx="99072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stion des utilisateurs : A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cri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Impri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trôle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tc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stion des utilisateurs : Grou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e global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ent des utilisat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r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e local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ent des utilisat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ent des groupes globa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 au doma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Gestion multi-doma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6280" y="3124080"/>
            <a:ext cx="2495520" cy="1462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352520" y="3352680"/>
            <a:ext cx="647640" cy="1040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5800" y="4876920"/>
            <a:ext cx="213372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DOMAIN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43560" y="3124080"/>
            <a:ext cx="2495520" cy="1462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219800" y="3352680"/>
            <a:ext cx="648000" cy="10400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553080" y="4876920"/>
            <a:ext cx="213372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DOMAIN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3657600"/>
            <a:ext cx="3124440" cy="685800"/>
          </a:xfrm>
          <a:prstGeom prst="rightArrow">
            <a:avLst>
              <a:gd name="adj1" fmla="val 50000"/>
              <a:gd name="adj2" fmla="val 113898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048120" y="3657600"/>
            <a:ext cx="3124080" cy="685800"/>
          </a:xfrm>
          <a:prstGeom prst="rightArrow">
            <a:avLst>
              <a:gd name="adj1" fmla="val 50000"/>
              <a:gd name="adj2" fmla="val 113885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3657600"/>
            <a:ext cx="3276720" cy="685800"/>
          </a:xfrm>
          <a:prstGeom prst="leftRightArrow">
            <a:avLst>
              <a:gd name="adj1" fmla="val 50000"/>
              <a:gd name="adj2" fmla="val 95116"/>
            </a:avLst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2895480"/>
            <a:ext cx="3200400" cy="609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APPROBATION UNIDIRECTIONN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2895480"/>
            <a:ext cx="3200400" cy="609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APPROBATION BIDIRECTIONN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Insertion de Lin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320" y="1981080"/>
            <a:ext cx="1828800" cy="38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 P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1981080"/>
            <a:ext cx="167652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 B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08760" y="5486400"/>
            <a:ext cx="18543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 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62280" y="3414600"/>
            <a:ext cx="3638520" cy="1462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6324480" y="4572000"/>
            <a:ext cx="95256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191120" y="3467160"/>
            <a:ext cx="834840" cy="706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5730840"/>
            <a:ext cx="2228760" cy="822240"/>
          </a:xfrm>
          <a:prstGeom prst="cloudCallout">
            <a:avLst>
              <a:gd name="adj1" fmla="val 91666"/>
              <a:gd name="adj2" fmla="val -32819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EXTERI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057400" y="1981080"/>
            <a:ext cx="647640" cy="1041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048120" y="1981080"/>
            <a:ext cx="647640" cy="1041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7397640" y="4329000"/>
            <a:ext cx="647640" cy="1040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543480" y="4267080"/>
            <a:ext cx="2158920" cy="403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TES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3124080" y="5562720"/>
            <a:ext cx="1231920" cy="609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>
            <a:off x="3733920" y="4876920"/>
            <a:ext cx="304560" cy="36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6326280"/>
            <a:ext cx="1746000" cy="379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ROU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6880" y="3124080"/>
            <a:ext cx="4572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3048120"/>
            <a:ext cx="457200" cy="385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408312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762120" y="3324240"/>
            <a:ext cx="647640" cy="1041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52280" y="4462560"/>
            <a:ext cx="1924200" cy="566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DE FICH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6095880"/>
            <a:ext cx="2844720" cy="354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 D’IM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5105520" y="4952520"/>
            <a:ext cx="3045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5486400" y="4979880"/>
            <a:ext cx="647640" cy="1040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5867280" y="1981080"/>
            <a:ext cx="648000" cy="1041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H="1">
            <a:off x="5486040" y="3124080"/>
            <a:ext cx="60948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1981080"/>
            <a:ext cx="16761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D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0" y="3747960"/>
            <a:ext cx="2057400" cy="290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 DH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7550280" y="2590920"/>
            <a:ext cx="647640" cy="1039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H="1">
            <a:off x="6400800" y="3276720"/>
            <a:ext cx="99072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>
            <a:off x="5824440" y="1981080"/>
            <a:ext cx="804960" cy="1067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7424640" y="2590920"/>
            <a:ext cx="8049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07:04:03Z</dcterms:created>
  <dc:creator>VALLON David</dc:creator>
  <dc:description/>
  <dc:language>en-US</dc:language>
  <cp:lastModifiedBy>VALLON David</cp:lastModifiedBy>
  <dcterms:modified xsi:type="dcterms:W3CDTF">2002-09-25T07:50:44Z</dcterms:modified>
  <cp:revision>2</cp:revision>
  <dc:subject/>
  <dc:title>Administration Windows NT et alternatives Linux</dc:title>
</cp:coreProperties>
</file>