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857-59B6-44AD-A57F-8C94AAD6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282-1C86-4F84-8447-696C4359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BED-ABB1-4067-809B-571821AA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F14-D837-4E36-8B92-3E6598B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F9C3-BD3B-4CAF-A2C4-3F320372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BF97-BFE3-4252-BBD4-EAB36F0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0A6-415C-437B-8CD0-D9B7F508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76C-E744-4CD2-A882-A3BF567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16FF-D36D-403C-A492-862B9B9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B68-AD19-47C4-89DD-030F4E4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CA1A-6332-45BB-8F63-A760891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027-43FB-45A2-983A-BD0454E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09E-9091-4077-BB2A-C6A9905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27AC-2094-42EC-92ED-FFB48E3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5EA3-B4C6-44FB-A86B-E75E90E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112E-9602-48D3-99CB-A824E25E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5245-9C59-420F-A49D-DE840A2F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A57-6412-49ED-97A6-DA64161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B68-A7C4-469D-B25E-97A8036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01F-D2A9-44A0-9295-5086DED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DC6-521C-4453-996B-DE16A6EC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0A5-5F02-4D75-8E81-E45003F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35D-C180-44E5-ACCF-DCDF106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947-4D7C-41E4-B916-DBF5BD0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976-2D47-4CD8-B25C-1E0DA119E132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E9D-2AA1-469B-B00F-54505412B214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Impact"/>
              </a:rPr>
              <a:t>LA SURETE DE FONCTIONNEMENT ( S D F )</a:t>
            </a:r>
            <a:endParaRPr b="0" lang="en-US" sz="3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2590920"/>
            <a:ext cx="2428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PARTI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484360" y="3068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FINITION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2133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IABILITE , MAINTENABILITE , DISPONIBILITE , SECUR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1952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8954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PREVISIONNELS EVALUES SUR UN SYSTEME EN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81280"/>
            <a:ext cx="609840" cy="838440"/>
          </a:xfrm>
          <a:prstGeom prst="downArrow">
            <a:avLst>
              <a:gd name="adj1" fmla="val 50000"/>
              <a:gd name="adj2" fmla="val 3437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343400"/>
            <a:ext cx="3352680" cy="99072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ENS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STE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4267080"/>
            <a:ext cx="3505320" cy="106704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ALUATION 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ISQUES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RS DE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562720"/>
            <a:ext cx="1295280" cy="12952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85144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RESIDUELS SUR UN SYSTEME EN EXPLOITATION OPERA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723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INCIPES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057400"/>
            <a:ext cx="259092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886200"/>
            <a:ext cx="16002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MD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INTEN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962520"/>
            <a:ext cx="18288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FAILL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9718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5105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057400"/>
            <a:ext cx="25146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ONC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057400"/>
            <a:ext cx="259056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ELIMINAI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Fi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Mainten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5638680"/>
            <a:ext cx="1828800" cy="106704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Sécur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510552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0292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2971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429000"/>
            <a:ext cx="6324480" cy="152280"/>
          </a:xfrm>
          <a:prstGeom prst="rect">
            <a:avLst/>
          </a:prstGeom>
          <a:solidFill>
            <a:srgbClr val="001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172200"/>
            <a:ext cx="29718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 la Disponi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172200"/>
            <a:ext cx="685800" cy="457200"/>
          </a:xfrm>
          <a:custGeom>
            <a:avLst/>
            <a:gdLst>
              <a:gd name="textAreaLeft" fmla="*/ 91800 w 685800"/>
              <a:gd name="textAreaRight" fmla="*/ 594000 w 6858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6172200"/>
            <a:ext cx="733680" cy="533520"/>
          </a:xfrm>
          <a:custGeom>
            <a:avLst/>
            <a:gdLst>
              <a:gd name="textAreaLeft" fmla="*/ 98280 w 733680"/>
              <a:gd name="textAreaRight" fmla="*/ 635400 w 7336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029200"/>
            <a:ext cx="3962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8229600" cy="5370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EXEMPLE DE DECOUPAGE FONCTIONNEL D ’UN SYSTEM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434960"/>
            <a:ext cx="8153280" cy="5423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Impact"/>
              </a:rPr>
              <a:t>EXEMPLE D ’ANALYSE FONCTIONNELLE DES ETATS D ’UN SYSTEME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QUANTITATIVE ET DIAGRAMM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36232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 partir de l ’analyse fonctionnelle, on dresse une schématisation du système sous forme de diagrammes  afin de montrer les équipements en série et en redond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19112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800100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343400"/>
            <a:ext cx="38088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272120"/>
            <a:ext cx="7621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95280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79124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7339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4197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7996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4343400"/>
            <a:ext cx="38124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191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886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533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9625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77120" y="464796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0292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562284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En introduisant les données quantitatives (MTBF, MTTR..), il est possible de tracer les courbes de fiabilité, maintenabilité et disponibilité en fonction du tem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554120"/>
            <a:ext cx="8153280" cy="5303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6665760" cy="8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EXEMPLE DE COURB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PRELIMINAIRE DES RISQUES ET ARBRES DE DEFAILLA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205740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L ’objectif est de mettre en évidence les combinaisons possibles d ’événements qui entraînent la réalisation d ’événements redoutés et de représenter ces combinaisons sous la forme d ’une structure arboresc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7086600" cy="3962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34520" y="2057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M.L. DAUJEARD</dc:creator>
  <dc:description/>
  <dc:language>en-US</dc:language>
  <cp:lastModifiedBy>Djino</cp:lastModifiedBy>
  <cp:lastPrinted>1998-09-15T11:37:22Z</cp:lastPrinted>
  <dcterms:modified xsi:type="dcterms:W3CDTF">2002-11-09T15:22:47Z</dcterms:modified>
  <cp:revision>176</cp:revision>
  <dc:subject/>
  <dc:title>PROFIL ET AVENIR DE L ’HOMME DE MAINTENANCE DE DEMAIN……...</dc:title>
</cp:coreProperties>
</file>