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467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BAF4-B32D-4239-AB5F-88414A75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F3C6-D1E6-4340-A4CD-4B562C82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E5C4-93E7-43F3-A8DB-B9F5037F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5F03-010B-4B44-8F66-14696E4C7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DBC9-467F-4C6E-B34F-DD2D54ED2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FB51-C322-44DB-83E5-9151F2DE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DD96-18E4-4CD3-84C4-B35F1356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BA32-4964-43C2-894D-05650983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D860-AB89-4B19-8F28-2C893200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CC78-1FBC-4F08-B10B-C120F363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597E-2EBF-4880-A2F6-70A5FC8D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C01E-0BB5-4756-B1EC-BD73D90B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899D-52B9-4EB1-BAEF-03C882E4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C422-24A9-4142-AE34-8EF64484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D3B1-6E23-472D-9ADD-63A70B12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BABF-A188-4A9A-A82E-7D49CCB0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8A65-FE16-4443-9B48-19E1C9FC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B74D-E631-4F70-957A-8F7E00CB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CF88-6648-4EBE-AE01-291A137D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9D40-E2D2-428B-AC25-5034F586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F53C-39AD-4311-8AE4-D97D0242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2F29-C03B-425C-8E35-EED2F45F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8B7C-6D08-41E4-A00F-AB9397A5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77C5-6C68-4AB0-8AC8-B87BC31D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2661-6157-4C7A-B874-61363A98B13B}" type="slidenum"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9777-632D-4093-8B03-0BBE1EFDA45B}" type="slidenum"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876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0000"/>
                </a:solidFill>
                <a:latin typeface="Impact"/>
              </a:rPr>
              <a:t>L’AMDEC</a:t>
            </a:r>
            <a:endParaRPr b="0" lang="en-US" sz="4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58920" y="1699920"/>
            <a:ext cx="5715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Bookman Old Style"/>
              </a:rPr>
              <a:t>Nicolas DAUJEARD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Bookman Old Style"/>
              </a:rPr>
              <a:t>IR3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76520" y="4038480"/>
            <a:ext cx="2874960" cy="2224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029200" y="3429000"/>
            <a:ext cx="2819520" cy="1981080"/>
          </a:xfrm>
          <a:prstGeom prst="cloudCallout">
            <a:avLst>
              <a:gd name="adj1" fmla="val -96620"/>
              <a:gd name="adj2" fmla="val -11138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10080" y="3959280"/>
            <a:ext cx="21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SECURITE, ANALYSE DES RISQUES, PLANS DE PREVENTION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705720" y="5327640"/>
            <a:ext cx="20858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L ’AMDEC </a:t>
            </a:r>
            <a:br>
              <a:rPr sz="4400"/>
            </a:b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 Une démarche </a:t>
            </a:r>
            <a:r>
              <a:rPr b="0" lang="fr-FR" sz="4400" spc="-1" strike="noStrike">
                <a:solidFill>
                  <a:srgbClr val="ffff00"/>
                </a:solidFill>
                <a:latin typeface="Impact"/>
              </a:rPr>
              <a:t>Critiqu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6920" y="2205000"/>
            <a:ext cx="541044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Identification </a:t>
            </a:r>
            <a:r>
              <a:rPr b="0" lang="fr-FR" sz="2200" spc="-1" strike="noStrike">
                <a:solidFill>
                  <a:srgbClr val="ffff00"/>
                </a:solidFill>
                <a:latin typeface="Impact"/>
              </a:rPr>
              <a:t>systématique</a:t>
            </a: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 des  Risques de </a:t>
            </a:r>
            <a:r>
              <a:rPr b="0" lang="fr-FR" sz="2200" spc="-1" strike="noStrike">
                <a:solidFill>
                  <a:srgbClr val="ffff00"/>
                </a:solidFill>
                <a:latin typeface="Impact"/>
              </a:rPr>
              <a:t>dysfonctionnement</a:t>
            </a: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 des équipements (</a:t>
            </a:r>
            <a:r>
              <a:rPr b="0" lang="fr-FR" sz="2200" spc="-1" strike="noStrike">
                <a:solidFill>
                  <a:srgbClr val="ff0000"/>
                </a:solidFill>
                <a:latin typeface="Impact"/>
              </a:rPr>
              <a:t>MODES DE DEFAILLANCES</a:t>
            </a: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Recherche des </a:t>
            </a:r>
            <a:r>
              <a:rPr b="0" lang="fr-FR" sz="2200" spc="-1" strike="noStrike">
                <a:solidFill>
                  <a:srgbClr val="ffff00"/>
                </a:solidFill>
                <a:latin typeface="Impact"/>
              </a:rPr>
              <a:t>origines</a:t>
            </a: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 et des </a:t>
            </a:r>
            <a:r>
              <a:rPr b="0" lang="fr-FR" sz="2200" spc="-1" strike="noStrike">
                <a:solidFill>
                  <a:srgbClr val="ffff00"/>
                </a:solidFill>
                <a:latin typeface="Impact"/>
              </a:rPr>
              <a:t>conséquences</a:t>
            </a: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 de ces dysfonctionnements ( </a:t>
            </a:r>
            <a:r>
              <a:rPr b="0" lang="fr-FR" sz="2200" spc="-1" strike="noStrike">
                <a:solidFill>
                  <a:srgbClr val="ff0000"/>
                </a:solidFill>
                <a:latin typeface="Impact"/>
              </a:rPr>
              <a:t>CAUSES / EFFETS </a:t>
            </a: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Mise en évidence des </a:t>
            </a:r>
            <a:r>
              <a:rPr b="0" lang="fr-FR" sz="2200" spc="-1" strike="noStrike">
                <a:solidFill>
                  <a:srgbClr val="ffff00"/>
                </a:solidFill>
                <a:latin typeface="Impact"/>
              </a:rPr>
              <a:t>points critiques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Proposition </a:t>
            </a:r>
            <a:r>
              <a:rPr b="0" lang="fr-FR" sz="2200" spc="-1" strike="noStrike">
                <a:solidFill>
                  <a:srgbClr val="ffff00"/>
                </a:solidFill>
                <a:latin typeface="Impact"/>
              </a:rPr>
              <a:t>d</a:t>
            </a: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 </a:t>
            </a:r>
            <a:r>
              <a:rPr b="0" lang="fr-FR" sz="2200" spc="-1" strike="noStrike">
                <a:solidFill>
                  <a:srgbClr val="ffff00"/>
                </a:solidFill>
                <a:latin typeface="Impact"/>
              </a:rPr>
              <a:t>’ actions correctives</a:t>
            </a: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 adaptées: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lnSpc>
                <a:spcPct val="80000"/>
              </a:lnSpc>
              <a:spcBef>
                <a:spcPts val="476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Impact"/>
              </a:rPr>
              <a:t>remise en cause  des consignes d ’exploitation , de nettoyage et de Maintenance</a:t>
            </a:r>
            <a:endParaRPr b="0" lang="en-US" sz="19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lnSpc>
                <a:spcPct val="80000"/>
              </a:lnSpc>
              <a:spcBef>
                <a:spcPts val="476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Impact"/>
              </a:rPr>
              <a:t>remise en cause de la Conception</a:t>
            </a:r>
            <a:endParaRPr b="0" lang="en-US" sz="19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248520" y="3406680"/>
            <a:ext cx="3047760" cy="28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ffff"/>
                </a:solidFill>
                <a:latin typeface="Impact"/>
              </a:rPr>
              <a:t>L ’AMDEC</a:t>
            </a: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 </a:t>
            </a:r>
            <a:br>
              <a:rPr sz="4400"/>
            </a:b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 </a:t>
            </a:r>
            <a:r>
              <a:rPr b="0" lang="fr-FR" sz="2800" spc="-1" strike="noStrike">
                <a:solidFill>
                  <a:srgbClr val="ccffff"/>
                </a:solidFill>
                <a:latin typeface="Impact"/>
              </a:rPr>
              <a:t>Une démarche à la fois </a:t>
            </a:r>
            <a:r>
              <a:rPr b="0" lang="fr-FR" sz="2800" spc="-1" strike="noStrike">
                <a:solidFill>
                  <a:srgbClr val="ffff00"/>
                </a:solidFill>
                <a:latin typeface="Impact"/>
              </a:rPr>
              <a:t>qualitative </a:t>
            </a:r>
            <a:r>
              <a:rPr b="0" lang="fr-FR" sz="2800" spc="-1" strike="noStrike">
                <a:solidFill>
                  <a:srgbClr val="99ffcc"/>
                </a:solidFill>
                <a:latin typeface="Impact"/>
              </a:rPr>
              <a:t>et</a:t>
            </a:r>
            <a:r>
              <a:rPr b="0" lang="fr-FR" sz="2800" spc="-1" strike="noStrike">
                <a:solidFill>
                  <a:srgbClr val="ffff00"/>
                </a:solidFill>
                <a:latin typeface="Impact"/>
              </a:rPr>
              <a:t> quantitative</a:t>
            </a:r>
            <a:endParaRPr b="0" lang="en-US" sz="2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670536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</a:t>
            </a: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 </a:t>
            </a: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QUALITATIV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45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Impact"/>
              </a:rPr>
              <a:t>Découpage Fonctionnel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45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Impact"/>
              </a:rPr>
              <a:t>Analyse des Modes de Défaillances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45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Impact"/>
              </a:rPr>
              <a:t>Analyse des Causes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45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Impact"/>
              </a:rPr>
              <a:t>Analyse des Effets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</a:t>
            </a: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 </a:t>
            </a: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QUANTITATIV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45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Impact"/>
              </a:rPr>
              <a:t>Cotation de paramètres (Fréquence d ’apparition , Gravité ….)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45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Impact"/>
              </a:rPr>
              <a:t>Calcul de la Criticité à partir de ces paramètres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45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Impact"/>
              </a:rPr>
              <a:t>Mesure des résultats 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5562720" y="2057400"/>
            <a:ext cx="3276360" cy="1752480"/>
          </a:xfrm>
          <a:prstGeom prst="wedgeEllipseCallout">
            <a:avLst>
              <a:gd name="adj1" fmla="val -53342"/>
              <a:gd name="adj2" fmla="val 80796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DEMARCH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AMELIORA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QUI PERME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UNE EVOLUTION POSITIV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DES SITU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LES PLUS CRITIQUES…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4038480"/>
            <a:ext cx="2895480" cy="1447920"/>
          </a:xfrm>
          <a:prstGeom prst="wedgeEllipseCallout">
            <a:avLst>
              <a:gd name="adj1" fmla="val -115185"/>
              <a:gd name="adj2" fmla="val 47259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.SI ELLE EST PRATIQUE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SUR L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EQUIPEMENTS L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PLUS PENALISA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3962520"/>
            <a:ext cx="4191120" cy="1066680"/>
          </a:xfrm>
          <a:prstGeom prst="cloudCallout">
            <a:avLst>
              <a:gd name="adj1" fmla="val 44999"/>
              <a:gd name="adj2" fmla="val 44643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...…D ’OU UNE MOTIVATION DU PERSONN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TECHNIQUE ET D ’EXPLOIT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Impact"/>
              </a:rPr>
              <a:t>Dans le cas d’un système informatique il s’agit d’impliquer tous les acteurs…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219320" y="692280"/>
            <a:ext cx="7772400" cy="86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Impact"/>
              </a:rPr>
              <a:t>Une méthode de managemen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Impact"/>
              </a:rPr>
              <a:t>L ’AMDEC </a:t>
            </a:r>
            <a:br>
              <a:rPr sz="4400"/>
            </a:b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 Une démarche </a:t>
            </a:r>
            <a:r>
              <a:rPr b="0" lang="fr-FR" sz="4400" spc="-1" strike="noStrike">
                <a:solidFill>
                  <a:srgbClr val="ffff00"/>
                </a:solidFill>
                <a:latin typeface="Impact"/>
              </a:rPr>
              <a:t>Participative</a:t>
            </a: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…...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</a:t>
            </a:r>
            <a:r>
              <a:rPr b="0" lang="fr-FR" sz="2800" spc="-1" strike="noStrike">
                <a:solidFill>
                  <a:srgbClr val="ffff00"/>
                </a:solidFill>
                <a:latin typeface="Impact"/>
              </a:rPr>
              <a:t>Mise en commun des expériences de chacu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2438280"/>
            <a:ext cx="4038840" cy="685800"/>
          </a:xfrm>
          <a:prstGeom prst="flowChartTerminator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ngénieurs Systè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3200400"/>
            <a:ext cx="4572000" cy="762120"/>
          </a:xfrm>
          <a:prstGeom prst="flowChartTerminator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ngénieurs process et proj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19520" y="4038480"/>
            <a:ext cx="4343400" cy="609840"/>
          </a:xfrm>
          <a:prstGeom prst="flowChartTerminator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echnicie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4724280"/>
            <a:ext cx="3962160" cy="685800"/>
          </a:xfrm>
          <a:prstGeom prst="flowChartTerminator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Utilisateurs finau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5362560"/>
            <a:ext cx="800100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</a:t>
            </a:r>
            <a:r>
              <a:rPr b="0" lang="fr-FR" sz="2800" spc="-1" strike="noStrike">
                <a:solidFill>
                  <a:srgbClr val="ffff00"/>
                </a:solidFill>
                <a:latin typeface="Impact"/>
              </a:rPr>
              <a:t>Echanges Techniques entre les différentes équi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6324480"/>
            <a:ext cx="7772400" cy="457200"/>
          </a:xfrm>
          <a:prstGeom prst="flowChartTerminator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Groupe de Travail PLURIDISCIPLINA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553080" y="2362320"/>
            <a:ext cx="2438640" cy="160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500"/>
                            </p:stCondLst>
                            <p:childTnLst>
                              <p:par>
                                <p:cTn id="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ffff"/>
                </a:solidFill>
                <a:latin typeface="Impact"/>
              </a:rPr>
              <a:t>PRINCIPE D’ANALYSE : L ’AMDEC</a:t>
            </a:r>
            <a:br>
              <a:rPr sz="4000"/>
            </a:br>
            <a:r>
              <a:rPr b="0" lang="fr-FR" sz="4000" spc="-1" strike="noStrike">
                <a:solidFill>
                  <a:srgbClr val="ccffff"/>
                </a:solidFill>
                <a:latin typeface="Impact"/>
              </a:rPr>
              <a:t>UNE DEMARCHE EN 4 ETAPES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</a:t>
            </a: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ETAPE 1 : INITIALISATION DE L ’ETUDE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Quelle Système étudier ?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Quels Objectifs atteindre ?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Constituer le Groupe de Travai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Etablir le Planning des réunion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Définir les supports de travail (Grilles , tableaux de saisie ..)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</a:t>
            </a: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 </a:t>
            </a: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ETAPE 2 : DECOMPOSITION FONCTIONNELLE DE LA MACHIN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Découpage arborescent  du systèm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Inventaire des Fonctions de servic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Inventaire des fonctions élémentaire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ffff"/>
                </a:solidFill>
                <a:latin typeface="Impact"/>
              </a:rPr>
              <a:t>L ’AMDEC</a:t>
            </a:r>
            <a:br>
              <a:rPr sz="4000"/>
            </a:br>
            <a:r>
              <a:rPr b="0" lang="fr-FR" sz="4000" spc="-1" strike="noStrike">
                <a:solidFill>
                  <a:srgbClr val="ccffff"/>
                </a:solidFill>
                <a:latin typeface="Impact"/>
              </a:rPr>
              <a:t>UNE DEMARCHE EN 4 ETAPES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</a:t>
            </a:r>
            <a:r>
              <a:rPr b="0" lang="fr-FR" sz="3200" spc="-1" strike="noStrike">
                <a:solidFill>
                  <a:srgbClr val="99ffcc"/>
                </a:solidFill>
                <a:latin typeface="Impact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Impact"/>
              </a:rPr>
              <a:t>ETAPE 3: ANALYSE AMDEC DU SYSTEME</a:t>
            </a: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ffffff"/>
                </a:solidFill>
                <a:uFillTx/>
                <a:latin typeface="Impact"/>
              </a:rPr>
              <a:t>Analyse des mécanismes de défaillances</a:t>
            </a: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 (Modes de défaillance , causes , effets , détections éventuelles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ffffff"/>
                </a:solidFill>
                <a:uFillTx/>
                <a:latin typeface="Impact"/>
              </a:rPr>
              <a:t>Evaluation de la   CRITICITE  </a:t>
            </a: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(Estimation des Temps d ’intervention , des fréquences ‘apparition des défaillances, évaluation des critères de cotation , calcul de la </a:t>
            </a:r>
            <a:r>
              <a:rPr b="0" lang="fr-FR" sz="2000" spc="-1" strike="noStrike">
                <a:solidFill>
                  <a:srgbClr val="ffcc00"/>
                </a:solidFill>
                <a:latin typeface="Impact"/>
              </a:rPr>
              <a:t>criticité</a:t>
            </a:r>
            <a:r>
              <a:rPr b="0" lang="fr-FR" sz="2000" spc="-1" strike="noStrike">
                <a:solidFill>
                  <a:srgbClr val="00cc00"/>
                </a:solidFill>
                <a:latin typeface="Impact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ffffff"/>
                </a:solidFill>
                <a:uFillTx/>
                <a:latin typeface="Impact"/>
              </a:rPr>
              <a:t>Proposition  d ’ACTIONS CORRECTIVES  (</a:t>
            </a: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 réduction des effets par  de la maintenance préventive  , détection préventive , maintenance améliorative , calcul de  la nouvelle </a:t>
            </a:r>
            <a:r>
              <a:rPr b="0" lang="fr-FR" sz="2000" spc="-1" strike="noStrike">
                <a:solidFill>
                  <a:srgbClr val="ffcc00"/>
                </a:solidFill>
                <a:latin typeface="Impact"/>
              </a:rPr>
              <a:t>criticité</a:t>
            </a:r>
            <a:r>
              <a:rPr b="0" lang="fr-FR" sz="2000" spc="-1" strike="noStrike">
                <a:solidFill>
                  <a:srgbClr val="00cc00"/>
                </a:solidFill>
                <a:latin typeface="Impact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après action 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</a:t>
            </a:r>
            <a:r>
              <a:rPr b="0" lang="fr-FR" sz="3200" spc="-1" strike="noStrike">
                <a:solidFill>
                  <a:srgbClr val="99ffcc"/>
                </a:solidFill>
                <a:latin typeface="Impact"/>
              </a:rPr>
              <a:t>  </a:t>
            </a: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ETAPE 4 : SYNTHESE DE L ’ETUD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ffffff"/>
                </a:solidFill>
                <a:uFillTx/>
                <a:latin typeface="Impact"/>
              </a:rPr>
              <a:t>Hiérarchisation des défaillances</a:t>
            </a: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Impact"/>
              </a:rPr>
              <a:t>(liste des pannes résumées , défaillances de causes communes , classement par catégories , symptômes observables….)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Liste des points critiques et  plan de maintenance éventuel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4572000"/>
            <a:ext cx="79056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76320"/>
            <a:ext cx="7772400" cy="8380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1932"/>
                </a:solidFill>
                <a:latin typeface="Impact"/>
              </a:rPr>
              <a:t>LES CRITÈRES ANALYSÉS DANS L’AMDEC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1981080"/>
            <a:ext cx="2895480" cy="53352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MODE DE DEFAILL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71800" y="2590920"/>
            <a:ext cx="2209680" cy="609480"/>
          </a:xfrm>
          <a:prstGeom prst="wedgeRoundRectCallout">
            <a:avLst>
              <a:gd name="adj1" fmla="val -79310"/>
              <a:gd name="adj2" fmla="val 1300"/>
              <a:gd name="adj3" fmla="val 16667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QUE PEUT-IL ARRIVER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3276720"/>
            <a:ext cx="2210040" cy="45720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EFFE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8120" y="3809880"/>
            <a:ext cx="2133360" cy="609840"/>
          </a:xfrm>
          <a:prstGeom prst="wedgeRoundRectCallout">
            <a:avLst>
              <a:gd name="adj1" fmla="val -80356"/>
              <a:gd name="adj2" fmla="val 1300"/>
              <a:gd name="adj3" fmla="val 16667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QUELLES EN SO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LES CONSEQUENCE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4419720"/>
            <a:ext cx="2209680" cy="45720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CAU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4876920"/>
            <a:ext cx="2133720" cy="609480"/>
          </a:xfrm>
          <a:prstGeom prst="wedgeRoundRectCallout">
            <a:avLst>
              <a:gd name="adj1" fmla="val -80356"/>
              <a:gd name="adj2" fmla="val 1300"/>
              <a:gd name="adj3" fmla="val 16667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OURQUOI CET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EFAILL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EST-ELLE ARRIVE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5486400"/>
            <a:ext cx="2209680" cy="45720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FREQUENCE = 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6019920"/>
            <a:ext cx="3048120" cy="761760"/>
          </a:xfrm>
          <a:prstGeom prst="wedgeRoundRectCallout">
            <a:avLst>
              <a:gd name="adj1" fmla="val -61250"/>
              <a:gd name="adj2" fmla="val -8958"/>
              <a:gd name="adj3" fmla="val 16667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QUELLE EST LA FREQUENCE D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DEFAILLANCE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S ’appuyer sur l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vécu en AMDEC OPERATIONNELL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1981080"/>
            <a:ext cx="2209680" cy="45720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GRAVITE = 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29400" y="2514600"/>
            <a:ext cx="2438280" cy="533520"/>
          </a:xfrm>
          <a:prstGeom prst="wedgeRectCallout">
            <a:avLst>
              <a:gd name="adj1" fmla="val -66407"/>
              <a:gd name="adj2" fmla="val 47916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A QUALITE EST-ELL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BONNE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77120" y="3124080"/>
            <a:ext cx="2666880" cy="457200"/>
          </a:xfrm>
          <a:prstGeom prst="wedgeRectCallout">
            <a:avLst>
              <a:gd name="adj1" fmla="val -62143"/>
              <a:gd name="adj2" fmla="val 39236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A POLLUTION EST-ELL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CCEPTABLE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05720" y="3657600"/>
            <a:ext cx="2361960" cy="533520"/>
          </a:xfrm>
          <a:prstGeom prst="wedgeRectCallout">
            <a:avLst>
              <a:gd name="adj1" fmla="val -82259"/>
              <a:gd name="adj2" fmla="val 1486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A SECURITE EST-ELL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GARANTIE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4267080"/>
            <a:ext cx="2666880" cy="381240"/>
          </a:xfrm>
          <a:prstGeom prst="wedgeRectCallout">
            <a:avLst>
              <a:gd name="adj1" fmla="val -65000"/>
              <a:gd name="adj2" fmla="val -2916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QUELLE SERA LA DUR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DE L ’INTERVENTION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53080" y="4724280"/>
            <a:ext cx="2438640" cy="685800"/>
          </a:xfrm>
          <a:prstGeom prst="wedgeRectCallout">
            <a:avLst>
              <a:gd name="adj1" fmla="val -73439"/>
              <a:gd name="adj2" fmla="val -34953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QUELS SERONT LES COÛT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DIRECTS ET INDIRECT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0" y="5486400"/>
            <a:ext cx="2209680" cy="45720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DETECTION = 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77120" y="6019920"/>
            <a:ext cx="2666880" cy="685800"/>
          </a:xfrm>
          <a:prstGeom prst="wedgeRectCallout">
            <a:avLst>
              <a:gd name="adj1" fmla="val -70712"/>
              <a:gd name="adj2" fmla="val -57175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QUELLE EST LA PROTECTION S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ET EQUIPEM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QUI PERMET DE DETECTER L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DEFAILLANC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720" y="266688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Impact"/>
              </a:rPr>
              <a:t>QUESTION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3886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Impact"/>
              </a:rPr>
              <a:t>QUES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49528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Impact"/>
              </a:rPr>
              <a:t>QUES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6172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Impact"/>
              </a:rPr>
              <a:t>QUES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81480" y="40384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Impact"/>
              </a:rPr>
              <a:t>QUES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54864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Impact"/>
              </a:rPr>
              <a:t>QUES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1143000"/>
            <a:ext cx="2438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Criticité C = FxGx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1143000"/>
            <a:ext cx="39625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Criticité &gt; Seuil : Action Correc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METHODE DE CALCUL DE LA  </a:t>
            </a:r>
            <a:r>
              <a:rPr b="0" lang="fr-FR" sz="4400" spc="-1" strike="noStrike">
                <a:solidFill>
                  <a:srgbClr val="ff0000"/>
                </a:solidFill>
                <a:latin typeface="Impact"/>
              </a:rPr>
              <a:t>CRITICIT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8" name=""/>
          <p:cNvSpPr/>
          <p:nvPr/>
        </p:nvSpPr>
        <p:spPr>
          <a:xfrm>
            <a:off x="2590920" y="2057400"/>
            <a:ext cx="4495680" cy="11430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ON CALCULE LA CRITICITE ( NOTEE C OU IPR 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OUR CHAQUE COMBINAIS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« MODE DE DEFAILLANCE-CAUSE-EFFETS 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ON EFFECTUE POUR CELA  LE  PRODU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FxGx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48320" y="3200400"/>
            <a:ext cx="485640" cy="533520"/>
          </a:xfrm>
          <a:prstGeom prst="downArrow">
            <a:avLst>
              <a:gd name="adj1" fmla="val 50000"/>
              <a:gd name="adj2" fmla="val 2746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0716000">
            <a:off x="1739520" y="2666880"/>
            <a:ext cx="852480" cy="990720"/>
          </a:xfrm>
          <a:custGeom>
            <a:avLst/>
            <a:gdLst>
              <a:gd name="textAreaLeft" fmla="*/ 284040 w 852480"/>
              <a:gd name="textAreaRight" fmla="*/ 711720 w 852480"/>
              <a:gd name="textAreaTop" fmla="*/ 581040 h 990720"/>
              <a:gd name="textAreaBottom" fmla="*/ 8269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6238"/>
                </a:moveTo>
                <a:lnTo>
                  <a:pt x="12667" y="16238"/>
                </a:lnTo>
                <a:lnTo>
                  <a:pt x="12667" y="7194"/>
                </a:lnTo>
                <a:lnTo>
                  <a:pt x="9096" y="7194"/>
                </a:lnTo>
                <a:lnTo>
                  <a:pt x="15348" y="0"/>
                </a:lnTo>
                <a:lnTo>
                  <a:pt x="21600" y="7194"/>
                </a:lnTo>
                <a:lnTo>
                  <a:pt x="18029" y="7194"/>
                </a:lnTo>
                <a:lnTo>
                  <a:pt x="180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281200">
            <a:off x="7112520" y="2716560"/>
            <a:ext cx="814320" cy="866880"/>
          </a:xfrm>
          <a:custGeom>
            <a:avLst/>
            <a:gdLst>
              <a:gd name="textAreaLeft" fmla="*/ 0 w 814320"/>
              <a:gd name="textAreaRight" fmla="*/ 81468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3657600"/>
            <a:ext cx="2438640" cy="990720"/>
          </a:xfrm>
          <a:prstGeom prst="flowChartDisplay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1&lt;C&lt;8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Si F et D sont cotés de 1 à 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avec G cotée à 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3733920"/>
            <a:ext cx="1981080" cy="838080"/>
          </a:xfrm>
          <a:prstGeom prst="flowChartDisplay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1&lt;C&lt;6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Si F ,G, D sont tous coté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de 1 à 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(cas le plus fréquent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53080" y="3581280"/>
            <a:ext cx="2210040" cy="1067040"/>
          </a:xfrm>
          <a:prstGeom prst="flowChartDisplay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1&lt;C&lt;1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Si F ,G, D sont tous coté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de 1 à 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48320" y="457200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8120" y="4876920"/>
            <a:ext cx="3352680" cy="914400"/>
          </a:xfrm>
          <a:prstGeom prst="flowChartInputOutpu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On se fixe u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valeur maxi pour 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En général C&lt;25% de la note max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5281200">
            <a:off x="6329880" y="5118480"/>
            <a:ext cx="430200" cy="609480"/>
          </a:xfrm>
          <a:custGeom>
            <a:avLst/>
            <a:gdLst>
              <a:gd name="textAreaLeft" fmla="*/ 0 w 430200"/>
              <a:gd name="textAreaRight" fmla="*/ 430560 w 4302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5638680"/>
            <a:ext cx="1981080" cy="914400"/>
          </a:xfrm>
          <a:prstGeom prst="flowChartTerminator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C&lt;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Pas d ’action correc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à envisag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Sauf si Pb 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Pollution ou de Sécurité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0716000">
            <a:off x="1676520" y="5334120"/>
            <a:ext cx="1676160" cy="457200"/>
          </a:xfrm>
          <a:custGeom>
            <a:avLst/>
            <a:gdLst>
              <a:gd name="textAreaLeft" fmla="*/ 558360 w 1676160"/>
              <a:gd name="textAreaRight" fmla="*/ 1399320 w 1676160"/>
              <a:gd name="textAreaTop" fmla="*/ 311400 h 457200"/>
              <a:gd name="textAreaBottom" fmla="*/ 3816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8274"/>
                </a:moveTo>
                <a:lnTo>
                  <a:pt x="14703" y="18274"/>
                </a:lnTo>
                <a:lnTo>
                  <a:pt x="14703" y="7194"/>
                </a:lnTo>
                <a:lnTo>
                  <a:pt x="11132" y="7194"/>
                </a:lnTo>
                <a:lnTo>
                  <a:pt x="16366" y="0"/>
                </a:lnTo>
                <a:lnTo>
                  <a:pt x="21600" y="7194"/>
                </a:lnTo>
                <a:lnTo>
                  <a:pt x="18029" y="7194"/>
                </a:lnTo>
                <a:lnTo>
                  <a:pt x="180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43000" y="5791320"/>
            <a:ext cx="1828800" cy="990360"/>
          </a:xfrm>
          <a:prstGeom prst="flowChartTerminator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C&gt;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Actions à définir ave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le groupe de travail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Objectif:ramene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C&lt;12 (ou à 16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91120" y="5791320"/>
            <a:ext cx="38088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6095880"/>
            <a:ext cx="2590920" cy="7621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imes New Roman"/>
              </a:rPr>
              <a:t>On considérera toujours une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imes New Roman"/>
              </a:rPr>
              <a:t>défaillance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imes New Roman"/>
              </a:rPr>
              <a:t>comme « critique »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imes New Roman"/>
              </a:rPr>
              <a:t>lorsque sa note G est maxi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ffff"/>
                </a:solidFill>
                <a:latin typeface="Impact"/>
              </a:rPr>
              <a:t>POUR L ’ETAPE 2 </a:t>
            </a:r>
            <a:br>
              <a:rPr sz="3600"/>
            </a:br>
            <a:r>
              <a:rPr b="0" lang="fr-FR" sz="3600" spc="-1" strike="noStrike">
                <a:solidFill>
                  <a:srgbClr val="ccffff"/>
                </a:solidFill>
                <a:latin typeface="Impact"/>
              </a:rPr>
              <a:t> DECOUPAGE ARBORESCENT DE LA MACHIN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187280" y="1989000"/>
            <a:ext cx="7743600" cy="3932280"/>
            <a:chOff x="1187280" y="1989000"/>
            <a:chExt cx="7743600" cy="3932280"/>
          </a:xfrm>
        </p:grpSpPr>
        <p:cxnSp>
          <p:nvCxnSpPr>
            <p:cNvPr id="245" name="_s133168"/>
            <p:cNvCxnSpPr>
              <a:stCxn id="246" idx="0"/>
              <a:endCxn id="247" idx="2"/>
            </p:cNvCxnSpPr>
            <p:nvPr/>
          </p:nvCxnSpPr>
          <p:spPr>
            <a:xfrm flipV="1" rot="16200000">
              <a:off x="3116160" y="4925880"/>
              <a:ext cx="229320" cy="8467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48" name="_s133166"/>
            <p:cNvCxnSpPr>
              <a:stCxn id="249" idx="0"/>
              <a:endCxn id="247" idx="2"/>
            </p:cNvCxnSpPr>
            <p:nvPr/>
          </p:nvCxnSpPr>
          <p:spPr>
            <a:xfrm flipH="1" flipV="1" rot="5400000">
              <a:off x="2270520" y="4926240"/>
              <a:ext cx="229320" cy="8467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0" name="_s133164"/>
            <p:cNvCxnSpPr>
              <a:stCxn id="251" idx="0"/>
              <a:endCxn id="252" idx="2"/>
            </p:cNvCxnSpPr>
            <p:nvPr/>
          </p:nvCxnSpPr>
          <p:spPr>
            <a:xfrm flipV="1" rot="16200000">
              <a:off x="3650040" y="4042800"/>
              <a:ext cx="229320" cy="124164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3" name="_s133162"/>
            <p:cNvCxnSpPr>
              <a:stCxn id="247" idx="0"/>
              <a:endCxn id="252" idx="2"/>
            </p:cNvCxnSpPr>
            <p:nvPr/>
          </p:nvCxnSpPr>
          <p:spPr>
            <a:xfrm flipH="1" flipV="1" rot="5400000">
              <a:off x="2861640" y="4494960"/>
              <a:ext cx="229320" cy="3373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4" name="_s133160"/>
            <p:cNvCxnSpPr>
              <a:stCxn id="255" idx="0"/>
              <a:endCxn id="256" idx="2"/>
            </p:cNvCxnSpPr>
            <p:nvPr/>
          </p:nvCxnSpPr>
          <p:spPr>
            <a:xfrm flipV="1" rot="16200000">
              <a:off x="4100400" y="3244680"/>
              <a:ext cx="229320" cy="14659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7" name="_s133158"/>
            <p:cNvCxnSpPr>
              <a:stCxn id="252" idx="0"/>
              <a:endCxn id="256" idx="2"/>
            </p:cNvCxnSpPr>
            <p:nvPr/>
          </p:nvCxnSpPr>
          <p:spPr>
            <a:xfrm flipH="1" flipV="1" rot="5400000">
              <a:off x="3198960" y="3808800"/>
              <a:ext cx="229320" cy="3384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8" name="_s133156"/>
            <p:cNvCxnSpPr>
              <a:stCxn id="259" idx="0"/>
              <a:endCxn id="260" idx="2"/>
            </p:cNvCxnSpPr>
            <p:nvPr/>
          </p:nvCxnSpPr>
          <p:spPr>
            <a:xfrm flipV="1" rot="16200000">
              <a:off x="6364440" y="1871280"/>
              <a:ext cx="229320" cy="28411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61" name="_s133154"/>
            <p:cNvCxnSpPr>
              <a:stCxn id="262" idx="0"/>
              <a:endCxn id="260" idx="2"/>
            </p:cNvCxnSpPr>
            <p:nvPr/>
          </p:nvCxnSpPr>
          <p:spPr>
            <a:xfrm flipV="1" rot="16200000">
              <a:off x="5259600" y="2976120"/>
              <a:ext cx="229320" cy="6318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63" name="_s133152"/>
            <p:cNvCxnSpPr>
              <a:stCxn id="256" idx="0"/>
              <a:endCxn id="260" idx="2"/>
            </p:cNvCxnSpPr>
            <p:nvPr/>
          </p:nvCxnSpPr>
          <p:spPr>
            <a:xfrm flipH="1" flipV="1" rot="5400000">
              <a:off x="4156200" y="2503440"/>
              <a:ext cx="229320" cy="15771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sp>
          <p:nvSpPr>
            <p:cNvPr id="264" name=""/>
            <p:cNvSpPr/>
            <p:nvPr/>
          </p:nvSpPr>
          <p:spPr>
            <a:xfrm>
              <a:off x="1187280" y="1989000"/>
              <a:ext cx="5135760" cy="42372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_s133150"/>
            <p:cNvSpPr/>
            <p:nvPr/>
          </p:nvSpPr>
          <p:spPr>
            <a:xfrm>
              <a:off x="4559040" y="2720880"/>
              <a:ext cx="1000080" cy="4572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9880" bIns="29880" anchor="ctr">
              <a:noAutofit/>
            </a:bodyPr>
            <a:p>
              <a:pPr algn="ctr">
                <a:lnSpc>
                  <a:spcPct val="100000"/>
                </a:lnSpc>
                <a:buClr>
                  <a:srgbClr val="80008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800080"/>
                  </a:solidFill>
                  <a:latin typeface="Arial"/>
                </a:rPr>
                <a:t>SYSTEME 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_s133151"/>
            <p:cNvSpPr/>
            <p:nvPr/>
          </p:nvSpPr>
          <p:spPr>
            <a:xfrm>
              <a:off x="2451240" y="3406680"/>
              <a:ext cx="2063520" cy="4572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9880" bIns="2988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UNITE FONCTIONNELLE 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_s133153"/>
            <p:cNvSpPr/>
            <p:nvPr/>
          </p:nvSpPr>
          <p:spPr>
            <a:xfrm>
              <a:off x="4659480" y="3406680"/>
              <a:ext cx="2063520" cy="4572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9880" bIns="2988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UNITE FONCTIONNELLE 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_s133155"/>
            <p:cNvSpPr/>
            <p:nvPr/>
          </p:nvSpPr>
          <p:spPr>
            <a:xfrm>
              <a:off x="6867360" y="3406680"/>
              <a:ext cx="2063520" cy="4572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9880" bIns="2988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UNITE FONCTIONNELLE 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_s133157"/>
            <p:cNvSpPr/>
            <p:nvPr/>
          </p:nvSpPr>
          <p:spPr>
            <a:xfrm>
              <a:off x="2313720" y="4092480"/>
              <a:ext cx="1659600" cy="4572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9880" bIns="2988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SOUS ENSEMBLE A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_s133159"/>
            <p:cNvSpPr/>
            <p:nvPr/>
          </p:nvSpPr>
          <p:spPr>
            <a:xfrm>
              <a:off x="4118040" y="4092480"/>
              <a:ext cx="1659960" cy="4572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9880" bIns="2988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SOUS ENSEMBLE A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_s133161"/>
            <p:cNvSpPr/>
            <p:nvPr/>
          </p:nvSpPr>
          <p:spPr>
            <a:xfrm>
              <a:off x="2090160" y="4778280"/>
              <a:ext cx="1433160" cy="4572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9880" bIns="2988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EQUIPEMENT AA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_s133163"/>
            <p:cNvSpPr/>
            <p:nvPr/>
          </p:nvSpPr>
          <p:spPr>
            <a:xfrm>
              <a:off x="3667680" y="4778280"/>
              <a:ext cx="1433160" cy="4572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9880" bIns="2988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EQUIPEMENT AA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_s133165"/>
            <p:cNvSpPr/>
            <p:nvPr/>
          </p:nvSpPr>
          <p:spPr>
            <a:xfrm>
              <a:off x="1187280" y="5464080"/>
              <a:ext cx="1547640" cy="4572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9880" bIns="2988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COMPOSANT AA 1.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_s133167"/>
            <p:cNvSpPr/>
            <p:nvPr/>
          </p:nvSpPr>
          <p:spPr>
            <a:xfrm>
              <a:off x="2879280" y="5464080"/>
              <a:ext cx="1547280" cy="4572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9880" bIns="2988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COMPOSANT AA1.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ffff"/>
                </a:solidFill>
                <a:latin typeface="Impact"/>
              </a:rPr>
              <a:t>POUR L ’ETAPE 3 </a:t>
            </a:r>
            <a:br>
              <a:rPr sz="3200"/>
            </a:br>
            <a:r>
              <a:rPr b="0" lang="fr-FR" sz="2800" spc="-1" strike="noStrike">
                <a:solidFill>
                  <a:srgbClr val="ccffff"/>
                </a:solidFill>
                <a:latin typeface="Impact"/>
              </a:rPr>
              <a:t>EXEMPLE DE GRILLE DE COTATION AMDEC SYSTEME   POUR LE CALCUL DE LA </a:t>
            </a:r>
            <a:r>
              <a:rPr b="0" lang="fr-FR" sz="2800" spc="-1" strike="noStrike">
                <a:solidFill>
                  <a:srgbClr val="ff0000"/>
                </a:solidFill>
                <a:latin typeface="Impact"/>
              </a:rPr>
              <a:t>CRITICITE</a:t>
            </a:r>
            <a:endParaRPr b="0" lang="en-US" sz="2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</a:t>
            </a: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LA COTATION DES CRITERES F (fréquence) , G (gravité) , D (détection) s ’effectue en général de 1 à 4 (ou à 5 ) , voire de 1 à 10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066680" y="2971800"/>
          <a:ext cx="8977320" cy="420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971800"/>
                    <a:ext cx="8977320" cy="42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Sommaire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6000" y="2060640"/>
            <a:ext cx="802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Impact"/>
              </a:rPr>
              <a:t>La Sûreté de Fonctionnement (S.D.F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Impact"/>
              </a:rPr>
              <a:t>Présentation de la méthode générale ADMEC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Impact"/>
              </a:rPr>
              <a:t>Une méthode de managemen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Impact"/>
              </a:rPr>
              <a:t>Principe d’analys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Impact"/>
              </a:rPr>
              <a:t>1 exemple d’utilisation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Impact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1332000" y="1303200"/>
          <a:ext cx="7488000" cy="528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303200"/>
                    <a:ext cx="7488000" cy="52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72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Impact"/>
              </a:rPr>
              <a:t>1 Exemple avec un système informatiqu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ffff"/>
                </a:solidFill>
                <a:latin typeface="Impact"/>
              </a:rPr>
              <a:t>Découpage fonctionnel du système :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042920" y="2287440"/>
          <a:ext cx="8091720" cy="423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287440"/>
                    <a:ext cx="8091720" cy="42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Découpage des sous fonctions 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219320" y="2230560"/>
          <a:ext cx="77724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30560"/>
                    <a:ext cx="77724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ffff"/>
                </a:solidFill>
                <a:latin typeface="Impact"/>
              </a:rPr>
              <a:t>GRILLE DE COTATION AMDEC SYSTEME :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042920" y="1989000"/>
          <a:ext cx="807084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989000"/>
                    <a:ext cx="807084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00"/>
                </a:solidFill>
                <a:latin typeface="Impact"/>
              </a:rPr>
              <a:t>ANALYSE AMDEC DU SYSTEME</a:t>
            </a:r>
            <a:endParaRPr b="0" lang="en-US" sz="48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042920" y="2060640"/>
          <a:ext cx="8064720" cy="46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060640"/>
                    <a:ext cx="806472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Impact"/>
              </a:rPr>
              <a:t>L ’AMDEC </a:t>
            </a:r>
            <a:br>
              <a:rPr sz="3400"/>
            </a:br>
            <a:r>
              <a:rPr b="0" lang="fr-FR" sz="2800" spc="-1" strike="noStrike">
                <a:solidFill>
                  <a:srgbClr val="ccffff"/>
                </a:solidFill>
                <a:latin typeface="Impact"/>
              </a:rPr>
              <a:t>Une méthode qu ’ il convient de </a:t>
            </a:r>
            <a:r>
              <a:rPr b="0" lang="fr-FR" sz="2800" spc="-1" strike="noStrike">
                <a:solidFill>
                  <a:srgbClr val="ffff00"/>
                </a:solidFill>
                <a:latin typeface="Impact"/>
              </a:rPr>
              <a:t>ne pas systématiser</a:t>
            </a:r>
            <a:endParaRPr b="0" lang="en-US" sz="2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670536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      </a:t>
            </a: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Ne permet pas en général de      prendre en compte les </a:t>
            </a:r>
            <a:r>
              <a:rPr b="0" lang="fr-FR" sz="3200" spc="-1" strike="noStrike">
                <a:solidFill>
                  <a:srgbClr val="ff0000"/>
                </a:solidFill>
                <a:latin typeface="Impact"/>
              </a:rPr>
              <a:t>Combinaisons</a:t>
            </a: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 de plusieurs défaillances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219320" y="2049480"/>
            <a:ext cx="1774800" cy="22939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352680" y="2514600"/>
            <a:ext cx="2362320" cy="1905120"/>
          </a:xfrm>
          <a:prstGeom prst="wedgeEllipseCallout">
            <a:avLst>
              <a:gd name="adj1" fmla="val -80643"/>
              <a:gd name="adj2" fmla="val 6416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Times New Roman"/>
              </a:rPr>
              <a:t>COUTS PARFO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Times New Roman"/>
              </a:rPr>
              <a:t>IMPORTA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66680" y="4343400"/>
            <a:ext cx="533520" cy="838080"/>
          </a:xfrm>
          <a:custGeom>
            <a:avLst/>
            <a:gdLst>
              <a:gd name="textAreaLeft" fmla="*/ 71280 w 533520"/>
              <a:gd name="textAreaRight" fmla="*/ 462240 w 53352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ffff"/>
                </a:solidFill>
                <a:latin typeface="Impact"/>
              </a:rPr>
              <a:t>Analyse des Effets des Erreurs du Logiciel (AEEL) :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5df6d"/>
                </a:solidFill>
                <a:latin typeface="Impact"/>
              </a:rPr>
              <a:t>L' AEEL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 est une adaptation de </a:t>
            </a:r>
            <a:r>
              <a:rPr b="0" lang="fr-FR" sz="2800" spc="-1" strike="noStrike">
                <a:solidFill>
                  <a:srgbClr val="e5df6d"/>
                </a:solidFill>
                <a:latin typeface="Impact"/>
              </a:rPr>
              <a:t>l'AMDEC 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au niveau logiciel car on parle </a:t>
            </a:r>
            <a:r>
              <a:rPr b="0" lang="fr-FR" sz="2800" spc="-1" strike="noStrike">
                <a:solidFill>
                  <a:srgbClr val="e5df6d"/>
                </a:solidFill>
                <a:latin typeface="Impact"/>
              </a:rPr>
              <a:t>d'erreur du logiciel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 et non pas de </a:t>
            </a:r>
            <a:r>
              <a:rPr b="0" lang="fr-FR" sz="2800" spc="-1" strike="noStrike">
                <a:solidFill>
                  <a:srgbClr val="e5df6d"/>
                </a:solidFill>
                <a:latin typeface="Impact"/>
              </a:rPr>
              <a:t>mode de défaillance.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Un des buts de cette analyse est d'obtenir, pour chaque constituant d'un système logiciel, </a:t>
            </a:r>
            <a:r>
              <a:rPr b="0" lang="fr-FR" sz="2800" spc="-1" strike="noStrike">
                <a:solidFill>
                  <a:srgbClr val="e5df6d"/>
                </a:solidFill>
                <a:latin typeface="Impact"/>
              </a:rPr>
              <a:t>une évaluation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 sous la forme </a:t>
            </a:r>
            <a:r>
              <a:rPr b="0" lang="fr-FR" sz="2800" spc="-1" strike="noStrike">
                <a:solidFill>
                  <a:srgbClr val="e5df6d"/>
                </a:solidFill>
                <a:latin typeface="Impact"/>
              </a:rPr>
              <a:t>d'un indice de criticité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 représentatif du thème de l'étude que l'on souhaite réaliser 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2771640" y="3284640"/>
            <a:ext cx="3962520" cy="1752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393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'EST TERMINE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72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Impact"/>
              </a:rPr>
              <a:t>L’AMDEC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88680"/>
            <a:ext cx="7772400" cy="72396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Impact"/>
              </a:rPr>
              <a:t>LA SURETE  DE FONCTIONNEMENT  ( S D F )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3200400"/>
            <a:ext cx="4038480" cy="2514600"/>
          </a:xfrm>
          <a:custGeom>
            <a:avLst/>
            <a:gdLst>
              <a:gd name="textAreaLeft" fmla="*/ 1009440 w 4038480"/>
              <a:gd name="textAreaRight" fmla="*/ 3029040 w 4038480"/>
              <a:gd name="textAreaTop" fmla="*/ 628560 h 2514600"/>
              <a:gd name="textAreaBottom" fmla="*/ 1886040 h 25146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2133720"/>
            <a:ext cx="1752480" cy="10666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FIABIL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34320" y="2971800"/>
            <a:ext cx="1066680" cy="2895480"/>
          </a:xfrm>
          <a:prstGeom prst="flowChartAlternate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9880" y="5715000"/>
            <a:ext cx="2362320" cy="9144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1932"/>
                </a:solidFill>
                <a:latin typeface="Times New Roman"/>
              </a:rPr>
              <a:t>MAINTENABIL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3048120"/>
            <a:ext cx="1143000" cy="2895480"/>
          </a:xfrm>
          <a:prstGeom prst="flowChartAlternateProcess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42000" y="4098960"/>
            <a:ext cx="209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URE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FONCTIONN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373000">
            <a:off x="1255680" y="4226040"/>
            <a:ext cx="25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1932"/>
                </a:solidFill>
                <a:latin typeface="Times New Roman"/>
              </a:rPr>
              <a:t>DISPONIBIL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373000">
            <a:off x="6287400" y="43063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1932"/>
                </a:solidFill>
                <a:latin typeface="Times New Roman"/>
              </a:rPr>
              <a:t>SECUR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057400"/>
            <a:ext cx="2057400" cy="609480"/>
          </a:xfrm>
          <a:prstGeom prst="wedgeRectCallout">
            <a:avLst>
              <a:gd name="adj1" fmla="val -3935"/>
              <a:gd name="adj2" fmla="val 201300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Pas d ’arrêts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Production!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2057400"/>
            <a:ext cx="1676520" cy="685800"/>
          </a:xfrm>
          <a:prstGeom prst="wedgeRectCallout">
            <a:avLst>
              <a:gd name="adj1" fmla="val -107953"/>
              <a:gd name="adj2" fmla="val 5949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Pas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Pann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6095880"/>
            <a:ext cx="2362320" cy="609840"/>
          </a:xfrm>
          <a:prstGeom prst="wedgeRectCallout">
            <a:avLst>
              <a:gd name="adj1" fmla="val 76611"/>
              <a:gd name="adj2" fmla="val 2760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Remise en Servi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immédiat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6019920"/>
            <a:ext cx="2209680" cy="761760"/>
          </a:xfrm>
          <a:prstGeom prst="wedgeRectCallout">
            <a:avLst>
              <a:gd name="adj1" fmla="val -5388"/>
              <a:gd name="adj2" fmla="val -88958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1932"/>
                </a:solidFill>
                <a:latin typeface="Times New Roman"/>
              </a:rPr>
              <a:t>Pas d ’évén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1932"/>
                </a:solidFill>
                <a:latin typeface="Times New Roman"/>
              </a:rPr>
              <a:t>Critique ou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1932"/>
                </a:solidFill>
                <a:latin typeface="Times New Roman"/>
              </a:rPr>
              <a:t>Catastrophiqu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500"/>
                            </p:stCondLst>
                            <p:childTnLst>
                              <p:par>
                                <p:cTn id="4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Impact"/>
              </a:rPr>
              <a:t>TECHNIQUES ET OUTILS DE LA SÛRETE DE FONCTIONNEMENT</a:t>
            </a:r>
            <a:endParaRPr b="0" lang="en-US" sz="2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2044800"/>
            <a:ext cx="7772400" cy="49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– 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outils de modélisation comportementale et temporelles (AEF temporisés, rdp, files d’attente,..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– 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outils basés sur l’analyse des événements redoutés (AER, </a:t>
            </a:r>
            <a:r>
              <a:rPr b="0" lang="fr-FR" sz="2800" spc="-1" strike="noStrike">
                <a:solidFill>
                  <a:srgbClr val="ff0000"/>
                </a:solidFill>
                <a:latin typeface="Impact"/>
              </a:rPr>
              <a:t>AMDEC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, Coupes minima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– 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outils d’évaluation quantitative : processus markoviens et semi markoviens, rdps, files d’attente, méthode Monte Carlo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– 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outils d’analyse statique d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– 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outils de suivi des tes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6661440" cy="4265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1619280" y="2349360"/>
            <a:ext cx="128124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MDE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CHI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 flipH="1">
            <a:off x="4114440" y="3962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1905120" y="3124080"/>
            <a:ext cx="1676160" cy="1457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MDEC MOY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 PRODUC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772400" cy="13716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Impact"/>
              </a:rPr>
              <a:t>Présentation</a:t>
            </a:r>
            <a:r>
              <a:rPr b="0" lang="fr-FR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Impact"/>
              </a:rPr>
              <a:t>de la méthode générale ADMEC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ffff"/>
                </a:solidFill>
                <a:latin typeface="Impact"/>
              </a:rPr>
              <a:t>QUELQUES DEFINITIONS AVANT TOUT…..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ffff00"/>
                </a:solidFill>
                <a:latin typeface="Wingdings"/>
                <a:ea typeface="Wingdings"/>
              </a:rPr>
              <a:t></a:t>
            </a:r>
            <a:r>
              <a:rPr b="1" lang="fr-FR" sz="3800" spc="-1" strike="noStrike">
                <a:solidFill>
                  <a:srgbClr val="ffff00"/>
                </a:solidFill>
                <a:latin typeface="Bookman Old Style"/>
              </a:rPr>
              <a:t>AMDE: </a:t>
            </a:r>
            <a:r>
              <a:rPr b="1" lang="fr-FR" sz="2800" spc="-1" strike="noStrike">
                <a:solidFill>
                  <a:srgbClr val="ffffff"/>
                </a:solidFill>
                <a:latin typeface="Bookman Old Style"/>
              </a:rPr>
              <a:t>Analyse des Modes de Défaillances et de leurs Effet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fr-FR" sz="2400" spc="-1" strike="noStrike">
                <a:solidFill>
                  <a:srgbClr val="00cc00"/>
                </a:solidFill>
                <a:latin typeface="Bookman Old Style"/>
              </a:rPr>
              <a:t>(FMEA:Failure Mode ,Effects Analysis)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ffff00"/>
                </a:solidFill>
                <a:latin typeface="Wingdings"/>
                <a:ea typeface="Wingdings"/>
              </a:rPr>
              <a:t></a:t>
            </a:r>
            <a:r>
              <a:rPr b="1" lang="fr-FR" sz="3800" spc="-1" strike="noStrike">
                <a:solidFill>
                  <a:srgbClr val="ffff00"/>
                </a:solidFill>
                <a:latin typeface="Bookman Old Style"/>
              </a:rPr>
              <a:t>AMDEC: </a:t>
            </a:r>
            <a:r>
              <a:rPr b="1" lang="fr-FR" sz="2800" spc="-1" strike="noStrike">
                <a:solidFill>
                  <a:srgbClr val="ffffff"/>
                </a:solidFill>
                <a:latin typeface="Bookman Old Style"/>
              </a:rPr>
              <a:t>Analyse des Modes de Défaillances , de leurs Effets et de leur Criticité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cc00"/>
                </a:solidFill>
                <a:latin typeface="Bookman Old Style"/>
              </a:rPr>
              <a:t>(FMECA:Failure Mode ,Effects and Criticality Analysis)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605720" y="4648320"/>
            <a:ext cx="1386000" cy="145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410080" y="1981080"/>
            <a:ext cx="3733920" cy="2210040"/>
          </a:xfrm>
          <a:prstGeom prst="wedgeEllipseCallout">
            <a:avLst>
              <a:gd name="adj1" fmla="val 18152"/>
              <a:gd name="adj2" fmla="val 74208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AMDEC  MOYE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DE  PRODUCTION (ou système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Bookman Old Style"/>
              </a:rPr>
              <a:t>Analyse de la Concepti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Bookman Old Style"/>
              </a:rPr>
              <a:t>et /ou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Bookman Old Style"/>
              </a:rPr>
              <a:t>de l ’Exploitation d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Bookman Old Style"/>
              </a:rPr>
              <a:t>Equipements de Produ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Bookman Old Style"/>
              </a:rPr>
              <a:t> </a:t>
            </a:r>
            <a:r>
              <a:rPr b="1" lang="fr-FR" sz="1600" spc="-1" strike="noStrike">
                <a:solidFill>
                  <a:srgbClr val="001932"/>
                </a:solidFill>
                <a:latin typeface="Bookman Old Style"/>
              </a:rPr>
              <a:t>pour améliorer leu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Bookman Old Style"/>
              </a:rPr>
              <a:t>DISPONIBIL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5120" y="5181480"/>
            <a:ext cx="3657600" cy="1295640"/>
          </a:xfrm>
          <a:prstGeom prst="wedgeRoundRectCallout">
            <a:avLst>
              <a:gd name="adj1" fmla="val 93097"/>
              <a:gd name="adj2" fmla="val -9680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AMDEC PROCESSU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Analyse des opérations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Production pour améliorer l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QUALITE de FABRICAT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du produ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2057400"/>
            <a:ext cx="2743200" cy="1143000"/>
          </a:xfrm>
          <a:prstGeom prst="wedgeRoundRectCallout">
            <a:avLst>
              <a:gd name="adj1" fmla="val 139699"/>
              <a:gd name="adj2" fmla="val 216805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AMDEC PRODUIT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Analyse de la Concept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d ’un produi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pour améliorer 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 </a:t>
            </a: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QUALITE et sa FIABILI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315200" y="4724280"/>
            <a:ext cx="1293840" cy="1828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96240" y="6556320"/>
            <a:ext cx="85323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Times New Roman"/>
              </a:rPr>
              <a:t>ON  PARLE  MAINTENANT  EGALEMENT  D ’AMDEC  SERVICE…ET  D ’AMDEC FOURNISSEURS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3505320"/>
            <a:ext cx="2819520" cy="1447560"/>
          </a:xfrm>
          <a:prstGeom prst="wedgeRoundRectCallout">
            <a:avLst>
              <a:gd name="adj1" fmla="val 158222"/>
              <a:gd name="adj2" fmla="val 77740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AMDEC SECURITE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Analyse des défaillan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 </a:t>
            </a: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et des Risq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prévisionnels s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un équipemen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pour améliorer 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 </a:t>
            </a: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Sécurité et la FIABILI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772400" cy="94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Impact"/>
              </a:rPr>
              <a:t>Plusieurs types d’AMDEC sont utilisées lors des différentes phases de conception ainsi qu’en exploitation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ffff"/>
                </a:solidFill>
                <a:latin typeface="Impact"/>
              </a:rPr>
              <a:t>OBJECTIFS DE L ’AMDEC MOYEN DE PRODUCTION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56386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1932"/>
                </a:solidFill>
                <a:latin typeface="Wingdings"/>
                <a:ea typeface="Wingdings"/>
              </a:rPr>
              <a:t></a:t>
            </a:r>
            <a:r>
              <a:rPr b="0" lang="fr-FR" sz="3000" spc="-1" strike="noStrike">
                <a:solidFill>
                  <a:srgbClr val="ffff00"/>
                </a:solidFill>
                <a:latin typeface="Impact"/>
              </a:rPr>
              <a:t>  </a:t>
            </a:r>
            <a:r>
              <a:rPr b="0" lang="fr-FR" sz="3000" spc="-1" strike="noStrike">
                <a:solidFill>
                  <a:srgbClr val="ffff00"/>
                </a:solidFill>
                <a:latin typeface="Impact"/>
              </a:rPr>
              <a:t>Evaluer et Garantir:</a:t>
            </a:r>
            <a:endParaRPr b="0" lang="en-US" sz="3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la Fiabilité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la Maintenabilité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la Disponibilité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la Sécurité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238880" y="4994280"/>
            <a:ext cx="1600200" cy="1535040"/>
          </a:xfrm>
          <a:prstGeom prst="rect">
            <a:avLst/>
          </a:prstGeom>
          <a:ln w="0">
            <a:noFill/>
          </a:ln>
        </p:spPr>
      </p:pic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4800600" y="2133720"/>
            <a:ext cx="4038480" cy="2286000"/>
          </a:xfrm>
          <a:prstGeom prst="wedgeEllipseCallout">
            <a:avLst>
              <a:gd name="adj1" fmla="val -66745"/>
              <a:gd name="adj2" fmla="val 20555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C ’EST UNE COMPOSANT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LA SÛRETE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FONCTIONN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( S D F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4876920"/>
            <a:ext cx="690696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1932"/>
                </a:solidFill>
                <a:latin typeface="Wingdings"/>
                <a:ea typeface="Wingdings"/>
              </a:rPr>
              <a:t></a:t>
            </a:r>
            <a:r>
              <a:rPr b="0" lang="fr-FR" sz="3000" spc="-1" strike="noStrike">
                <a:solidFill>
                  <a:srgbClr val="ffff00"/>
                </a:solidFill>
                <a:latin typeface="Impact"/>
              </a:rPr>
              <a:t> </a:t>
            </a:r>
            <a:r>
              <a:rPr b="0" lang="fr-FR" sz="3000" spc="-1" strike="noStrike">
                <a:solidFill>
                  <a:srgbClr val="ffff00"/>
                </a:solidFill>
                <a:latin typeface="Impact"/>
              </a:rPr>
              <a:t>Obtenir au meilleur coût l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00"/>
                </a:solidFill>
                <a:latin typeface="Impact"/>
              </a:rPr>
              <a:t>Rendement Global Maximum de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00"/>
                </a:solidFill>
                <a:latin typeface="Impact"/>
              </a:rPr>
              <a:t>Equipements de Produc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L ’AMDEC VISE A …..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Prise en compte de la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fr-FR" sz="2400" spc="-1" strike="noStrike">
                <a:solidFill>
                  <a:srgbClr val="ff0000"/>
                </a:solidFill>
                <a:latin typeface="Impact"/>
              </a:rPr>
              <a:t>MAINTENABILITE </a:t>
            </a: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dés la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CONCEPTION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Amélioration de la </a:t>
            </a:r>
            <a:r>
              <a:rPr b="0" lang="fr-FR" sz="2400" spc="-1" strike="noStrike">
                <a:solidFill>
                  <a:srgbClr val="ff0000"/>
                </a:solidFill>
                <a:latin typeface="Impact"/>
              </a:rPr>
              <a:t>TESTABILIT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Aide au </a:t>
            </a:r>
            <a:r>
              <a:rPr b="0" lang="fr-FR" sz="2400" spc="-1" strike="noStrike">
                <a:solidFill>
                  <a:srgbClr val="ff0000"/>
                </a:solidFill>
                <a:latin typeface="Impact"/>
              </a:rPr>
              <a:t>DIAGNOSTIC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Amélioration de la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fr-FR" sz="2400" spc="-1" strike="noStrike">
                <a:solidFill>
                  <a:srgbClr val="ff0000"/>
                </a:solidFill>
                <a:latin typeface="Impact"/>
              </a:rPr>
              <a:t>MAINTENANCE CORRECTIV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410080" y="5105520"/>
            <a:ext cx="1905120" cy="1636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943600" y="2666880"/>
            <a:ext cx="3124080" cy="2133720"/>
          </a:xfrm>
          <a:prstGeom prst="wedgeEllipseCallout">
            <a:avLst>
              <a:gd name="adj1" fmla="val -33333"/>
              <a:gd name="adj2" fmla="val 71578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C ’EST UN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COMPOSANT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D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SOUTIEN  LOGISTI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INTEG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( S L I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19320" y="205740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</a:t>
            </a:r>
            <a:r>
              <a:rPr b="0" lang="fr-FR" sz="2800" spc="-1" strike="noStrike">
                <a:solidFill>
                  <a:srgbClr val="ffff00"/>
                </a:solidFill>
                <a:latin typeface="Impact"/>
              </a:rPr>
              <a:t>Réduire les Temps  d ’Indisponibilité après défail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1T12:52:44Z</dcterms:created>
  <dc:creator>L. DAUJEARD</dc:creator>
  <dc:description/>
  <dc:language>en-US</dc:language>
  <cp:lastModifiedBy>Djino</cp:lastModifiedBy>
  <cp:lastPrinted>1999-08-25T14:15:26Z</cp:lastPrinted>
  <dcterms:modified xsi:type="dcterms:W3CDTF">2002-11-09T15:31:10Z</dcterms:modified>
  <cp:revision>285</cp:revision>
  <dc:subject>AMDEC</dc:subject>
  <dc:title>AMDEC MACHINE</dc:title>
</cp:coreProperties>
</file>