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BDD-96B4-4955-AE17-B72560A3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0A68-2F37-47A5-AB2E-CDA7CD2F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545-B420-4F38-A614-8AE3A48E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FDB-FEEC-4669-97AE-B6A0BAA2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1C6-D632-428D-A116-38C32939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865-92B2-4DD5-B68D-14A525D0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BC9-4962-4542-9936-12626F6E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9BA-DDC7-47A7-9018-F39E75F1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8B9-967D-4C97-83F5-535A5744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750-0E37-4D56-A5D2-66EEEF6D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913-9F02-4A65-AC5F-E7671291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59B-F2AE-45BF-B8D4-2FF0B088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D2F1-B082-4060-A0F6-80FDE7635E1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42552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99"/>
                </a:solidFill>
                <a:latin typeface="Times New Roman"/>
              </a:rPr>
              <a:t>Renaud Vayss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6248520"/>
            <a:ext cx="21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9 novembre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1800" y="2362320"/>
            <a:ext cx="590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LUSTERING SOUS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FAI Ingénieurs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20" y="624852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ière Informatique &amp; Rése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_acc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020000" y="624852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ème année – Group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ngouin3" descr=""/>
          <p:cNvPicPr/>
          <p:nvPr/>
        </p:nvPicPr>
        <p:blipFill>
          <a:blip r:embed="rId2"/>
          <a:stretch/>
        </p:blipFill>
        <p:spPr>
          <a:xfrm>
            <a:off x="3195720" y="3276720"/>
            <a:ext cx="2751120" cy="2751120"/>
          </a:xfrm>
          <a:prstGeom prst="rect">
            <a:avLst/>
          </a:prstGeom>
          <a:ln w="0">
            <a:noFill/>
          </a:ln>
        </p:spPr>
      </p:pic>
      <p:pic>
        <p:nvPicPr>
          <p:cNvPr id="49" name="logo-umlv" descr=""/>
          <p:cNvPicPr/>
          <p:nvPr/>
        </p:nvPicPr>
        <p:blipFill>
          <a:blip r:embed="rId3"/>
          <a:stretch/>
        </p:blipFill>
        <p:spPr>
          <a:xfrm>
            <a:off x="7023240" y="285840"/>
            <a:ext cx="1496880" cy="79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127944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iversité de Marne-La-Vall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69760" y="106200"/>
            <a:ext cx="729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ARCHITECTURE RECOMMAND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3880"/>
            <a:ext cx="78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Un matériel homogène dans une topologie « saine »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5146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férer des Stations de travail homogènes (même architecture, mêmes composant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férer des liaisons 100 Mb/s interconnectées par des switchs (suivant vos moyens bien entendu !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ner et séparer les applications soit par tranche horaire soit par sous réseaux (par l’intermédiaire d’une passer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B95-092D-4791-B788-26B0DE23D0A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3360" y="42552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a question Logici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6002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e distribution commune à l’ensemble des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e API (Application Program Interface) dédier à rendre le calcul collectif (PVM, MPI, BSP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95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EN CHOISIR LE PROJET QUE VOUS UTILISEREZ EN FONCTION DE VOS AT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135-0989-49DA-B48B-8C5F8AF1A0C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1920" y="106200"/>
            <a:ext cx="883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 PROJETS DE CLUSTERS SOUS LINUX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5160" y="129528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VS (Linux Virtual Serv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28600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à répartition de char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six, Resonate Dispatch serie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le fonctionnement d’applications réseaux sur un système supportant un plus grand nombre d’utilis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oir l’exposé de Fred   ;0 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s utiles :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lvs.fred-shwien.qqp, http://www.linuxvirtualserver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2E0-FF8C-4189-866B-FFCA7E85733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00" y="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Beowulf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9960" y="18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" y="838080"/>
            <a:ext cx="8474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luster le plus connu du monde Linux, (parrainé par la NASA depuis 1994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scientifiques (tous comm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sica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s les plus populaires APIs pour Linux (PVM et MP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rojet le plus documenté et le plus vastement répan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d’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eme Linu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érivé de Beowulf, la première distribution de Linux en clu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s utiles :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www.beowulf.org 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beowulf-underground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E78-8DD1-416A-A930-8529893F888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00" y="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VFS (Parallel Virtual File System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" y="685800"/>
            <a:ext cx="8474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é par le laboratoire de recherche de l’université de Clemson, soutenu par la 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dits de « stockages combinés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de travailler avec des fichiers de très grandes tailles tout en minimisant les transfe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une API native libpvfs et fonctionne sous Linux depuis le noyau 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tiliser conjointement à PVFS, ReiserFS, ext2fs ou même un dispositif RA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 utile :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parlweb.parl.clemson.edu/pvfs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66E-E828-4D0A-A11F-14B4573489C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31120" y="16668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inux-HA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" y="914400"/>
            <a:ext cx="8474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èmes à hautes disponibilité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de maintenir un heartbeat entre les nodes d’un serv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à un node de prendre l’identité réseau d’un node défectue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 utile :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http://linux-ha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5720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tout n’est pas de monter le cluster !!!! Il faut aussi l’administrer ! Pour cela penser à ALINKA (Raisin ou Orange suivant votre cluster) 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ttp://www.alinka.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E8D-EDA9-48BF-9CC6-0CFAD771845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95360" y="2178000"/>
            <a:ext cx="6383520" cy="21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Futura XBlkIt BT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Futura XBlkIt BT"/>
              </a:rPr>
              <a:t>MOSIX: LE CLUSTER DE T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Futura XBlkIt BT"/>
                <a:ea typeface="Times New Roman"/>
              </a:rPr>
              <a:t>(http://www.mosix.org)</a:t>
            </a:r>
            <a:r>
              <a:rPr b="0" lang="fr-FR" sz="2400" spc="-1" strike="noStrike">
                <a:solidFill>
                  <a:srgbClr val="000099"/>
                </a:solidFill>
                <a:latin typeface="Futura XBlkIt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59A-791F-4AE1-A540-816D96F20F4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475360" y="106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WHAT IS MOSIX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8440" y="1447920"/>
            <a:ext cx="62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à répartition de charge entre process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133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 et enrichissement du noyau Linux (patchs + quelques binaires) afin de supporter le clust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760" y="3124080"/>
            <a:ext cx="81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que Nodes est équivalent et tourne sous un noyau MOS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000" y="380988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algorithme dit de « fork and forget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360" y="4495680"/>
            <a:ext cx="54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sation constante de la répart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1680" y="5181480"/>
            <a:ext cx="43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ès simple à mettre en œuv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173-E1C1-4782-BA69-328516A553B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34280" y="106200"/>
            <a:ext cx="706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INSTALLER UN CLUSTER MO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360" y="99072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Instal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65240" y="316548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7652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lécharger et « détarrer » la version de MOSIX, suivant la version de votre noyau à l’adresse : 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ttp://www.mosix.org/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</a:rPr>
              <a:t>MOSIX 1.5.2 for Linux 2.4.13 [407K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</a:rPr>
              <a:t>MOSIX 0.98.0 for Linux 2.2.19 [700KB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76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avoir d’autre format d’installation pour d’autre distribution (Debian, Slackware, RPM…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son type d’installation : manuelle ou automat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tiliser des assistants de distribution, comme LTSP (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www.LTSP.org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ans une architecture homogèn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FB7-AC70-4033-AF81-0904B2A2A2C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 de MOSIX vient modifier les fichiers 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it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etd.conf and/or /etc/xinetd.d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lilo.co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rc.d/init.d/a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cron.daily/slocate.c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renomme les versions originales en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pre_mos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38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re le manuel d’installation pour les procédures communes ; il est très explicite   ;0) !!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0" y="365760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60360" y="4572000"/>
            <a:ext cx="66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Point fort de MOSIX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 script d’installation s’est chargé tout seul de la configuration du node du clu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8DE-E8ED-490A-9BBF-EA28AF77E01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14880" y="152280"/>
            <a:ext cx="2514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07800" y="2082960"/>
            <a:ext cx="7076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tés sur les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nition, terminologi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307440" y="3378240"/>
            <a:ext cx="7899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ustering sous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s, projets, solutio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43920" y="4597560"/>
            <a:ext cx="659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emple de clusters Linux : MO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ation, ges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F26-F7BE-4B90-B4DD-D0FF9C754D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0760" y="289080"/>
            <a:ext cx="66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pologi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par l’intermédiaire du fichier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etc/mosix.ma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4080" y="83808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Syntax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SIX-node-numb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-address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nge-siz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4080" y="1371600"/>
            <a:ext cx="4600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fichier /etc/mosix.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0.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0.100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100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9760" y="3809880"/>
            <a:ext cx="35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e util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: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n mosix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’OUBLIEZ PAS DE CONFIGURER L’ACTIVATION / DESACTIVATION DE MOSIX AU SEIN DU SYSTEME.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585-C81D-40CB-8836-2F90314C7C13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360" y="16668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Adminis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9144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 et configuration du cluster grâce aux entrées ajoutées dans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proc/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s de collecter des informations relatives aux échanges  mais aussi aux proces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r les applications d’administration comm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e, m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cela facilite drôlement la vie !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e migrer manuellement les processus les plus récalcitra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à encore les besoins d’administration évolue en fonction de vos attentes donc 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n mosi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184-2658-42F6-A59B-75F1351C08F3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3400" y="106200"/>
            <a:ext cx="639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COMMENTAIRES SUR MO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extension jusqu’à 65535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67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ne sur des combinaisons de machines comme les workstation, les multiprocesseurs, les serveur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590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écialement conçu pour la famille des processeurs Intel-x86 et compati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librage de manière transpar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écute plus d’applications en instantané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952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de performance significatif qu’avec des processus bien distribu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gration de processus est une opération coûte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689-AF5E-4782-8121-A18BE290792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3080" y="38088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SIX S’AFFICHE TOUTEFOIS COMME UNE SOLUTION IDEALE DANS LE CADRE D’UN SERVEUR D’APPLICATION 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ÂCE A LUI CHAQUE UTILISATEUR CONNECTE A DISTANCE DISPOSERA DE PERFORMANCES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ord" descr=""/>
          <p:cNvPicPr/>
          <p:nvPr/>
        </p:nvPicPr>
        <p:blipFill>
          <a:blip r:embed="rId2"/>
          <a:stretch/>
        </p:blipFill>
        <p:spPr>
          <a:xfrm>
            <a:off x="3103560" y="3352680"/>
            <a:ext cx="2935440" cy="29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385F-867A-4018-98C7-C643D22D09D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24720" y="2178000"/>
            <a:ext cx="66913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GENERALITES SUR LES CLU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EAF-82C1-4592-951C-3C75853CD42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6000" y="126360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é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8288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luster est un ensemble d’ordinateurs connectés les uns aux autres en réseau dans le but de partager des ressour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rme clair, il s’agit d’une batterie d’ordinateurs, tous interconnectés et capables de traiter de concert un même trav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5640" y="43117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isting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080" y="4952880"/>
            <a:ext cx="32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ème en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el en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8080" y="85680"/>
            <a:ext cx="6557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QU’EST CE QU’UN CLUST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C1E3-9F76-4A92-BB3B-DCBFCFA9AF8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493080" y="15228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038320"/>
          <a:ext cx="1524240" cy="354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038320"/>
                    <a:ext cx="152424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819840" y="3117960"/>
          <a:ext cx="194328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19840" y="3117960"/>
                    <a:ext cx="19432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646440" y="3478320"/>
          <a:ext cx="1849320" cy="6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46440" y="3478320"/>
                    <a:ext cx="18493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76520" y="297180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676520" y="3733920"/>
            <a:ext cx="23619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3733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3080" y="1828800"/>
            <a:ext cx="8458200" cy="396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5040" y="19018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8160" y="2894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6760" y="4494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560" y="57913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2600" y="33526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C91-5B70-4715-B207-0285B56A5BE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09280" y="152280"/>
            <a:ext cx="7515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ES MOTIVATIONS D’UN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4320" y="1600200"/>
            <a:ext cx="697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scientif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déchiffrement des clés de cryptage de plus en plus longues, simulation nucléair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de stocka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stockage d’énormes fichiers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haute disponibilité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rchitecture firewall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à répartition de char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rchitecture serveur web, architecture système utilisateur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023-F45B-4CC5-9F85-A76F8F03F00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7040" y="152280"/>
            <a:ext cx="7009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« CLUSTERING EVERYWHER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6765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lusters « propriétaires » : architecture et prestation chè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BM, HP, SUN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666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solutions commerciales de clustering : architecture peu chère mais prestation ch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CheckPoint, Epsilan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3581280"/>
            <a:ext cx="761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clusters « bizarres »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l’impression que c’est pas chère mais a force de cumuler on se dit que le super calculateur aurait pu être bien en fin de comp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Windows 2000 datacenter server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181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solutions de clustering Linux : c’est le chapitre suivant ;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E59-5F97-4144-AF2C-298B6677C0F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47360" y="2178000"/>
            <a:ext cx="58636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LE CLUSTERING SOUS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3EE-23D5-4D10-9E41-6084E706A71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18120" y="106200"/>
            <a:ext cx="610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OURQUOI CHOISI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6360" y="1219320"/>
            <a:ext cx="29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LE PRIX 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7240" y="1981080"/>
            <a:ext cx="670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 sur la plupart des distributions gratuites du mar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de simple PC pour les Nodes du clust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des logiciels sous licence GPL (PVM, MPI …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3760" y="3809880"/>
            <a:ext cx="7296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L’OUVERTURE « D’ESPRIT » 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200" y="4572000"/>
            <a:ext cx="848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communauté Linuxienne présen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ojets Open Source éprouvés et fiables (beowulf, Mosix, Legion, LVS…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ojets répondants aux attentes de tous les types de clus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61F-4104-42BD-9D62-4F1EE4AF067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13:25:32Z</dcterms:created>
  <dc:creator>Renaud Vayssade</dc:creator>
  <dc:description/>
  <dc:language>en-US</dc:language>
  <cp:lastModifiedBy>Renaud</cp:lastModifiedBy>
  <dcterms:modified xsi:type="dcterms:W3CDTF">2002-01-20T20:10:09Z</dcterms:modified>
  <cp:revision>33</cp:revision>
  <dc:subject>comment réaliser un cluster à moindre cout</dc:subject>
  <dc:title>Le clustering sous Linux</dc:title>
</cp:coreProperties>
</file>