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393-EBC0-4037-A86C-D9477CD4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0A6-957E-47A7-871D-8DB7364A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691-71F9-4948-8034-60AFF4C0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63D-39D2-43F0-8390-56C6247A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1C0-3046-4721-84CD-0191762A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F7B-5E60-4401-A3B4-0600290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93D-51E6-493C-8998-02A22600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A60-48A0-4F89-9137-C3E98E0D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FB2-273C-4FC5-9A69-524ECB8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496-0829-40E2-9224-8CA33A2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B0B-85C7-4E0A-A5E3-6918A30F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CD9-8936-47FC-AD42-8C79E02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2C3-9B7E-470B-B6CB-CF57545530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rogrammation génériqu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c la S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000" y="630864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IUML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Informatique et Réseaux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20" y="63133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noît RO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2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li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&lt;algorith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initC(char*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*c != ‘\0’= majax.push_back(*c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gerard = initC("le plus grand et le plus fort des magicien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uniq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List&lt;char&gt;::iterator i = gerard.begin() ; i != gerard.end() ; i++) cout &lt;&lt; 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résum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&lt; Conteneur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 ( la p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Vector,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LIFO : push et pop à la même extré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ue ( la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 ( la file par priorit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 d’une fonction de compar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&lt; Conteneur &lt; Truc &gt; , fcomp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44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arr[] = {1,4,9,16,25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iste(arr, arr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::reverse_iterator rev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vit = liste.rbegi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revit != liste.rend()) cout &lt;&lt; *revi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00280"/>
            <a:ext cx="77248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s d’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1[] = { 1, 3, 5, 7, 9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1(t1,t1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2[] = { 2, 4, 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2(t2,t2+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dq1.begin(), dq1.end(), back_inserter(dq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int i=0 ; i&lt;dq2.size() ; i++) cout &lt;&lt; dq2[i] &lt;&lt; ‘ ‘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7724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d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our finir : les fonc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straction de la notion de fo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eur = Objet dont la classe définit l’opérateur () , appelé opérateur de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tent d’appliquer des fonctions sur les objets manipu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068640"/>
            <a:ext cx="8229600" cy="360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func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late &lt;class T, class F&gt; T applique(T i, T j, F fonct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foncteur(i, 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&lt;int&gt; foncteur_pl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t &lt;&lt; applique(2, 3, foncteur_plus)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uite sur le site Web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lons voir de Ook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: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ncep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généricité ne s’appliquent pas seulement au c+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: on a le droit de les ap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: le joli schéma de Stepanov peut être généralisé : on sait à quoi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ssem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’objet avec lequel on veut discuter et ce qu’il doit faire, mais on ne sait pas comment il fait ce qu’il fait ( et on plus ce n’est pas notre problè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gros, si l’objet cible change, on lui demande simplement de gard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ême appar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Comme ça, on n’a pas besoin de recommencer tout notr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: c’est très chiant au début, mais ça facilite la vie ap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dont on va par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cepts de généricité : re-encore à nouveau un autre rappel, mais ça finira par rentr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tandard Templat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les concepts, des exemples, et tout ce qui va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:les trucs qu’il faut comprendre ( ou en tout cas retenir ) pour 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grammation générique: les 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incipale: la fle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éutilisation du code ( cf. premier poi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cilité d’écr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sibilité du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héma, par Stepanov et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9412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indépendants du type de données stock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s’agit ainsi de connecter des algorithmes à des structures de données, par le biais de connecte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47640" y="2133720"/>
            <a:ext cx="6407280" cy="2016000"/>
            <a:chOff x="1547640" y="2133720"/>
            <a:chExt cx="6407280" cy="2016000"/>
          </a:xfrm>
        </p:grpSpPr>
        <p:sp>
          <p:nvSpPr>
            <p:cNvPr id="51" name=""/>
            <p:cNvSpPr/>
            <p:nvPr/>
          </p:nvSpPr>
          <p:spPr>
            <a:xfrm>
              <a:off x="154764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gorith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8328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tai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419280" y="3141360"/>
              <a:ext cx="2664000" cy="0"/>
            </a:xfrm>
            <a:prstGeom prst="line">
              <a:avLst/>
            </a:prstGeom>
            <a:ln w="114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1800" y="270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téra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 directe des concepts développés par Step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’agit d’une bibliothèque d’algorithmes généraux et de structures de donn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e s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ssoci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ort, find, sear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opy, swap, for_ea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és aux types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de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tensible et relocal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index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ions et retraits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lents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st ( liste circulaire doublement chaîn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n’importe où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u début et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lent aux autre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que ( Double Ended Queue = tampon circulaire dynamiq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actement pareil que Vector pour la complex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as d’insertion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bon compromis vitesse d’accès / souplesse du remp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associ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( liste tri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haque élément doit être unique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 ( l’objet lui-même est la cl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set’ qui permet les doub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p ( association clé / éléme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e clé pour un élément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map’ ou les éléments peuvent être multiples pour une 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Les it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itérateur est une généralisation des pointeurs.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ermet de parcourir en séquence les éléments d'un conten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érarchie des itérate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86064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79736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dire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73408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é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0360" y="53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14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48400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8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2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5877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n, It-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000" y="494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, It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720" y="414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1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(4,0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l vaut 0::0::0::0::[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 v(10,1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v vaut [1,1,1,1,1,1,1,1,1,1,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::iterator i = copy(l.begin(),l.end(),v.begi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v.begin(),i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i,v.end()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4:06:20Z</dcterms:created>
  <dc:creator>POPI</dc:creator>
  <dc:description/>
  <dc:language>en-US</dc:language>
  <cp:lastModifiedBy>POPI</cp:lastModifiedBy>
  <dcterms:modified xsi:type="dcterms:W3CDTF">2002-02-07T15:13:13Z</dcterms:modified>
  <cp:revision>26</cp:revision>
  <dc:subject/>
  <dc:title>La programmation génériq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