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9FD5-699C-4ED5-B6A3-309AD5CCE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A458-34E6-4B5E-967E-76830CBE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D37E-0726-4DE8-BF62-89BCD6FF1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8A7A-A809-4CAA-8345-8D5B6FF2B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B61A-7F73-4553-A6C2-D0A9B00B4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B0DF-5283-46A9-B7E0-5F91EC97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29E5-52B5-4B00-B278-5B39C1BB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BC0B2-7751-4719-9417-AF75C8B9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096C-FEAA-4599-8FCC-E29C594A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4DDF-B507-4199-9738-69445E9A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B9D9B-29B5-45B5-94DF-70FC8E55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3118-A84C-487C-9244-F592DDDB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B6FB-09B1-496B-AC4C-1E9F0D9D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E15BB-9C7F-437D-B5FA-BD6F15FC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B9CB-2548-45DE-B450-11DC56AF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6EB3-4661-43A2-ACD0-FD765C828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AD80-64A2-4415-BEBA-E83DBC534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DFCA-D0D4-483C-BB6C-3C782791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788A-40AF-4DB8-9B55-42F1E1D7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1111-1B78-4CEC-831C-9E266780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28FE-E797-4F7D-BADC-A605AF50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A82A-3A10-4B37-99D7-325071D2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E483-9AFD-4EC9-A7E9-0B280FB6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00DE-2712-49A1-A0EF-7C4EB0F7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272B-94B4-4414-A70F-6188E714D99A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E6D2-B24D-49EC-B266-214E10EA207C}" type="slidenum">
              <a:rPr b="0" lang="fr-F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iyun@free.fr" TargetMode="External"/><Relationship Id="rId2" Type="http://schemas.openxmlformats.org/officeDocument/2006/relationships/hyperlink" Target="mailto:liyun@free.fr" TargetMode="External"/><Relationship Id="rId3" Type="http://schemas.openxmlformats.org/officeDocument/2006/relationships/hyperlink" Target="mailto:liyun@free.fr" TargetMode="External"/><Relationship Id="rId4" Type="http://schemas.openxmlformats.org/officeDocument/2006/relationships/image" Target="../media/image1.wmf"/><Relationship Id="rId5" Type="http://schemas.openxmlformats.org/officeDocument/2006/relationships/hyperlink" Target="http://www.univ-mlv.fr/" TargetMode="Externa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snort.org/" TargetMode="External"/><Relationship Id="rId2" Type="http://schemas.openxmlformats.org/officeDocument/2006/relationships/hyperlink" Target="http://www.snort.org/" TargetMode="External"/><Relationship Id="rId3" Type="http://schemas.openxmlformats.org/officeDocument/2006/relationships/hyperlink" Target="http://www.snort.org/" TargetMode="External"/><Relationship Id="rId4" Type="http://schemas.openxmlformats.org/officeDocument/2006/relationships/hyperlink" Target="http://www.snort.org/" TargetMode="External"/><Relationship Id="rId5" Type="http://schemas.openxmlformats.org/officeDocument/2006/relationships/hyperlink" Target="http://www.snort.org/" TargetMode="External"/><Relationship Id="rId6" Type="http://schemas.openxmlformats.org/officeDocument/2006/relationships/hyperlink" Target="http://www.linuxsecurity.com/" TargetMode="External"/><Relationship Id="rId7" Type="http://schemas.openxmlformats.org/officeDocument/2006/relationships/hyperlink" Target="http://www.linuxsecurity.com/" TargetMode="External"/><Relationship Id="rId8" Type="http://schemas.openxmlformats.org/officeDocument/2006/relationships/hyperlink" Target="http://www.linuxsecurity.com/" TargetMode="External"/><Relationship Id="rId9" Type="http://schemas.openxmlformats.org/officeDocument/2006/relationships/hyperlink" Target="http://www.linuxsecurity.com/" TargetMode="External"/><Relationship Id="rId10" Type="http://schemas.openxmlformats.org/officeDocument/2006/relationships/hyperlink" Target="http://www.linuxsecurity.com/" TargetMode="External"/><Relationship Id="rId11" Type="http://schemas.openxmlformats.org/officeDocument/2006/relationships/hyperlink" Target="http://www.securityfocus.com/" TargetMode="External"/><Relationship Id="rId12" Type="http://schemas.openxmlformats.org/officeDocument/2006/relationships/hyperlink" Target="http://www.securityfocus.com/" TargetMode="External"/><Relationship Id="rId13" Type="http://schemas.openxmlformats.org/officeDocument/2006/relationships/hyperlink" Target="http://www.securityfocus.com/" TargetMode="External"/><Relationship Id="rId14" Type="http://schemas.openxmlformats.org/officeDocument/2006/relationships/hyperlink" Target="http://www.securityfocus.com/" TargetMode="External"/><Relationship Id="rId15" Type="http://schemas.openxmlformats.org/officeDocument/2006/relationships/hyperlink" Target="http://www.securityfocus.com/" TargetMode="External"/><Relationship Id="rId16" Type="http://schemas.openxmlformats.org/officeDocument/2006/relationships/hyperlink" Target="http://www.robertgraham.com/pubs" TargetMode="External"/><Relationship Id="rId17" Type="http://schemas.openxmlformats.org/officeDocument/2006/relationships/hyperlink" Target="http://www.hsc.fr/ressources" TargetMode="External"/><Relationship Id="rId18" Type="http://schemas.openxmlformats.org/officeDocument/2006/relationships/hyperlink" Target="http://www.hsc.fr/ressources" TargetMode="External"/><Relationship Id="rId1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1771200"/>
            <a:ext cx="746748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ystème de Détection d’Intrusions</a:t>
            </a:r>
            <a:br>
              <a:rPr sz="4400"/>
            </a:b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( IDS 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76520" y="5638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iyun LI </a:t>
            </a: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IR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iyun</a:t>
            </a:r>
            <a:r>
              <a:rPr b="0" lang="fr-FR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@free.</a:t>
            </a:r>
            <a:r>
              <a:rPr b="0" lang="fr-FR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f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6553080" y="2895480"/>
            <a:ext cx="1890720" cy="2590920"/>
          </a:xfrm>
          <a:prstGeom prst="rect">
            <a:avLst/>
          </a:prstGeom>
          <a:ln w="0">
            <a:noFill/>
          </a:ln>
        </p:spPr>
      </p:pic>
      <p:pic>
        <p:nvPicPr>
          <p:cNvPr id="102" name="logo-umlv" descr="Université de Marne La Vallé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" y="533520"/>
            <a:ext cx="149688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’est un Internet Detection System (IDS)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’est un système qui  détecte (tente de détecter) les intru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’est un processus de découverte et d’analyse de comportements hostiles dirigé contre un résea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Pourquoi un IDS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a sécurité active n’est pas suffisa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e pare-feux ne contrent pas toutes les mena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nnovation constante des techniques de h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Faille potentielle selon les fonctionnalités des systè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Failles inhérentes de certains OS ;-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Pourquoi un ID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Remonter la source de l’atta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étecte les techniques employé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n cas d’intrusion, les traces sont preuves tangi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Complémentarit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NIDS : détecte les (tentatives) d’intrusions grâce à une base de signa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Mais il n’ARRETE pas l’intrusion 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apture les infos et les techniques de l’attaqu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Aide indispensable pour se prémunir des intrusions en prenant les mesures de sécurité adéqu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architecture" descr=""/>
          <p:cNvPicPr/>
          <p:nvPr/>
        </p:nvPicPr>
        <p:blipFill>
          <a:blip r:embed="rId1"/>
          <a:stretch/>
        </p:blipFill>
        <p:spPr>
          <a:xfrm>
            <a:off x="-795240" y="-376200"/>
            <a:ext cx="10734480" cy="76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Plusieurs types d’I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s </a:t>
            </a:r>
            <a:r>
              <a:rPr b="1" lang="fr-FR" sz="3200" spc="-1" strike="noStrike">
                <a:solidFill>
                  <a:srgbClr val="000000"/>
                </a:solidFill>
                <a:latin typeface="Tahoma"/>
              </a:rPr>
              <a:t>NIDS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: Network Internet Detection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s </a:t>
            </a:r>
            <a:r>
              <a:rPr b="1" lang="fr-FR" sz="3200" spc="-1" strike="noStrike">
                <a:solidFill>
                  <a:srgbClr val="000000"/>
                </a:solidFill>
                <a:latin typeface="Tahoma"/>
              </a:rPr>
              <a:t>HIDS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: Host Internet Detection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s systèmes hybrides :mélange de HIDS et NI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ahoma"/>
              </a:rPr>
              <a:t>Honeypots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: « pots de miel », leur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NIDS et HIDS: généralité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s NIDS analysent des flux réseau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s HIDS se basent sur la surveillance des hôtes par l’analyse des logs de l’hô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s 2 sont complémenta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Un NIDS de base : Tcpdum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Outil de base indispensable pour l’analyse résea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Disponible sur toutes les plateformes UNI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ermet l’écriture de filtres simples pour surveiller des types de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xemple de mise en situation dans le scan suivan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Exemple simple de sc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¦Starting nmap V. 2.53 by fyodor@insecure.org ( www.insecure.org/nmap/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¦Interesting ports on  (192.168.1.30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¦Port       State      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¦53/udp     open        dom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¦Nmap run completed -- 1 IP address (1 host up) scanned in 1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Arial"/>
              </a:rPr>
              <a:t>Exemple comman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cpdump host 192.168.1.30 and ip[9]=17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2800" spc="-1" strike="noStrike">
                <a:solidFill>
                  <a:srgbClr val="000000"/>
                </a:solidFill>
                <a:latin typeface="Arial"/>
              </a:rPr>
              <a:t>qui signif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« Affiche moi sur la sortie standard tous les datagrammes dont le 9ème octet est à 17, protocole UDP  (cf Datagramme IP) 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Pla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0178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Tahoma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Quelques chiffres sur le pirat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But de la sécurit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éfinition d’une attaque et d’une intr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2 types de sécurité: active et pas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Datagramme I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IP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620120" cy="44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Exemple de sortie tcpdum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88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ourier New"/>
              </a:rPr>
              <a:t>Si sur la machine 192.168.1.30 ,root tap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tcpdump host 192.168.1.30 and ip[9]=17 -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tcpdump: listening on eth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05:06:08.294790 192.168.1.1.43976 &gt; 192.168.1.30.53: 0 [20484q] [43012n] (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05:06:08.624790 192.168.1.1.43977 &gt; 192.168.1.30.53: 0 [20484q] [43012n] (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ur cette sortie, la cible verra que tous les datagrammes UDP sur le port domaine (53). Ici en 192.168.1.1 essaie de communiquer avec le port 53 de 192.168.1.1</a:t>
            </a:r>
            <a:r>
              <a:rPr b="1" i="1" lang="fr-F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ourier New"/>
              </a:rPr>
              <a:t>Tcpdump est l ’outil de base   pour le traffic résesa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nort : NIDS puissa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ogiciel open source,modulaire et de petite tai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uteur : Martin Roe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Version actuelle 1.8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étection en temps ré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ahoma"/>
              </a:rPr>
              <a:t>Gigantesque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bibliothèque de signatures d’attaques constamment mise à jou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snort" descr=""/>
          <p:cNvPicPr/>
          <p:nvPr/>
        </p:nvPicPr>
        <p:blipFill>
          <a:blip r:embed="rId1"/>
          <a:stretch/>
        </p:blipFill>
        <p:spPr>
          <a:xfrm>
            <a:off x="6781680" y="609480"/>
            <a:ext cx="205740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no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Fichier de configuration 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angage de description simple et facile à utili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artie en-tê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pécifie les filtrages sur les adresses, les ports sources et destinations, ainsi que la direction et l'action (alert, pass, log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artie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Fonctionnalité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étecte la l’attaque par fragmentation 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étecte de nombreux protocoles ( IP, TCP, UDP, ICMP,…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étecte les scans de ports initié par nm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Extrait d’un exe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ystem"/>
              </a:rPr>
              <a:t>alert tcp $EXTERNAL_NET any -&gt; $HTTP_SERVERS 80 (msg:"WEB-ATTACKS chown command attempt"; flags:A+; content:"/usr/sbin/chown";nocase; sid:1338; rev:1; classtype:web-application-attack;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System"/>
              </a:rPr>
              <a:t>Explication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ystem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System"/>
              </a:rPr>
              <a:t>Si Snort voit un paquet à destination du serveur Web port 80 avec un le drapeau </a:t>
            </a:r>
            <a:r>
              <a:rPr b="1" i="1" lang="fr-FR" sz="2400" spc="-1" strike="noStrike">
                <a:solidFill>
                  <a:srgbClr val="000000"/>
                </a:solidFill>
                <a:latin typeface="System"/>
              </a:rPr>
              <a:t>ack</a:t>
            </a:r>
            <a:r>
              <a:rPr b="0" lang="fr-FR" sz="2400" spc="-1" strike="noStrike">
                <a:solidFill>
                  <a:srgbClr val="000000"/>
                </a:solidFill>
                <a:latin typeface="System"/>
              </a:rPr>
              <a:t> positionné à 1 et contenant comme données « </a:t>
            </a:r>
            <a:r>
              <a:rPr b="1" i="1" lang="fr-FR" sz="2400" spc="-1" strike="noStrike">
                <a:solidFill>
                  <a:srgbClr val="000000"/>
                </a:solidFill>
                <a:latin typeface="System"/>
              </a:rPr>
              <a:t>/usr/sbin/chown</a:t>
            </a:r>
            <a:r>
              <a:rPr b="0" lang="fr-FR" sz="2400" spc="-1" strike="noStrike">
                <a:solidFill>
                  <a:srgbClr val="000000"/>
                </a:solidFill>
                <a:latin typeface="System"/>
              </a:rPr>
              <a:t> », alors une alerte est envoyé vers l’administrateu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HI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Host I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S’installe sur un serveu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vertit l’administrateur en cas de compromission de l’hô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st basé sur l’intégrité du systè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Un HIDS : Tripwi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Tripwire compare les résultats avec la base de référence générée préalablement (md5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Parce que l'empreinte générée sur un fichier ne peut être reproduite deux fois à l'identique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ripwi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Tripwire en schém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(source redhat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tripwire_schema" descr=""/>
          <p:cNvPicPr/>
          <p:nvPr/>
        </p:nvPicPr>
        <p:blipFill>
          <a:blip r:embed="rId1"/>
          <a:stretch/>
        </p:blipFill>
        <p:spPr>
          <a:xfrm>
            <a:off x="4344840" y="380880"/>
            <a:ext cx="51800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ripwire :cas d’utilisation optim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Stocker les exécutables sur support amovible protégé en écriture  (disquette, lecteur zip…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Vérifier quotidiennement (via cron ) l’intégrité des fichiers systèmes critiques 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Plan (partie 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Tahoma"/>
              </a:rPr>
              <a:t>I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Qu’est ce qu’un IDS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’utilité d’un I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ypes d’IDS: NIDS et HI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omplémentarité des I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tude d’un NIDS basic: TCPDU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tude des fonctionnalités de Snort (NI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tude d’un HIDS : Trip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Exemple si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 fichier /etc/tripwire/twpol.txt liste la l’ensemble des fichiers à protéger pour lesquels il génère un checks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xemple : supposons qu ’on ai réussit à modifier la commande « cat » en « cata 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nvoie d’un mail à root lors de la prochaine vérification de l’intégrit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Faiblesse des NI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eu performants sur les réseaux Ethernet 100 M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Ne détecte pas tout 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Techniques pour contrer les NIDS évolu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eu d'années d'expé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emande du personnel paranoïaque </a:t>
            </a: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ypes d’attaq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ttaque Mitni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ttaque Teardr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ttaque L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ttaque 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Honeypots (Pots de miel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’est un système pour leurrer le pi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rinci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Mise en place de faux serveurs avec peu de prote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Simulation de l’activité d’un résea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But: récolter les traces et les techniques de l’attaqu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537080" y="3405240"/>
            <a:ext cx="68400" cy="572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689360" y="3557520"/>
            <a:ext cx="68400" cy="572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791320" y="5257800"/>
            <a:ext cx="148248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Portsentry: un IDS acti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ogiciel lib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Détection des scans de ports furtifs ou n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Quant Portsentry détecte les scans de ports spécifiés dans /etc/portsentry/portsentry.conf, alors il agi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60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60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608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3 méthodes de </a:t>
            </a:r>
            <a:r>
              <a:rPr b="1" lang="fr-FR" sz="4400" spc="-1" strike="noStrike">
                <a:solidFill>
                  <a:srgbClr val="333399"/>
                </a:solidFill>
                <a:latin typeface="Tahoma"/>
              </a:rPr>
              <a:t>réaction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fr-FR" sz="4400" spc="-1" strike="noStrike">
                <a:solidFill>
                  <a:srgbClr val="333399"/>
                </a:solidFill>
                <a:latin typeface="Tahoma"/>
              </a:rPr>
              <a:t>dynamiqu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30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4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4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e4a8"/>
                </a:solidFill>
                <a:latin typeface="Tahoma"/>
              </a:rPr>
              <a:t>Méthod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4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4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Si TCPWrapper est installé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495360" indent="-2667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Ajout dynamique dans /etc/hosts.deny de l’adresse IP de l’attaquant et lui interdit tous les services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FR" sz="2600" spc="-1" strike="noStrike">
                <a:solidFill>
                  <a:srgbClr val="000000"/>
                </a:solidFill>
                <a:latin typeface="Tahoma"/>
              </a:rPr>
              <a:t>ALL: $TARGET : DENY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49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4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4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Méthode 2 et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e4a8"/>
                </a:solidFill>
                <a:latin typeface="Tahoma"/>
              </a:rPr>
              <a:t>Méthode 2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jout d’une règle dynamique dans les règles du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# </a:t>
            </a:r>
            <a:r>
              <a:rPr b="1" lang="fr-FR" sz="2400" spc="-1" strike="noStrike">
                <a:solidFill>
                  <a:srgbClr val="000000"/>
                </a:solidFill>
                <a:latin typeface="Courier New"/>
              </a:rPr>
              <a:t>iptables -I INPUT -s $TARGET -j DE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e4a8"/>
                </a:solidFill>
                <a:latin typeface="Tahoma"/>
              </a:rPr>
              <a:t>Méthode 3 :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Refus de routage explicite vers l’agresseur qui se fait aussi dynamiqu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#</a:t>
            </a:r>
            <a:r>
              <a:rPr b="1" lang="fr-FR" sz="2400" spc="-1" strike="noStrike">
                <a:solidFill>
                  <a:srgbClr val="000000"/>
                </a:solidFill>
                <a:latin typeface="Courier New"/>
              </a:rPr>
              <a:t>route add -host $TARGET reject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CPWrapp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CPWrapper travaille main dans la main avec inet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n fonction des services demandés, TCPWrapper peut les refuser ou les accept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’idée est la suivant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efuser tous les hosts par défaut à exploiter les services du serve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uis d’autoriser explicitement l’ip des hosts à accéder à aux services demandé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lques bonnes habitudes 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ahoma"/>
              </a:rPr>
              <a:t>Lors de l’installation d’un nouveau programme, tester la valeur de retour md5sum sur un programme pour vérifier son intégrité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ahoma"/>
              </a:rPr>
              <a:t>Banissez les rhost, rlogin, rexec, rsh rlogin, telnet ..!!!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fr-FR" sz="2700" spc="-1" strike="noStrike">
                <a:solidFill>
                  <a:srgbClr val="000000"/>
                </a:solidFill>
                <a:latin typeface="Tahoma"/>
              </a:rPr>
              <a:t>car les mots de passe circulent en clair sur le réseau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ahoma"/>
              </a:rPr>
              <a:t>Utiliser ssh à partir des versions 2.9.x, (pensez à dsniff et l’attaque man-in-the-middle par Dug Song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Avenir des I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IDS ( Linux IDS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volution de Sn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ortsentry, Shad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Plan (partie 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s types d’atta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s Honeypots: les leur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Quelques bonnes habitu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venir des I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es HIDS et les NIDS sont des éléments qui contribuent à améliorer la sécurité des réseaux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Mettre à jour aussi souvent que possible les bases de signatures d’attaques (cf www.snort.or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emps de réaction rapide pour rester effic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Conclusion: le cocktail gagna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lus les données sont vitales, plus les mesures de précautions doivent être paranoïaques 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ussi, utilisez une package de logiciels libres composés 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{ Iptables, TCPWrapper, Snort, Portsenty 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t ……. </a:t>
            </a:r>
            <a:r>
              <a:rPr b="1" lang="fr-FR" sz="3200" spc="-1" strike="noStrike">
                <a:solidFill>
                  <a:srgbClr val="000000"/>
                </a:solidFill>
                <a:latin typeface="Tahoma"/>
              </a:rPr>
              <a:t>LIRE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les logs </a:t>
            </a: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e mot de la f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a sécurité : c’est comme une partie d’échecs contre les pirates 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629400" y="1143000"/>
            <a:ext cx="158112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Plus d’inf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Shadowconf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, Shadow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étection des intrusions réseau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tephen Nortcutt, Judy Novak, Donald MacLahan editions Campus Pr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lques si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</a:t>
            </a:r>
            <a:r>
              <a:rPr b="0" lang="fr-FR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.</a:t>
            </a:r>
            <a:r>
              <a:rPr b="0" lang="fr-FR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snort</a:t>
            </a:r>
            <a:r>
              <a:rPr b="0" lang="fr-FR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.</a:t>
            </a:r>
            <a:r>
              <a:rPr b="0" lang="fr-FR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or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www</a:t>
            </a:r>
            <a:r>
              <a:rPr b="0" lang="fr-FR" sz="32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.</a:t>
            </a:r>
            <a:r>
              <a:rPr b="0" lang="fr-FR" sz="32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linuxsecurity</a:t>
            </a:r>
            <a:r>
              <a:rPr b="0" lang="fr-FR" sz="32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.</a:t>
            </a:r>
            <a:r>
              <a:rPr b="0" lang="fr-FR" sz="32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www</a:t>
            </a:r>
            <a:r>
              <a:rPr b="0" lang="fr-FR" sz="3200" spc="-1" strike="noStrike" u="sng">
                <a:solidFill>
                  <a:srgbClr val="ff0000"/>
                </a:solidFill>
                <a:uFillTx/>
                <a:latin typeface="Tahoma"/>
                <a:hlinkClick r:id="rId12"/>
              </a:rPr>
              <a:t>.</a:t>
            </a:r>
            <a:r>
              <a:rPr b="0" lang="fr-FR" sz="3200" spc="-1" strike="noStrike" u="sng">
                <a:solidFill>
                  <a:srgbClr val="ff0000"/>
                </a:solidFill>
                <a:uFillTx/>
                <a:latin typeface="Tahoma"/>
                <a:hlinkClick r:id="rId13"/>
              </a:rPr>
              <a:t>securityfocus</a:t>
            </a:r>
            <a:r>
              <a:rPr b="0" lang="fr-FR" sz="3200" spc="-1" strike="noStrike" u="sng">
                <a:solidFill>
                  <a:srgbClr val="ff0000"/>
                </a:solidFill>
                <a:uFillTx/>
                <a:latin typeface="Tahoma"/>
                <a:hlinkClick r:id="rId14"/>
              </a:rPr>
              <a:t>.</a:t>
            </a:r>
            <a:r>
              <a:rPr b="0" lang="fr-FR" sz="3200" spc="-1" strike="noStrike" u="sng">
                <a:solidFill>
                  <a:srgbClr val="ff0000"/>
                </a:solidFill>
                <a:uFillTx/>
                <a:latin typeface="Tahoma"/>
                <a:hlinkClick r:id="rId15"/>
              </a:rPr>
              <a:t>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6"/>
              </a:rPr>
              <a:t>http://www.robertgraham.com/pub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7"/>
              </a:rPr>
              <a:t>http://www.hsc.fr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8"/>
              </a:rPr>
              <a:t>res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144756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lques chiffres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2514600"/>
            <a:ext cx="4317840" cy="2631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</p:pic>
      <p:sp>
        <p:nvSpPr>
          <p:cNvPr id="111" name=""/>
          <p:cNvSpPr/>
          <p:nvPr/>
        </p:nvSpPr>
        <p:spPr>
          <a:xfrm>
            <a:off x="4343400" y="2438280"/>
            <a:ext cx="48006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c1c1c"/>
              </a:buClr>
              <a:buSzPct val="65000"/>
              <a:buFont typeface="Wingdings" charset="2"/>
              <a:buChar char=""/>
              <a:tabLst>
                <a:tab algn="l" pos="1260360"/>
                <a:tab algn="l" pos="2521080"/>
                <a:tab algn="l" pos="3781440"/>
                <a:tab algn="l" pos="5041800"/>
                <a:tab algn="l" pos="6302520"/>
                <a:tab algn="l" pos="7562880"/>
                <a:tab algn="l" pos="8823240"/>
                <a:tab algn="l" pos="100839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ype of Intrus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$ Losses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%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c1c1c"/>
              </a:buClr>
              <a:buSzPct val="65000"/>
              <a:buFont typeface="Wingdings" charset="2"/>
              <a:buChar char=""/>
              <a:tabLst>
                <a:tab algn="l" pos="1260360"/>
                <a:tab algn="l" pos="2521080"/>
                <a:tab algn="l" pos="3781440"/>
                <a:tab algn="l" pos="5041800"/>
                <a:tab algn="l" pos="6302520"/>
                <a:tab algn="l" pos="7562880"/>
                <a:tab algn="l" pos="8823240"/>
                <a:tab algn="l" pos="100839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------------------------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--------------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c1c1c"/>
              </a:buClr>
              <a:buSzPct val="65000"/>
              <a:buFont typeface="Wingdings" charset="2"/>
              <a:buChar char=""/>
              <a:tabLst>
                <a:tab algn="l" pos="1260360"/>
                <a:tab algn="l" pos="2521080"/>
                <a:tab algn="l" pos="3781440"/>
                <a:tab algn="l" pos="5041800"/>
                <a:tab algn="l" pos="6302520"/>
                <a:tab algn="l" pos="7562880"/>
                <a:tab algn="l" pos="8823240"/>
                <a:tab algn="l" pos="1008396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Information Thef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42,496,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c1c1c"/>
              </a:buClr>
              <a:buSzPct val="65000"/>
              <a:buFont typeface="Wingdings" charset="2"/>
              <a:buChar char=""/>
              <a:tabLst>
                <a:tab algn="l" pos="1260360"/>
                <a:tab algn="l" pos="2521080"/>
                <a:tab algn="l" pos="3781440"/>
                <a:tab algn="l" pos="5041800"/>
                <a:tab algn="l" pos="6302520"/>
                <a:tab algn="l" pos="7562880"/>
                <a:tab algn="l" pos="8823240"/>
                <a:tab algn="l" pos="1008396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Financial frau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39,706,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7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c1c1c"/>
              </a:buClr>
              <a:buSzPct val="65000"/>
              <a:buFont typeface="Wingdings" charset="2"/>
              <a:buChar char=""/>
              <a:tabLst>
                <a:tab algn="l" pos="1260360"/>
                <a:tab algn="l" pos="2521080"/>
                <a:tab algn="l" pos="3781440"/>
                <a:tab algn="l" pos="5041800"/>
                <a:tab algn="l" pos="6302520"/>
                <a:tab algn="l" pos="7562880"/>
                <a:tab algn="l" pos="8823240"/>
                <a:tab algn="l" pos="100839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use of net acces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7,576,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c1c1c"/>
              </a:buClr>
              <a:buSzPct val="65000"/>
              <a:buFont typeface="Wingdings" charset="2"/>
              <a:buChar char=""/>
              <a:tabLst>
                <a:tab algn="l" pos="1260360"/>
                <a:tab algn="l" pos="2521080"/>
                <a:tab algn="l" pos="3781440"/>
                <a:tab algn="l" pos="5041800"/>
                <a:tab algn="l" pos="6302520"/>
                <a:tab algn="l" pos="7562880"/>
                <a:tab algn="l" pos="8823240"/>
                <a:tab algn="l" pos="100839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rus attacks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5,274,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c1c1c"/>
              </a:buClr>
              <a:buSzPct val="65000"/>
              <a:buFont typeface="Wingdings" charset="2"/>
              <a:buChar char=""/>
              <a:tabLst>
                <a:tab algn="l" pos="1260360"/>
                <a:tab algn="l" pos="2521080"/>
                <a:tab algn="l" pos="3781440"/>
                <a:tab algn="l" pos="5041800"/>
                <a:tab algn="l" pos="6302520"/>
                <a:tab algn="l" pos="7562880"/>
                <a:tab algn="l" pos="8823240"/>
                <a:tab algn="l" pos="100839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botag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4,421,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c1c1c"/>
              </a:buClr>
              <a:buSzPct val="65000"/>
              <a:buFont typeface="Wingdings" charset="2"/>
              <a:buChar char=""/>
              <a:tabLst>
                <a:tab algn="l" pos="1260360"/>
                <a:tab algn="l" pos="2521080"/>
                <a:tab algn="l" pos="3781440"/>
                <a:tab algn="l" pos="5041800"/>
                <a:tab algn="l" pos="6302520"/>
                <a:tab algn="l" pos="7562880"/>
                <a:tab algn="l" pos="8823240"/>
                <a:tab algn="l" pos="100839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ider misu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3,567,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c1c1c"/>
              </a:buClr>
              <a:buSzPct val="65000"/>
              <a:buFont typeface="Wingdings" charset="2"/>
              <a:buChar char=""/>
              <a:tabLst>
                <a:tab algn="l" pos="1260360"/>
                <a:tab algn="l" pos="2521080"/>
                <a:tab algn="l" pos="3781440"/>
                <a:tab algn="l" pos="5041800"/>
                <a:tab algn="l" pos="6302520"/>
                <a:tab algn="l" pos="7562880"/>
                <a:tab algn="l" pos="8823240"/>
                <a:tab algn="l" pos="100839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sider Penetr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2,885,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60360"/>
                <a:tab algn="l" pos="2521080"/>
                <a:tab algn="l" pos="3781440"/>
                <a:tab algn="l" pos="5041800"/>
                <a:tab algn="l" pos="6302520"/>
                <a:tab algn="l" pos="7562880"/>
                <a:tab algn="l" pos="8823240"/>
                <a:tab algn="l" pos="10083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------------------------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---------------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c1c1c"/>
              </a:buClr>
              <a:buSzPct val="65000"/>
              <a:buFont typeface="Wingdings" charset="2"/>
              <a:buChar char=""/>
              <a:tabLst>
                <a:tab algn="l" pos="1260360"/>
                <a:tab algn="l" pos="2521080"/>
                <a:tab algn="l" pos="3781440"/>
                <a:tab algn="l" pos="5041800"/>
                <a:tab algn="l" pos="6302520"/>
                <a:tab algn="l" pos="7562880"/>
                <a:tab algn="l" pos="8823240"/>
                <a:tab algn="l" pos="100839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105,925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5867280"/>
            <a:ext cx="74674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 “1999 CSI/FBI Computer Crime and Security Survey” Computer Security Institute - www.gocsi.com/losses.htm</a:t>
            </a:r>
            <a:br>
              <a:rPr sz="22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But la sécurité informatiqu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rotéger un réseau qui est connecté à d’autres réseaux non sécurisés (ex: Interne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utoriser l’accès à certains services </a:t>
            </a:r>
            <a:r>
              <a:rPr b="1" lang="fr-FR" sz="3200" spc="-1" strike="noStrike">
                <a:solidFill>
                  <a:srgbClr val="000000"/>
                </a:solidFill>
                <a:latin typeface="Tahoma"/>
              </a:rPr>
              <a:t>uniquement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. (Web, mail, ftp…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Se prémunir contre des attaques et intru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’est ce qu’une attaque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écouverte systématique d</a:t>
            </a:r>
            <a:r>
              <a:rPr b="1" lang="fr-FR" sz="3200" spc="-1" strike="noStrike">
                <a:solidFill>
                  <a:srgbClr val="000000"/>
                </a:solidFill>
                <a:latin typeface="Tahoma"/>
              </a:rPr>
              <a:t>’informations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 du réseau par des </a:t>
            </a:r>
            <a:r>
              <a:rPr b="1" lang="fr-FR" sz="3200" spc="-1" strike="noStrike">
                <a:solidFill>
                  <a:srgbClr val="000000"/>
                </a:solidFill>
                <a:latin typeface="Tahoma"/>
              </a:rPr>
              <a:t>scans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de port et </a:t>
            </a:r>
            <a:r>
              <a:rPr b="1" lang="fr-FR" sz="3200" spc="-1" strike="noStrike">
                <a:solidFill>
                  <a:srgbClr val="000000"/>
                </a:solidFill>
                <a:latin typeface="Tahoma"/>
              </a:rPr>
              <a:t>balayage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du résea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Tentative réelle d’intrusion dans un résea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’est ce qu’une intrusion ?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rise de contrôle à distance (totale ou partielle) d’un ou de plusieurs serveurs ou hôt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ans 9 cas sur 10, une intrusion est précédée d’une atta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ype de sécurit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Schématiquement il existe 2 types de sécurité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a sécurité activ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ction sur sur les flux (autorisation , interdiction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are-feux, relais applicatifs, relayeur de messagerie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a sécurité pas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N’agit pas sur les flux entr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Tente de reconnaître des flux hos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I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5T21:07:19Z</dcterms:created>
  <dc:creator>3k</dc:creator>
  <dc:description/>
  <dc:language>en-US</dc:language>
  <cp:lastModifiedBy>3k</cp:lastModifiedBy>
  <dcterms:modified xsi:type="dcterms:W3CDTF">2002-02-08T18:15:03Z</dcterms:modified>
  <cp:revision>32</cp:revision>
  <dc:subject/>
  <dc:title>Détection d’intrusion</dc:title>
</cp:coreProperties>
</file>