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89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79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250640" y="692280"/>
            <a:ext cx="4405320" cy="330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0240" y="4227120"/>
            <a:ext cx="5043600" cy="3995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79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650485E-0BE0-4BBC-A6CD-B57D43E36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"/>
          <p:cNvSpPr txBox="1"/>
          <p:nvPr/>
        </p:nvSpPr>
        <p:spPr>
          <a:xfrm>
            <a:off x="3879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C516179-23E4-4C00-95C8-39567830B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 txBox="1"/>
          <p:nvPr/>
        </p:nvSpPr>
        <p:spPr>
          <a:xfrm>
            <a:off x="-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 txBox="1"/>
          <p:nvPr/>
        </p:nvSpPr>
        <p:spPr>
          <a:xfrm>
            <a:off x="-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79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3884760" y="-1440"/>
            <a:ext cx="29732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3884760" y="8477280"/>
            <a:ext cx="297324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-1440" y="8477280"/>
            <a:ext cx="29718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-1440" y="-144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sldImg"/>
          </p:nvPr>
        </p:nvSpPr>
        <p:spPr>
          <a:xfrm>
            <a:off x="1206360" y="676440"/>
            <a:ext cx="4445280" cy="3333600"/>
          </a:xfrm>
          <a:prstGeom prst="rect">
            <a:avLst/>
          </a:prstGeom>
          <a:ln w="0">
            <a:noFill/>
          </a:ln>
        </p:spPr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912960" y="4238640"/>
            <a:ext cx="502920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"/>
          <p:cNvSpPr txBox="1"/>
          <p:nvPr/>
        </p:nvSpPr>
        <p:spPr>
          <a:xfrm>
            <a:off x="3879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191D2CF-AB9E-4D6D-8A5B-E6D695FD9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 txBox="1"/>
          <p:nvPr/>
        </p:nvSpPr>
        <p:spPr>
          <a:xfrm>
            <a:off x="-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 txBox="1"/>
          <p:nvPr/>
        </p:nvSpPr>
        <p:spPr>
          <a:xfrm>
            <a:off x="-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79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884760" y="-1440"/>
            <a:ext cx="29732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884760" y="8477280"/>
            <a:ext cx="297324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-1440" y="8477280"/>
            <a:ext cx="29718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-1440" y="-144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PlaceHolder 1"/>
          <p:cNvSpPr>
            <a:spLocks noGrp="1"/>
          </p:cNvSpPr>
          <p:nvPr>
            <p:ph type="sldImg"/>
          </p:nvPr>
        </p:nvSpPr>
        <p:spPr>
          <a:xfrm>
            <a:off x="1206360" y="676440"/>
            <a:ext cx="4445280" cy="3333600"/>
          </a:xfrm>
          <a:prstGeom prst="rect">
            <a:avLst/>
          </a:prstGeom>
          <a:ln w="0">
            <a:noFill/>
          </a:ln>
        </p:spPr>
      </p:sp>
      <p:sp>
        <p:nvSpPr>
          <p:cNvPr id="1696" name="PlaceHolder 2"/>
          <p:cNvSpPr>
            <a:spLocks noGrp="1"/>
          </p:cNvSpPr>
          <p:nvPr>
            <p:ph type="body"/>
          </p:nvPr>
        </p:nvSpPr>
        <p:spPr>
          <a:xfrm>
            <a:off x="912960" y="4238640"/>
            <a:ext cx="502920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 txBox="1"/>
          <p:nvPr/>
        </p:nvSpPr>
        <p:spPr>
          <a:xfrm>
            <a:off x="3879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85CA3C6-E9D9-4B91-88B9-485E10B65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 txBox="1"/>
          <p:nvPr/>
        </p:nvSpPr>
        <p:spPr>
          <a:xfrm>
            <a:off x="-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 txBox="1"/>
          <p:nvPr/>
        </p:nvSpPr>
        <p:spPr>
          <a:xfrm>
            <a:off x="-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3879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PlaceHolder 1"/>
          <p:cNvSpPr>
            <a:spLocks noGrp="1"/>
          </p:cNvSpPr>
          <p:nvPr>
            <p:ph type="sldImg"/>
          </p:nvPr>
        </p:nvSpPr>
        <p:spPr>
          <a:xfrm>
            <a:off x="1195560" y="671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1702" name="PlaceHolder 2"/>
          <p:cNvSpPr>
            <a:spLocks noGrp="1"/>
          </p:cNvSpPr>
          <p:nvPr>
            <p:ph type="body"/>
          </p:nvPr>
        </p:nvSpPr>
        <p:spPr>
          <a:xfrm>
            <a:off x="922320" y="4240080"/>
            <a:ext cx="501336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"/>
          <p:cNvSpPr txBox="1"/>
          <p:nvPr/>
        </p:nvSpPr>
        <p:spPr>
          <a:xfrm>
            <a:off x="3879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840E967-EEF5-437C-A859-3FBC0FB81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 txBox="1"/>
          <p:nvPr/>
        </p:nvSpPr>
        <p:spPr>
          <a:xfrm>
            <a:off x="-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 txBox="1"/>
          <p:nvPr/>
        </p:nvSpPr>
        <p:spPr>
          <a:xfrm>
            <a:off x="-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 txBox="1"/>
          <p:nvPr/>
        </p:nvSpPr>
        <p:spPr>
          <a:xfrm>
            <a:off x="3879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PlaceHolder 1"/>
          <p:cNvSpPr>
            <a:spLocks noGrp="1"/>
          </p:cNvSpPr>
          <p:nvPr>
            <p:ph type="sldImg"/>
          </p:nvPr>
        </p:nvSpPr>
        <p:spPr>
          <a:xfrm>
            <a:off x="1204920" y="676440"/>
            <a:ext cx="4444920" cy="3333600"/>
          </a:xfrm>
          <a:prstGeom prst="rect">
            <a:avLst/>
          </a:prstGeom>
          <a:ln w="0">
            <a:noFill/>
          </a:ln>
        </p:spPr>
      </p:sp>
      <p:sp>
        <p:nvSpPr>
          <p:cNvPr id="1708" name="PlaceHolder 2"/>
          <p:cNvSpPr>
            <a:spLocks noGrp="1"/>
          </p:cNvSpPr>
          <p:nvPr>
            <p:ph type="body"/>
          </p:nvPr>
        </p:nvSpPr>
        <p:spPr>
          <a:xfrm>
            <a:off x="914400" y="4238280"/>
            <a:ext cx="50292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"/>
          <p:cNvSpPr txBox="1"/>
          <p:nvPr/>
        </p:nvSpPr>
        <p:spPr>
          <a:xfrm>
            <a:off x="3879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12DB814-E189-433D-9DA9-CFF7D07FC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 txBox="1"/>
          <p:nvPr/>
        </p:nvSpPr>
        <p:spPr>
          <a:xfrm>
            <a:off x="-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 txBox="1"/>
          <p:nvPr/>
        </p:nvSpPr>
        <p:spPr>
          <a:xfrm>
            <a:off x="-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 txBox="1"/>
          <p:nvPr/>
        </p:nvSpPr>
        <p:spPr>
          <a:xfrm>
            <a:off x="3879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sldImg"/>
          </p:nvPr>
        </p:nvSpPr>
        <p:spPr>
          <a:xfrm>
            <a:off x="1204920" y="676440"/>
            <a:ext cx="4444920" cy="3333600"/>
          </a:xfrm>
          <a:prstGeom prst="rect">
            <a:avLst/>
          </a:prstGeom>
          <a:ln w="0">
            <a:noFill/>
          </a:ln>
        </p:spPr>
      </p:sp>
      <p:sp>
        <p:nvSpPr>
          <p:cNvPr id="1714" name="PlaceHolder 2"/>
          <p:cNvSpPr>
            <a:spLocks noGrp="1"/>
          </p:cNvSpPr>
          <p:nvPr>
            <p:ph type="body"/>
          </p:nvPr>
        </p:nvSpPr>
        <p:spPr>
          <a:xfrm>
            <a:off x="914400" y="4238280"/>
            <a:ext cx="50292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"/>
          <p:cNvSpPr txBox="1"/>
          <p:nvPr/>
        </p:nvSpPr>
        <p:spPr>
          <a:xfrm>
            <a:off x="3879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0635318-5200-414A-B8E3-5C73C9227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 txBox="1"/>
          <p:nvPr/>
        </p:nvSpPr>
        <p:spPr>
          <a:xfrm>
            <a:off x="-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-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3879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body"/>
          </p:nvPr>
        </p:nvSpPr>
        <p:spPr>
          <a:xfrm>
            <a:off x="914400" y="4239720"/>
            <a:ext cx="5029200" cy="40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 type="sldImg"/>
          </p:nvPr>
        </p:nvSpPr>
        <p:spPr>
          <a:xfrm>
            <a:off x="1200240" y="671400"/>
            <a:ext cx="4457520" cy="33433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"/>
          <p:cNvSpPr txBox="1"/>
          <p:nvPr/>
        </p:nvSpPr>
        <p:spPr>
          <a:xfrm>
            <a:off x="3879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2F82714-3967-4C9C-AA7A-7BA3DB415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 txBox="1"/>
          <p:nvPr/>
        </p:nvSpPr>
        <p:spPr>
          <a:xfrm>
            <a:off x="-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 txBox="1"/>
          <p:nvPr/>
        </p:nvSpPr>
        <p:spPr>
          <a:xfrm>
            <a:off x="-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 txBox="1"/>
          <p:nvPr/>
        </p:nvSpPr>
        <p:spPr>
          <a:xfrm>
            <a:off x="3879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body"/>
          </p:nvPr>
        </p:nvSpPr>
        <p:spPr>
          <a:xfrm>
            <a:off x="1136520" y="4619520"/>
            <a:ext cx="4484880" cy="32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 type="sldImg"/>
          </p:nvPr>
        </p:nvSpPr>
        <p:spPr>
          <a:xfrm>
            <a:off x="901800" y="449280"/>
            <a:ext cx="5054400" cy="37893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C38F-5284-4F24-A9CC-1A8392A36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45FF-F94A-408D-B5AF-295A689C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EE1C-7C54-44AD-88F8-D4DCC28A9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B234-DC41-4B7C-BE48-EB36BFB98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4846-0BEF-4181-A6C5-DB398E5DF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3206-CD45-4502-AA9A-FEC70577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1505-EC7F-4C4A-A110-08071BB1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01B3-5C6E-42EF-9FAC-55B4F463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03BF-90AE-4A90-8590-42AD6E9A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35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3F76-C860-4551-BFD3-7A44AD22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48C5-7CDE-46F1-B56E-FF45127A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EBE4-709A-416D-9A81-CB47A94B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93A9-E5A3-4CC1-BB42-0F8C5D25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4000-219C-4370-9784-2AE938AD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A7D6-8F81-4FFB-96E1-09312089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024C-8245-4071-B042-B70CBA2A5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B309-F68B-4CD6-A1EA-3F9BB91F4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26D4-FE46-47DC-BED9-EAA0DE09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DC7C-BFEA-47B3-A613-CA7028CB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DCFE-D2BB-4AD7-ABF2-D5036505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35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32FB-82A9-47B0-8133-22066953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FF57-5653-4DF0-9C1D-D2C6EDFB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CD66-D909-4FA4-A56E-97BD0DCC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348F-4FC4-4533-8FD5-930FD1DC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F0DB-8B41-45EE-99BE-3E11FD59F4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pic>
        <p:nvPicPr>
          <p:cNvPr id="5" name="ACTIVEX" descr=""/>
          <p:cNvPicPr/>
          <p:nvPr/>
        </p:nvPicPr>
        <p:blipFill>
          <a:blip r:embed="rId3"/>
          <a:stretch/>
        </p:blipFill>
        <p:spPr>
          <a:xfrm>
            <a:off x="990720" y="1282680"/>
            <a:ext cx="7467480" cy="43560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E48D-C272-4D6D-8FD4-74E5038B3D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133720" y="3124080"/>
            <a:ext cx="64008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n Overview of ActiveX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harlie Kind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chitect &amp; Chief Technical Advis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icrosoft Developer Relations Group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ACTIVEX" descr=""/>
          <p:cNvPicPr/>
          <p:nvPr/>
        </p:nvPicPr>
        <p:blipFill>
          <a:blip r:embed="rId1"/>
          <a:stretch/>
        </p:blipFill>
        <p:spPr>
          <a:xfrm>
            <a:off x="932040" y="438120"/>
            <a:ext cx="242064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o Benefit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software vend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 components in any language, any development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l independently or in bund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o central coordination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porate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y from competitive market rather than bui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rojects benefit from component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one doing software 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 Archite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“ORB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ponent Object Mod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s, Components,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ary stand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re-level stand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 Fundamental Principles</a:t>
            </a:r>
            <a:br>
              <a:rPr sz="4000"/>
            </a:b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What the designers of COM were striving for..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15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inar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programm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location (in-process, cross-process, cross-machi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o centralized auth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ero sacrifice in-proc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lest model poss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extensibility and adap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 Princip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Encaps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 box -- no leakage of implementation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bject manipulation through strict 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a multiple 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interfa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er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overable”: Query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7238880" y="5486400"/>
            <a:ext cx="160020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OM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924680" y="4876920"/>
            <a:ext cx="254160" cy="561960"/>
            <a:chOff x="7924680" y="4876920"/>
            <a:chExt cx="254160" cy="561960"/>
          </a:xfrm>
        </p:grpSpPr>
        <p:sp>
          <p:nvSpPr>
            <p:cNvPr id="129" name=""/>
            <p:cNvSpPr/>
            <p:nvPr/>
          </p:nvSpPr>
          <p:spPr>
            <a:xfrm>
              <a:off x="8055000" y="5134320"/>
              <a:ext cx="0" cy="304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924680" y="487692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53e3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553080" y="5638680"/>
            <a:ext cx="610920" cy="253800"/>
            <a:chOff x="6553080" y="5638680"/>
            <a:chExt cx="610920" cy="253800"/>
          </a:xfrm>
        </p:grpSpPr>
        <p:sp>
          <p:nvSpPr>
            <p:cNvPr id="132" name=""/>
            <p:cNvSpPr/>
            <p:nvPr/>
          </p:nvSpPr>
          <p:spPr>
            <a:xfrm>
              <a:off x="6553080" y="563868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53e3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6813000" y="5784480"/>
              <a:ext cx="351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553080" y="6095880"/>
            <a:ext cx="610920" cy="253800"/>
            <a:chOff x="6553080" y="6095880"/>
            <a:chExt cx="610920" cy="253800"/>
          </a:xfrm>
        </p:grpSpPr>
        <p:sp>
          <p:nvSpPr>
            <p:cNvPr id="135" name=""/>
            <p:cNvSpPr/>
            <p:nvPr/>
          </p:nvSpPr>
          <p:spPr>
            <a:xfrm>
              <a:off x="6553080" y="609588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53e3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6813000" y="6241680"/>
              <a:ext cx="351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7848000" y="4572000"/>
            <a:ext cx="8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Unkn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5880" y="632448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b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5410080"/>
            <a:ext cx="8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isp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sn’t COM about “Objects”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… COM sets out to solve system software problems that arise when hooking up randomly evolving combinations of bi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s … from the perspective of these new kinds of objects also called “component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ditional object concepts used (but adapted) to solve a different (but overlapping) set of requirements in a different problem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services can be called more naturally from O-O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OT complements language 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 Archite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482760" y="1936800"/>
            <a:ext cx="8254800" cy="377820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9640" y="2352600"/>
            <a:ext cx="1192320" cy="679680"/>
          </a:xfrm>
          <a:custGeom>
            <a:avLst/>
            <a:gdLst/>
            <a:ahLst/>
            <a:rect l="l" t="t" r="r" b="b"/>
            <a:pathLst>
              <a:path w="751" h="428">
                <a:moveTo>
                  <a:pt x="107" y="427"/>
                </a:moveTo>
                <a:lnTo>
                  <a:pt x="643" y="427"/>
                </a:lnTo>
                <a:lnTo>
                  <a:pt x="668" y="424"/>
                </a:lnTo>
                <a:lnTo>
                  <a:pt x="690" y="417"/>
                </a:lnTo>
                <a:lnTo>
                  <a:pt x="710" y="404"/>
                </a:lnTo>
                <a:lnTo>
                  <a:pt x="728" y="387"/>
                </a:lnTo>
                <a:lnTo>
                  <a:pt x="740" y="367"/>
                </a:lnTo>
                <a:lnTo>
                  <a:pt x="748" y="344"/>
                </a:lnTo>
                <a:lnTo>
                  <a:pt x="750" y="320"/>
                </a:lnTo>
                <a:lnTo>
                  <a:pt x="750" y="107"/>
                </a:lnTo>
                <a:lnTo>
                  <a:pt x="748" y="84"/>
                </a:lnTo>
                <a:lnTo>
                  <a:pt x="740" y="61"/>
                </a:lnTo>
                <a:lnTo>
                  <a:pt x="728" y="41"/>
                </a:lnTo>
                <a:lnTo>
                  <a:pt x="710" y="24"/>
                </a:lnTo>
                <a:lnTo>
                  <a:pt x="690" y="11"/>
                </a:lnTo>
                <a:lnTo>
                  <a:pt x="668" y="3"/>
                </a:lnTo>
                <a:lnTo>
                  <a:pt x="643" y="0"/>
                </a:lnTo>
                <a:lnTo>
                  <a:pt x="107" y="0"/>
                </a:lnTo>
                <a:lnTo>
                  <a:pt x="84" y="3"/>
                </a:lnTo>
                <a:lnTo>
                  <a:pt x="62" y="11"/>
                </a:lnTo>
                <a:lnTo>
                  <a:pt x="42" y="24"/>
                </a:lnTo>
                <a:lnTo>
                  <a:pt x="24" y="41"/>
                </a:lnTo>
                <a:lnTo>
                  <a:pt x="11" y="61"/>
                </a:lnTo>
                <a:lnTo>
                  <a:pt x="3" y="84"/>
                </a:lnTo>
                <a:lnTo>
                  <a:pt x="0" y="107"/>
                </a:lnTo>
                <a:lnTo>
                  <a:pt x="0" y="320"/>
                </a:lnTo>
                <a:lnTo>
                  <a:pt x="3" y="344"/>
                </a:lnTo>
                <a:lnTo>
                  <a:pt x="11" y="367"/>
                </a:lnTo>
                <a:lnTo>
                  <a:pt x="24" y="387"/>
                </a:lnTo>
                <a:lnTo>
                  <a:pt x="42" y="404"/>
                </a:lnTo>
                <a:lnTo>
                  <a:pt x="62" y="417"/>
                </a:lnTo>
                <a:lnTo>
                  <a:pt x="84" y="424"/>
                </a:lnTo>
                <a:lnTo>
                  <a:pt x="107" y="427"/>
                </a:lnTo>
              </a:path>
            </a:pathLst>
          </a:custGeom>
          <a:gradFill rotWithShape="0">
            <a:gsLst>
              <a:gs pos="0">
                <a:srgbClr val="4fa1f0"/>
              </a:gs>
              <a:gs pos="100000">
                <a:srgbClr val="3e80bf"/>
              </a:gs>
            </a:gsLst>
            <a:lin ang="13500000"/>
          </a:gra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11960" y="2532240"/>
            <a:ext cx="747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05680" y="2352600"/>
            <a:ext cx="1276200" cy="679680"/>
          </a:xfrm>
          <a:custGeom>
            <a:avLst/>
            <a:gdLst/>
            <a:ahLst/>
            <a:rect l="l" t="t" r="r" b="b"/>
            <a:pathLst>
              <a:path w="752" h="428">
                <a:moveTo>
                  <a:pt x="108" y="427"/>
                </a:moveTo>
                <a:lnTo>
                  <a:pt x="644" y="427"/>
                </a:lnTo>
                <a:lnTo>
                  <a:pt x="668" y="424"/>
                </a:lnTo>
                <a:lnTo>
                  <a:pt x="691" y="417"/>
                </a:lnTo>
                <a:lnTo>
                  <a:pt x="711" y="404"/>
                </a:lnTo>
                <a:lnTo>
                  <a:pt x="728" y="387"/>
                </a:lnTo>
                <a:lnTo>
                  <a:pt x="741" y="367"/>
                </a:lnTo>
                <a:lnTo>
                  <a:pt x="748" y="344"/>
                </a:lnTo>
                <a:lnTo>
                  <a:pt x="751" y="320"/>
                </a:lnTo>
                <a:lnTo>
                  <a:pt x="751" y="107"/>
                </a:lnTo>
                <a:lnTo>
                  <a:pt x="748" y="84"/>
                </a:lnTo>
                <a:lnTo>
                  <a:pt x="741" y="61"/>
                </a:lnTo>
                <a:lnTo>
                  <a:pt x="728" y="41"/>
                </a:lnTo>
                <a:lnTo>
                  <a:pt x="711" y="24"/>
                </a:lnTo>
                <a:lnTo>
                  <a:pt x="691" y="11"/>
                </a:lnTo>
                <a:lnTo>
                  <a:pt x="668" y="3"/>
                </a:lnTo>
                <a:lnTo>
                  <a:pt x="644" y="0"/>
                </a:lnTo>
                <a:lnTo>
                  <a:pt x="108" y="0"/>
                </a:lnTo>
                <a:lnTo>
                  <a:pt x="85" y="3"/>
                </a:lnTo>
                <a:lnTo>
                  <a:pt x="62" y="11"/>
                </a:lnTo>
                <a:lnTo>
                  <a:pt x="42" y="24"/>
                </a:lnTo>
                <a:lnTo>
                  <a:pt x="25" y="41"/>
                </a:lnTo>
                <a:lnTo>
                  <a:pt x="12" y="61"/>
                </a:lnTo>
                <a:lnTo>
                  <a:pt x="3" y="84"/>
                </a:lnTo>
                <a:lnTo>
                  <a:pt x="0" y="107"/>
                </a:lnTo>
                <a:lnTo>
                  <a:pt x="0" y="320"/>
                </a:lnTo>
                <a:lnTo>
                  <a:pt x="3" y="344"/>
                </a:lnTo>
                <a:lnTo>
                  <a:pt x="12" y="367"/>
                </a:lnTo>
                <a:lnTo>
                  <a:pt x="25" y="387"/>
                </a:lnTo>
                <a:lnTo>
                  <a:pt x="42" y="404"/>
                </a:lnTo>
                <a:lnTo>
                  <a:pt x="62" y="417"/>
                </a:lnTo>
                <a:lnTo>
                  <a:pt x="85" y="424"/>
                </a:lnTo>
                <a:lnTo>
                  <a:pt x="108" y="427"/>
                </a:lnTo>
              </a:path>
            </a:pathLst>
          </a:custGeom>
          <a:gradFill rotWithShape="0">
            <a:gsLst>
              <a:gs pos="0">
                <a:srgbClr val="4fa1f0"/>
              </a:gs>
              <a:gs pos="100000">
                <a:srgbClr val="3e80bf"/>
              </a:gs>
            </a:gsLst>
            <a:lin ang="13500000"/>
          </a:gra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88040" y="2550960"/>
            <a:ext cx="1308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851520" y="2651040"/>
            <a:ext cx="254160" cy="84240"/>
            <a:chOff x="6851520" y="2651040"/>
            <a:chExt cx="254160" cy="84240"/>
          </a:xfrm>
        </p:grpSpPr>
        <p:sp>
          <p:nvSpPr>
            <p:cNvPr id="151" name=""/>
            <p:cNvSpPr/>
            <p:nvPr/>
          </p:nvSpPr>
          <p:spPr>
            <a:xfrm>
              <a:off x="6935760" y="2690640"/>
              <a:ext cx="169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51520" y="2651040"/>
              <a:ext cx="85680" cy="8424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25"/>
                  </a:moveTo>
                  <a:lnTo>
                    <a:pt x="3" y="14"/>
                  </a:lnTo>
                  <a:lnTo>
                    <a:pt x="10" y="5"/>
                  </a:lnTo>
                  <a:lnTo>
                    <a:pt x="20" y="0"/>
                  </a:lnTo>
                  <a:lnTo>
                    <a:pt x="33" y="0"/>
                  </a:lnTo>
                  <a:lnTo>
                    <a:pt x="43" y="5"/>
                  </a:lnTo>
                  <a:lnTo>
                    <a:pt x="52" y="14"/>
                  </a:lnTo>
                  <a:lnTo>
                    <a:pt x="53" y="25"/>
                  </a:lnTo>
                  <a:lnTo>
                    <a:pt x="52" y="37"/>
                  </a:lnTo>
                  <a:lnTo>
                    <a:pt x="43" y="47"/>
                  </a:lnTo>
                  <a:lnTo>
                    <a:pt x="33" y="52"/>
                  </a:lnTo>
                  <a:lnTo>
                    <a:pt x="20" y="52"/>
                  </a:lnTo>
                  <a:lnTo>
                    <a:pt x="10" y="47"/>
                  </a:lnTo>
                  <a:lnTo>
                    <a:pt x="3" y="37"/>
                  </a:lnTo>
                  <a:lnTo>
                    <a:pt x="0" y="25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987560" y="2690640"/>
            <a:ext cx="4846680" cy="1009440"/>
            <a:chOff x="1987560" y="2690640"/>
            <a:chExt cx="4846680" cy="1009440"/>
          </a:xfrm>
        </p:grpSpPr>
        <p:sp>
          <p:nvSpPr>
            <p:cNvPr id="154" name=""/>
            <p:cNvSpPr/>
            <p:nvPr/>
          </p:nvSpPr>
          <p:spPr>
            <a:xfrm>
              <a:off x="1987560" y="2690640"/>
              <a:ext cx="484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40040" y="3241800"/>
              <a:ext cx="1623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000160" y="2685960"/>
            <a:ext cx="33660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362320" y="2362320"/>
            <a:ext cx="4502880" cy="1196280"/>
            <a:chOff x="2362320" y="2362320"/>
            <a:chExt cx="4502880" cy="1196280"/>
          </a:xfrm>
        </p:grpSpPr>
        <p:sp>
          <p:nvSpPr>
            <p:cNvPr id="158" name=""/>
            <p:cNvSpPr/>
            <p:nvPr/>
          </p:nvSpPr>
          <p:spPr>
            <a:xfrm>
              <a:off x="2362320" y="3040200"/>
              <a:ext cx="1022040" cy="511200"/>
            </a:xfrm>
            <a:custGeom>
              <a:avLst/>
              <a:gdLst/>
              <a:ahLst/>
              <a:rect l="l" t="t" r="r" b="b"/>
              <a:pathLst>
                <a:path w="644" h="322">
                  <a:moveTo>
                    <a:pt x="0" y="321"/>
                  </a:moveTo>
                  <a:lnTo>
                    <a:pt x="643" y="321"/>
                  </a:lnTo>
                  <a:lnTo>
                    <a:pt x="643" y="0"/>
                  </a:lnTo>
                  <a:lnTo>
                    <a:pt x="0" y="0"/>
                  </a:lnTo>
                  <a:lnTo>
                    <a:pt x="0" y="321"/>
                  </a:lnTo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8d"/>
                </a:gs>
              </a:gsLst>
              <a:lin ang="13500000"/>
            </a:gra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2362320" y="2362320"/>
              <a:ext cx="4502880" cy="1196280"/>
              <a:chOff x="2362320" y="2362320"/>
              <a:chExt cx="4502880" cy="1196280"/>
            </a:xfrm>
          </p:grpSpPr>
          <p:grpSp>
            <p:nvGrpSpPr>
              <p:cNvPr id="160" name=""/>
              <p:cNvGrpSpPr/>
              <p:nvPr/>
            </p:nvGrpSpPr>
            <p:grpSpPr>
              <a:xfrm>
                <a:off x="2362320" y="2362320"/>
                <a:ext cx="4502880" cy="1196280"/>
                <a:chOff x="2362320" y="2362320"/>
                <a:chExt cx="4502880" cy="119628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2362320" y="2362320"/>
                  <a:ext cx="1702800" cy="679680"/>
                  <a:chOff x="2362320" y="2362320"/>
                  <a:chExt cx="1702800" cy="67968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2701800" y="2362320"/>
                    <a:ext cx="1363320" cy="679680"/>
                  </a:xfrm>
                  <a:custGeom>
                    <a:avLst/>
                    <a:gdLst/>
                    <a:ahLst/>
                    <a:rect l="l" t="t" r="r" b="b"/>
                    <a:pathLst>
                      <a:path w="859" h="428">
                        <a:moveTo>
                          <a:pt x="107" y="427"/>
                        </a:moveTo>
                        <a:lnTo>
                          <a:pt x="751" y="427"/>
                        </a:lnTo>
                        <a:lnTo>
                          <a:pt x="775" y="424"/>
                        </a:lnTo>
                        <a:lnTo>
                          <a:pt x="798" y="417"/>
                        </a:lnTo>
                        <a:lnTo>
                          <a:pt x="818" y="404"/>
                        </a:lnTo>
                        <a:lnTo>
                          <a:pt x="835" y="387"/>
                        </a:lnTo>
                        <a:lnTo>
                          <a:pt x="848" y="367"/>
                        </a:lnTo>
                        <a:lnTo>
                          <a:pt x="855" y="344"/>
                        </a:lnTo>
                        <a:lnTo>
                          <a:pt x="858" y="320"/>
                        </a:lnTo>
                        <a:lnTo>
                          <a:pt x="858" y="107"/>
                        </a:lnTo>
                        <a:lnTo>
                          <a:pt x="855" y="84"/>
                        </a:lnTo>
                        <a:lnTo>
                          <a:pt x="848" y="61"/>
                        </a:lnTo>
                        <a:lnTo>
                          <a:pt x="835" y="41"/>
                        </a:lnTo>
                        <a:lnTo>
                          <a:pt x="818" y="24"/>
                        </a:lnTo>
                        <a:lnTo>
                          <a:pt x="798" y="11"/>
                        </a:lnTo>
                        <a:lnTo>
                          <a:pt x="775" y="3"/>
                        </a:lnTo>
                        <a:lnTo>
                          <a:pt x="751" y="0"/>
                        </a:lnTo>
                        <a:lnTo>
                          <a:pt x="107" y="0"/>
                        </a:lnTo>
                        <a:lnTo>
                          <a:pt x="85" y="3"/>
                        </a:lnTo>
                        <a:lnTo>
                          <a:pt x="62" y="11"/>
                        </a:lnTo>
                        <a:lnTo>
                          <a:pt x="42" y="24"/>
                        </a:lnTo>
                        <a:lnTo>
                          <a:pt x="25" y="41"/>
                        </a:lnTo>
                        <a:lnTo>
                          <a:pt x="12" y="61"/>
                        </a:lnTo>
                        <a:lnTo>
                          <a:pt x="3" y="84"/>
                        </a:lnTo>
                        <a:lnTo>
                          <a:pt x="0" y="107"/>
                        </a:lnTo>
                        <a:lnTo>
                          <a:pt x="0" y="320"/>
                        </a:lnTo>
                        <a:lnTo>
                          <a:pt x="3" y="344"/>
                        </a:lnTo>
                        <a:lnTo>
                          <a:pt x="12" y="367"/>
                        </a:lnTo>
                        <a:lnTo>
                          <a:pt x="25" y="387"/>
                        </a:lnTo>
                        <a:lnTo>
                          <a:pt x="42" y="404"/>
                        </a:lnTo>
                        <a:lnTo>
                          <a:pt x="62" y="417"/>
                        </a:lnTo>
                        <a:lnTo>
                          <a:pt x="85" y="424"/>
                        </a:lnTo>
                        <a:lnTo>
                          <a:pt x="107" y="42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4f494d"/>
                      </a:gs>
                      <a:gs pos="100000">
                        <a:srgbClr val="464144"/>
                      </a:gs>
                    </a:gsLst>
                    <a:lin ang="13500000"/>
                  </a:gra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3" name=""/>
                  <p:cNvGrpSpPr/>
                  <p:nvPr/>
                </p:nvGrpSpPr>
                <p:grpSpPr>
                  <a:xfrm>
                    <a:off x="2362320" y="2660760"/>
                    <a:ext cx="339120" cy="84240"/>
                    <a:chOff x="2362320" y="2660760"/>
                    <a:chExt cx="339120" cy="84240"/>
                  </a:xfrm>
                </p:grpSpPr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447640" y="2700360"/>
                      <a:ext cx="253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2362320" y="2660760"/>
                      <a:ext cx="87120" cy="8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" h="53">
                          <a:moveTo>
                            <a:pt x="0" y="25"/>
                          </a:moveTo>
                          <a:lnTo>
                            <a:pt x="3" y="14"/>
                          </a:lnTo>
                          <a:lnTo>
                            <a:pt x="10" y="5"/>
                          </a:lnTo>
                          <a:lnTo>
                            <a:pt x="21" y="0"/>
                          </a:lnTo>
                          <a:lnTo>
                            <a:pt x="33" y="0"/>
                          </a:lnTo>
                          <a:lnTo>
                            <a:pt x="44" y="5"/>
                          </a:lnTo>
                          <a:lnTo>
                            <a:pt x="51" y="14"/>
                          </a:lnTo>
                          <a:lnTo>
                            <a:pt x="54" y="25"/>
                          </a:lnTo>
                          <a:lnTo>
                            <a:pt x="51" y="37"/>
                          </a:lnTo>
                          <a:lnTo>
                            <a:pt x="44" y="47"/>
                          </a:lnTo>
                          <a:lnTo>
                            <a:pt x="33" y="52"/>
                          </a:lnTo>
                          <a:lnTo>
                            <a:pt x="21" y="52"/>
                          </a:lnTo>
                          <a:lnTo>
                            <a:pt x="10" y="47"/>
                          </a:lnTo>
                          <a:lnTo>
                            <a:pt x="3" y="37"/>
                          </a:lnTo>
                          <a:lnTo>
                            <a:pt x="0" y="25"/>
                          </a:lnTo>
                        </a:path>
                      </a:pathLst>
                    </a:custGeom>
                    <a:noFill/>
                    <a:ln cap="rnd"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6" name=""/>
                  <p:cNvSpPr/>
                  <p:nvPr/>
                </p:nvSpPr>
                <p:spPr>
                  <a:xfrm>
                    <a:off x="2882880" y="2413080"/>
                    <a:ext cx="98352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OM</a:t>
                    </a:r>
                    <a:br>
                      <a:rPr sz="1600"/>
                    </a:b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run tim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4744800" y="3015000"/>
                  <a:ext cx="2042640" cy="543600"/>
                  <a:chOff x="4744800" y="3015000"/>
                  <a:chExt cx="2042640" cy="54360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>
                    <a:off x="5765400" y="3040200"/>
                    <a:ext cx="1022040" cy="511200"/>
                  </a:xfrm>
                  <a:custGeom>
                    <a:avLst/>
                    <a:gdLst/>
                    <a:ahLst/>
                    <a:rect l="l" t="t" r="r" b="b"/>
                    <a:pathLst>
                      <a:path w="644" h="322">
                        <a:moveTo>
                          <a:pt x="0" y="321"/>
                        </a:moveTo>
                        <a:lnTo>
                          <a:pt x="643" y="321"/>
                        </a:lnTo>
                        <a:lnTo>
                          <a:pt x="643" y="0"/>
                        </a:lnTo>
                        <a:lnTo>
                          <a:pt x="0" y="0"/>
                        </a:lnTo>
                        <a:lnTo>
                          <a:pt x="0" y="321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66ff"/>
                      </a:gs>
                      <a:gs pos="100000">
                        <a:srgbClr val="b146b1"/>
                      </a:gs>
                    </a:gsLst>
                    <a:lin ang="13500000"/>
                  </a:gra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4744800" y="3040200"/>
                    <a:ext cx="1022040" cy="511200"/>
                  </a:xfrm>
                  <a:custGeom>
                    <a:avLst/>
                    <a:gdLst/>
                    <a:ahLst/>
                    <a:rect l="l" t="t" r="r" b="b"/>
                    <a:pathLst>
                      <a:path w="644" h="322">
                        <a:moveTo>
                          <a:pt x="0" y="321"/>
                        </a:moveTo>
                        <a:lnTo>
                          <a:pt x="643" y="321"/>
                        </a:lnTo>
                        <a:lnTo>
                          <a:pt x="643" y="0"/>
                        </a:lnTo>
                        <a:lnTo>
                          <a:pt x="0" y="0"/>
                        </a:lnTo>
                        <a:lnTo>
                          <a:pt x="0" y="321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00cc"/>
                      </a:gs>
                      <a:gs pos="100000">
                        <a:srgbClr val="00008d"/>
                      </a:gs>
                    </a:gsLst>
                    <a:lin ang="13500000"/>
                  </a:gra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4782960" y="3222720"/>
                    <a:ext cx="99576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rovide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4801680" y="3015000"/>
                    <a:ext cx="98532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Security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5747760" y="3148200"/>
                    <a:ext cx="78264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   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RPC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5084640" y="2362320"/>
                  <a:ext cx="1780560" cy="679680"/>
                  <a:chOff x="5084640" y="2362320"/>
                  <a:chExt cx="1780560" cy="67968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>
                    <a:off x="5084640" y="2362320"/>
                    <a:ext cx="1363320" cy="679680"/>
                  </a:xfrm>
                  <a:custGeom>
                    <a:avLst/>
                    <a:gdLst/>
                    <a:ahLst/>
                    <a:rect l="l" t="t" r="r" b="b"/>
                    <a:pathLst>
                      <a:path w="859" h="428">
                        <a:moveTo>
                          <a:pt x="107" y="427"/>
                        </a:moveTo>
                        <a:lnTo>
                          <a:pt x="750" y="427"/>
                        </a:lnTo>
                        <a:lnTo>
                          <a:pt x="775" y="424"/>
                        </a:lnTo>
                        <a:lnTo>
                          <a:pt x="798" y="417"/>
                        </a:lnTo>
                        <a:lnTo>
                          <a:pt x="818" y="404"/>
                        </a:lnTo>
                        <a:lnTo>
                          <a:pt x="835" y="387"/>
                        </a:lnTo>
                        <a:lnTo>
                          <a:pt x="848" y="367"/>
                        </a:lnTo>
                        <a:lnTo>
                          <a:pt x="855" y="344"/>
                        </a:lnTo>
                        <a:lnTo>
                          <a:pt x="858" y="320"/>
                        </a:lnTo>
                        <a:lnTo>
                          <a:pt x="858" y="107"/>
                        </a:lnTo>
                        <a:lnTo>
                          <a:pt x="855" y="84"/>
                        </a:lnTo>
                        <a:lnTo>
                          <a:pt x="848" y="61"/>
                        </a:lnTo>
                        <a:lnTo>
                          <a:pt x="835" y="41"/>
                        </a:lnTo>
                        <a:lnTo>
                          <a:pt x="818" y="24"/>
                        </a:lnTo>
                        <a:lnTo>
                          <a:pt x="798" y="11"/>
                        </a:lnTo>
                        <a:lnTo>
                          <a:pt x="775" y="3"/>
                        </a:lnTo>
                        <a:lnTo>
                          <a:pt x="750" y="0"/>
                        </a:lnTo>
                        <a:lnTo>
                          <a:pt x="107" y="0"/>
                        </a:lnTo>
                        <a:lnTo>
                          <a:pt x="84" y="3"/>
                        </a:lnTo>
                        <a:lnTo>
                          <a:pt x="61" y="11"/>
                        </a:lnTo>
                        <a:lnTo>
                          <a:pt x="41" y="24"/>
                        </a:lnTo>
                        <a:lnTo>
                          <a:pt x="24" y="41"/>
                        </a:lnTo>
                        <a:lnTo>
                          <a:pt x="11" y="61"/>
                        </a:lnTo>
                        <a:lnTo>
                          <a:pt x="3" y="84"/>
                        </a:lnTo>
                        <a:lnTo>
                          <a:pt x="0" y="107"/>
                        </a:lnTo>
                        <a:lnTo>
                          <a:pt x="0" y="320"/>
                        </a:lnTo>
                        <a:lnTo>
                          <a:pt x="3" y="344"/>
                        </a:lnTo>
                        <a:lnTo>
                          <a:pt x="11" y="367"/>
                        </a:lnTo>
                        <a:lnTo>
                          <a:pt x="24" y="387"/>
                        </a:lnTo>
                        <a:lnTo>
                          <a:pt x="41" y="404"/>
                        </a:lnTo>
                        <a:lnTo>
                          <a:pt x="61" y="417"/>
                        </a:lnTo>
                        <a:lnTo>
                          <a:pt x="84" y="424"/>
                        </a:lnTo>
                        <a:lnTo>
                          <a:pt x="107" y="42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4f494d"/>
                      </a:gs>
                      <a:gs pos="100000">
                        <a:srgbClr val="464144"/>
                      </a:gs>
                    </a:gsLst>
                    <a:lin ang="13500000"/>
                  </a:gra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5283000" y="2413080"/>
                    <a:ext cx="98352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OM</a:t>
                    </a:r>
                    <a:br>
                      <a:rPr sz="1600"/>
                    </a:b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run tim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6440040" y="2702160"/>
                    <a:ext cx="425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7" name=""/>
              <p:cNvGrpSpPr/>
              <p:nvPr/>
            </p:nvGrpSpPr>
            <p:grpSpPr>
              <a:xfrm>
                <a:off x="2383200" y="3015000"/>
                <a:ext cx="2021400" cy="543600"/>
                <a:chOff x="2383200" y="3015000"/>
                <a:chExt cx="2021400" cy="54360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3382560" y="3040200"/>
                  <a:ext cx="1022040" cy="511200"/>
                </a:xfrm>
                <a:custGeom>
                  <a:avLst/>
                  <a:gdLst/>
                  <a:ahLst/>
                  <a:rect l="l" t="t" r="r" b="b"/>
                  <a:pathLst>
                    <a:path w="644" h="322">
                      <a:moveTo>
                        <a:pt x="0" y="321"/>
                      </a:moveTo>
                      <a:lnTo>
                        <a:pt x="643" y="321"/>
                      </a:lnTo>
                      <a:lnTo>
                        <a:pt x="643" y="0"/>
                      </a:lnTo>
                      <a:lnTo>
                        <a:pt x="0" y="0"/>
                      </a:lnTo>
                      <a:lnTo>
                        <a:pt x="0" y="321"/>
                      </a:lnTo>
                    </a:path>
                  </a:pathLst>
                </a:custGeom>
                <a:gradFill rotWithShape="0">
                  <a:gsLst>
                    <a:gs pos="0">
                      <a:srgbClr val="ff66ff"/>
                    </a:gs>
                    <a:gs pos="100000">
                      <a:srgbClr val="b146b1"/>
                    </a:gs>
                  </a:gsLst>
                  <a:lin ang="13500000"/>
                </a:gra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412360" y="3015000"/>
                  <a:ext cx="9853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Securit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383200" y="3222720"/>
                  <a:ext cx="9957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provid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366720" y="3148200"/>
                  <a:ext cx="8391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   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RP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2" name=""/>
          <p:cNvGrpSpPr/>
          <p:nvPr/>
        </p:nvGrpSpPr>
        <p:grpSpPr>
          <a:xfrm>
            <a:off x="2338560" y="3524400"/>
            <a:ext cx="4424040" cy="1199520"/>
            <a:chOff x="2338560" y="3524400"/>
            <a:chExt cx="4424040" cy="1199520"/>
          </a:xfrm>
        </p:grpSpPr>
        <p:sp>
          <p:nvSpPr>
            <p:cNvPr id="183" name=""/>
            <p:cNvSpPr/>
            <p:nvPr/>
          </p:nvSpPr>
          <p:spPr>
            <a:xfrm>
              <a:off x="4009680" y="4265640"/>
              <a:ext cx="980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338560" y="3524400"/>
              <a:ext cx="4424040" cy="550800"/>
              <a:chOff x="2338560" y="3524400"/>
              <a:chExt cx="4424040" cy="550800"/>
            </a:xfrm>
          </p:grpSpPr>
          <p:sp>
            <p:nvSpPr>
              <p:cNvPr id="185" name=""/>
              <p:cNvSpPr/>
              <p:nvPr/>
            </p:nvSpPr>
            <p:spPr>
              <a:xfrm>
                <a:off x="2338560" y="3524400"/>
                <a:ext cx="4424040" cy="550800"/>
              </a:xfrm>
              <a:custGeom>
                <a:avLst/>
                <a:gdLst/>
                <a:ahLst/>
                <a:rect l="l" t="t" r="r" b="b"/>
                <a:pathLst>
                  <a:path w="2787" h="347">
                    <a:moveTo>
                      <a:pt x="0" y="346"/>
                    </a:moveTo>
                    <a:lnTo>
                      <a:pt x="2786" y="346"/>
                    </a:lnTo>
                    <a:lnTo>
                      <a:pt x="2786" y="0"/>
                    </a:lnTo>
                    <a:lnTo>
                      <a:pt x="0" y="0"/>
                    </a:lnTo>
                    <a:lnTo>
                      <a:pt x="0" y="346"/>
                    </a:lnTo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51cb"/>
                  </a:gs>
                </a:gsLst>
                <a:lin ang="13500000"/>
              </a:gra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242600" y="3638520"/>
                <a:ext cx="5904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LP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7" name=""/>
          <p:cNvGrpSpPr/>
          <p:nvPr/>
        </p:nvGrpSpPr>
        <p:grpSpPr>
          <a:xfrm>
            <a:off x="2341440" y="3540240"/>
            <a:ext cx="4426200" cy="1676160"/>
            <a:chOff x="2341440" y="3540240"/>
            <a:chExt cx="4426200" cy="1676160"/>
          </a:xfrm>
        </p:grpSpPr>
        <p:grpSp>
          <p:nvGrpSpPr>
            <p:cNvPr id="188" name=""/>
            <p:cNvGrpSpPr/>
            <p:nvPr/>
          </p:nvGrpSpPr>
          <p:grpSpPr>
            <a:xfrm>
              <a:off x="2341440" y="3540240"/>
              <a:ext cx="2043360" cy="525240"/>
              <a:chOff x="2341440" y="3540240"/>
              <a:chExt cx="2043360" cy="525240"/>
            </a:xfrm>
          </p:grpSpPr>
          <p:sp>
            <p:nvSpPr>
              <p:cNvPr id="189" name=""/>
              <p:cNvSpPr/>
              <p:nvPr/>
            </p:nvSpPr>
            <p:spPr>
              <a:xfrm>
                <a:off x="2341440" y="3540240"/>
                <a:ext cx="2043360" cy="525240"/>
              </a:xfrm>
              <a:custGeom>
                <a:avLst/>
                <a:gdLst/>
                <a:ahLst/>
                <a:rect l="l" t="t" r="r" b="b"/>
                <a:pathLst>
                  <a:path w="1287" h="331">
                    <a:moveTo>
                      <a:pt x="0" y="330"/>
                    </a:moveTo>
                    <a:lnTo>
                      <a:pt x="1286" y="330"/>
                    </a:lnTo>
                    <a:lnTo>
                      <a:pt x="1286" y="0"/>
                    </a:lnTo>
                    <a:lnTo>
                      <a:pt x="0" y="0"/>
                    </a:lnTo>
                    <a:lnTo>
                      <a:pt x="0" y="330"/>
                    </a:lnTo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51cb"/>
                  </a:gs>
                </a:gsLst>
                <a:lin ang="13500000"/>
              </a:gra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576520" y="3635280"/>
                <a:ext cx="1581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rotocol stac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4724280" y="3540240"/>
              <a:ext cx="2043360" cy="525240"/>
              <a:chOff x="4724280" y="3540240"/>
              <a:chExt cx="2043360" cy="525240"/>
            </a:xfrm>
          </p:grpSpPr>
          <p:sp>
            <p:nvSpPr>
              <p:cNvPr id="192" name=""/>
              <p:cNvSpPr/>
              <p:nvPr/>
            </p:nvSpPr>
            <p:spPr>
              <a:xfrm>
                <a:off x="4724280" y="3540240"/>
                <a:ext cx="2043360" cy="525240"/>
              </a:xfrm>
              <a:custGeom>
                <a:avLst/>
                <a:gdLst/>
                <a:ahLst/>
                <a:rect l="l" t="t" r="r" b="b"/>
                <a:pathLst>
                  <a:path w="1287" h="331">
                    <a:moveTo>
                      <a:pt x="0" y="330"/>
                    </a:moveTo>
                    <a:lnTo>
                      <a:pt x="1286" y="330"/>
                    </a:lnTo>
                    <a:lnTo>
                      <a:pt x="1286" y="0"/>
                    </a:lnTo>
                    <a:lnTo>
                      <a:pt x="0" y="0"/>
                    </a:lnTo>
                    <a:lnTo>
                      <a:pt x="0" y="330"/>
                    </a:lnTo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51cb"/>
                  </a:gs>
                </a:gsLst>
                <a:lin ang="13500000"/>
              </a:gra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959360" y="3635280"/>
                <a:ext cx="1581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rotocol stac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3209760" y="4064040"/>
              <a:ext cx="2775240" cy="1152360"/>
              <a:chOff x="3209760" y="4064040"/>
              <a:chExt cx="2775240" cy="1152360"/>
            </a:xfrm>
          </p:grpSpPr>
          <p:sp>
            <p:nvSpPr>
              <p:cNvPr id="195" name=""/>
              <p:cNvSpPr/>
              <p:nvPr/>
            </p:nvSpPr>
            <p:spPr>
              <a:xfrm>
                <a:off x="3733920" y="4324320"/>
                <a:ext cx="1716120" cy="892080"/>
              </a:xfrm>
              <a:custGeom>
                <a:avLst/>
                <a:gdLst/>
                <a:ahLst/>
                <a:rect l="l" t="t" r="r" b="b"/>
                <a:pathLst>
                  <a:path w="1081" h="562">
                    <a:moveTo>
                      <a:pt x="159" y="416"/>
                    </a:moveTo>
                    <a:lnTo>
                      <a:pt x="176" y="449"/>
                    </a:lnTo>
                    <a:lnTo>
                      <a:pt x="200" y="477"/>
                    </a:lnTo>
                    <a:lnTo>
                      <a:pt x="225" y="501"/>
                    </a:lnTo>
                    <a:lnTo>
                      <a:pt x="253" y="523"/>
                    </a:lnTo>
                    <a:lnTo>
                      <a:pt x="283" y="540"/>
                    </a:lnTo>
                    <a:lnTo>
                      <a:pt x="315" y="551"/>
                    </a:lnTo>
                    <a:lnTo>
                      <a:pt x="349" y="558"/>
                    </a:lnTo>
                    <a:lnTo>
                      <a:pt x="382" y="561"/>
                    </a:lnTo>
                    <a:lnTo>
                      <a:pt x="417" y="558"/>
                    </a:lnTo>
                    <a:lnTo>
                      <a:pt x="449" y="551"/>
                    </a:lnTo>
                    <a:lnTo>
                      <a:pt x="481" y="539"/>
                    </a:lnTo>
                    <a:lnTo>
                      <a:pt x="513" y="521"/>
                    </a:lnTo>
                    <a:lnTo>
                      <a:pt x="538" y="500"/>
                    </a:lnTo>
                    <a:lnTo>
                      <a:pt x="567" y="521"/>
                    </a:lnTo>
                    <a:lnTo>
                      <a:pt x="598" y="539"/>
                    </a:lnTo>
                    <a:lnTo>
                      <a:pt x="630" y="551"/>
                    </a:lnTo>
                    <a:lnTo>
                      <a:pt x="663" y="558"/>
                    </a:lnTo>
                    <a:lnTo>
                      <a:pt x="696" y="561"/>
                    </a:lnTo>
                    <a:lnTo>
                      <a:pt x="730" y="558"/>
                    </a:lnTo>
                    <a:lnTo>
                      <a:pt x="764" y="551"/>
                    </a:lnTo>
                    <a:lnTo>
                      <a:pt x="796" y="540"/>
                    </a:lnTo>
                    <a:lnTo>
                      <a:pt x="826" y="523"/>
                    </a:lnTo>
                    <a:lnTo>
                      <a:pt x="854" y="501"/>
                    </a:lnTo>
                    <a:lnTo>
                      <a:pt x="879" y="477"/>
                    </a:lnTo>
                    <a:lnTo>
                      <a:pt x="903" y="449"/>
                    </a:lnTo>
                    <a:lnTo>
                      <a:pt x="921" y="416"/>
                    </a:lnTo>
                    <a:lnTo>
                      <a:pt x="942" y="420"/>
                    </a:lnTo>
                    <a:lnTo>
                      <a:pt x="965" y="420"/>
                    </a:lnTo>
                    <a:lnTo>
                      <a:pt x="988" y="415"/>
                    </a:lnTo>
                    <a:lnTo>
                      <a:pt x="1010" y="406"/>
                    </a:lnTo>
                    <a:lnTo>
                      <a:pt x="1030" y="392"/>
                    </a:lnTo>
                    <a:lnTo>
                      <a:pt x="1046" y="375"/>
                    </a:lnTo>
                    <a:lnTo>
                      <a:pt x="1060" y="353"/>
                    </a:lnTo>
                    <a:lnTo>
                      <a:pt x="1071" y="331"/>
                    </a:lnTo>
                    <a:lnTo>
                      <a:pt x="1076" y="306"/>
                    </a:lnTo>
                    <a:lnTo>
                      <a:pt x="1080" y="281"/>
                    </a:lnTo>
                    <a:lnTo>
                      <a:pt x="1076" y="255"/>
                    </a:lnTo>
                    <a:lnTo>
                      <a:pt x="1071" y="231"/>
                    </a:lnTo>
                    <a:lnTo>
                      <a:pt x="1060" y="208"/>
                    </a:lnTo>
                    <a:lnTo>
                      <a:pt x="1046" y="187"/>
                    </a:lnTo>
                    <a:lnTo>
                      <a:pt x="1030" y="170"/>
                    </a:lnTo>
                    <a:lnTo>
                      <a:pt x="1010" y="157"/>
                    </a:lnTo>
                    <a:lnTo>
                      <a:pt x="988" y="147"/>
                    </a:lnTo>
                    <a:lnTo>
                      <a:pt x="965" y="141"/>
                    </a:lnTo>
                    <a:lnTo>
                      <a:pt x="942" y="141"/>
                    </a:lnTo>
                    <a:lnTo>
                      <a:pt x="921" y="145"/>
                    </a:lnTo>
                    <a:lnTo>
                      <a:pt x="903" y="114"/>
                    </a:lnTo>
                    <a:lnTo>
                      <a:pt x="879" y="85"/>
                    </a:lnTo>
                    <a:lnTo>
                      <a:pt x="854" y="60"/>
                    </a:lnTo>
                    <a:lnTo>
                      <a:pt x="826" y="38"/>
                    </a:lnTo>
                    <a:lnTo>
                      <a:pt x="796" y="21"/>
                    </a:lnTo>
                    <a:lnTo>
                      <a:pt x="764" y="10"/>
                    </a:lnTo>
                    <a:lnTo>
                      <a:pt x="730" y="3"/>
                    </a:lnTo>
                    <a:lnTo>
                      <a:pt x="696" y="0"/>
                    </a:lnTo>
                    <a:lnTo>
                      <a:pt x="663" y="3"/>
                    </a:lnTo>
                    <a:lnTo>
                      <a:pt x="630" y="11"/>
                    </a:lnTo>
                    <a:lnTo>
                      <a:pt x="598" y="23"/>
                    </a:lnTo>
                    <a:lnTo>
                      <a:pt x="567" y="40"/>
                    </a:lnTo>
                    <a:lnTo>
                      <a:pt x="538" y="61"/>
                    </a:lnTo>
                    <a:lnTo>
                      <a:pt x="513" y="40"/>
                    </a:lnTo>
                    <a:lnTo>
                      <a:pt x="481" y="23"/>
                    </a:lnTo>
                    <a:lnTo>
                      <a:pt x="449" y="11"/>
                    </a:lnTo>
                    <a:lnTo>
                      <a:pt x="417" y="3"/>
                    </a:lnTo>
                    <a:lnTo>
                      <a:pt x="382" y="0"/>
                    </a:lnTo>
                    <a:lnTo>
                      <a:pt x="349" y="3"/>
                    </a:lnTo>
                    <a:lnTo>
                      <a:pt x="315" y="10"/>
                    </a:lnTo>
                    <a:lnTo>
                      <a:pt x="283" y="21"/>
                    </a:lnTo>
                    <a:lnTo>
                      <a:pt x="253" y="38"/>
                    </a:lnTo>
                    <a:lnTo>
                      <a:pt x="225" y="60"/>
                    </a:lnTo>
                    <a:lnTo>
                      <a:pt x="200" y="85"/>
                    </a:lnTo>
                    <a:lnTo>
                      <a:pt x="176" y="114"/>
                    </a:lnTo>
                    <a:lnTo>
                      <a:pt x="159" y="145"/>
                    </a:lnTo>
                    <a:lnTo>
                      <a:pt x="136" y="141"/>
                    </a:lnTo>
                    <a:lnTo>
                      <a:pt x="113" y="141"/>
                    </a:lnTo>
                    <a:lnTo>
                      <a:pt x="91" y="147"/>
                    </a:lnTo>
                    <a:lnTo>
                      <a:pt x="70" y="157"/>
                    </a:lnTo>
                    <a:lnTo>
                      <a:pt x="49" y="170"/>
                    </a:lnTo>
                    <a:lnTo>
                      <a:pt x="33" y="187"/>
                    </a:lnTo>
                    <a:lnTo>
                      <a:pt x="18" y="208"/>
                    </a:lnTo>
                    <a:lnTo>
                      <a:pt x="9" y="231"/>
                    </a:lnTo>
                    <a:lnTo>
                      <a:pt x="2" y="255"/>
                    </a:lnTo>
                    <a:lnTo>
                      <a:pt x="0" y="281"/>
                    </a:lnTo>
                    <a:lnTo>
                      <a:pt x="2" y="306"/>
                    </a:lnTo>
                    <a:lnTo>
                      <a:pt x="9" y="331"/>
                    </a:lnTo>
                    <a:lnTo>
                      <a:pt x="18" y="353"/>
                    </a:lnTo>
                    <a:lnTo>
                      <a:pt x="33" y="375"/>
                    </a:lnTo>
                    <a:lnTo>
                      <a:pt x="49" y="392"/>
                    </a:lnTo>
                    <a:lnTo>
                      <a:pt x="70" y="406"/>
                    </a:lnTo>
                    <a:lnTo>
                      <a:pt x="91" y="415"/>
                    </a:lnTo>
                    <a:lnTo>
                      <a:pt x="113" y="420"/>
                    </a:lnTo>
                    <a:lnTo>
                      <a:pt x="136" y="420"/>
                    </a:lnTo>
                    <a:lnTo>
                      <a:pt x="159" y="416"/>
                    </a:lnTo>
                  </a:path>
                </a:pathLst>
              </a:custGeom>
              <a:gradFill rotWithShape="0">
                <a:gsLst>
                  <a:gs pos="0">
                    <a:srgbClr val="4f494d"/>
                  </a:gs>
                  <a:gs pos="100000">
                    <a:srgbClr val="464144"/>
                  </a:gs>
                </a:gsLst>
                <a:lin ang="13500000"/>
              </a:gra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778560" y="4557600"/>
                <a:ext cx="17028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COM network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084200" y="4795920"/>
                <a:ext cx="9943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rotoco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3209760" y="4064040"/>
                <a:ext cx="452520" cy="708120"/>
                <a:chOff x="3209760" y="4064040"/>
                <a:chExt cx="452520" cy="7081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3209760" y="4064040"/>
                  <a:ext cx="392400" cy="639720"/>
                </a:xfrm>
                <a:custGeom>
                  <a:avLst/>
                  <a:gdLst/>
                  <a:ahLst/>
                  <a:rect l="l" t="t" r="r" b="b"/>
                  <a:pathLst>
                    <a:path w="247" h="403">
                      <a:moveTo>
                        <a:pt x="0" y="0"/>
                      </a:moveTo>
                      <a:lnTo>
                        <a:pt x="217" y="238"/>
                      </a:lnTo>
                      <a:lnTo>
                        <a:pt x="69" y="205"/>
                      </a:lnTo>
                      <a:lnTo>
                        <a:pt x="246" y="402"/>
                      </a:lnTo>
                    </a:path>
                  </a:pathLst>
                </a:custGeom>
                <a:noFill/>
                <a:ln cap="rnd"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552840" y="4656240"/>
                  <a:ext cx="109440" cy="115920"/>
                </a:xfrm>
                <a:custGeom>
                  <a:avLst/>
                  <a:gdLst/>
                  <a:ahLst/>
                  <a:rect l="l" t="t" r="r" b="b"/>
                  <a:pathLst>
                    <a:path w="69" h="73">
                      <a:moveTo>
                        <a:pt x="48" y="0"/>
                      </a:moveTo>
                      <a:lnTo>
                        <a:pt x="68" y="72"/>
                      </a:lnTo>
                      <a:lnTo>
                        <a:pt x="0" y="45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000000"/>
                </a:solidFill>
                <a:ln cap="rnd"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5524560" y="4083120"/>
                <a:ext cx="460440" cy="708120"/>
                <a:chOff x="5524560" y="4083120"/>
                <a:chExt cx="460440" cy="7081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5524560" y="4167000"/>
                  <a:ext cx="415800" cy="624240"/>
                </a:xfrm>
                <a:custGeom>
                  <a:avLst/>
                  <a:gdLst/>
                  <a:ahLst/>
                  <a:rect l="l" t="t" r="r" b="b"/>
                  <a:pathLst>
                    <a:path w="262" h="393">
                      <a:moveTo>
                        <a:pt x="0" y="392"/>
                      </a:moveTo>
                      <a:lnTo>
                        <a:pt x="124" y="95"/>
                      </a:lnTo>
                      <a:lnTo>
                        <a:pt x="157" y="243"/>
                      </a:lnTo>
                      <a:lnTo>
                        <a:pt x="261" y="0"/>
                      </a:lnTo>
                    </a:path>
                  </a:pathLst>
                </a:custGeom>
                <a:noFill/>
                <a:ln cap="rnd"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884920" y="4083120"/>
                  <a:ext cx="100080" cy="117360"/>
                </a:xfrm>
                <a:custGeom>
                  <a:avLst/>
                  <a:gdLst/>
                  <a:ahLst/>
                  <a:rect l="l" t="t" r="r" b="b"/>
                  <a:pathLst>
                    <a:path w="63" h="74">
                      <a:moveTo>
                        <a:pt x="0" y="47"/>
                      </a:moveTo>
                      <a:lnTo>
                        <a:pt x="56" y="0"/>
                      </a:lnTo>
                      <a:lnTo>
                        <a:pt x="62" y="73"/>
                      </a:lnTo>
                      <a:lnTo>
                        <a:pt x="0" y="47"/>
                      </a:lnTo>
                    </a:path>
                  </a:pathLst>
                </a:custGeom>
                <a:solidFill>
                  <a:srgbClr val="000000"/>
                </a:solidFill>
                <a:ln cap="rnd"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4" name=""/>
          <p:cNvSpPr/>
          <p:nvPr/>
        </p:nvSpPr>
        <p:spPr>
          <a:xfrm>
            <a:off x="6517080" y="4813200"/>
            <a:ext cx="1302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stributed CO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st COM “with a longer wir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COM components communicate in the same w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the sam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-process, Out-of-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a Local Area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a Wide Area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me tools, knowledge,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stributed CO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re Protoc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DCE RPC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operable with OSF DCE RPC implemen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ll it “ORPC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icient and Sca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ed in Internet-Dra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tp://ietf.org/internet-drafts/draft-brown-dcom-v1-spec-01.t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COM “ORB”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“model” is about how the technology is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“ORB” is how it’s implemen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ll it the COM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ActiveX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omponent Object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rrent Stat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38280" y="1676520"/>
            <a:ext cx="8004240" cy="103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uggable Trans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305640" y="3838680"/>
            <a:ext cx="747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8080" y="4419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 Runtime Architecture</a:t>
            </a:r>
            <a:br>
              <a:rPr sz="4000"/>
            </a:br>
            <a:r>
              <a:rPr b="0" lang="en-US" sz="2800" spc="-1" strike="noStrike">
                <a:solidFill>
                  <a:srgbClr val="ff6600"/>
                </a:solidFill>
                <a:latin typeface="Arial Black"/>
              </a:rPr>
              <a:t>Flexible and extensibl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095880" y="3359160"/>
            <a:ext cx="2743200" cy="1752480"/>
            <a:chOff x="6095880" y="3359160"/>
            <a:chExt cx="2743200" cy="1752480"/>
          </a:xfrm>
        </p:grpSpPr>
        <p:sp>
          <p:nvSpPr>
            <p:cNvPr id="216" name=""/>
            <p:cNvSpPr/>
            <p:nvPr/>
          </p:nvSpPr>
          <p:spPr>
            <a:xfrm>
              <a:off x="6095880" y="45021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238880" y="3968640"/>
              <a:ext cx="1600200" cy="1143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7924680" y="3359160"/>
              <a:ext cx="254160" cy="561960"/>
              <a:chOff x="7924680" y="3359160"/>
              <a:chExt cx="254160" cy="561960"/>
            </a:xfrm>
          </p:grpSpPr>
          <p:sp>
            <p:nvSpPr>
              <p:cNvPr id="219" name=""/>
              <p:cNvSpPr/>
              <p:nvPr/>
            </p:nvSpPr>
            <p:spPr>
              <a:xfrm>
                <a:off x="8055000" y="3616560"/>
                <a:ext cx="0" cy="3045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924680" y="3359160"/>
                <a:ext cx="254160" cy="254160"/>
              </a:xfrm>
              <a:prstGeom prst="ellipse">
                <a:avLst/>
              </a:prstGeom>
              <a:gradFill rotWithShape="0">
                <a:gsLst>
                  <a:gs pos="0">
                    <a:srgbClr val="14d3c1"/>
                  </a:gs>
                  <a:gs pos="100000">
                    <a:srgbClr val="053e39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6553080" y="4349880"/>
              <a:ext cx="610920" cy="253800"/>
              <a:chOff x="6553080" y="4349880"/>
              <a:chExt cx="610920" cy="253800"/>
            </a:xfrm>
          </p:grpSpPr>
          <p:sp>
            <p:nvSpPr>
              <p:cNvPr id="222" name=""/>
              <p:cNvSpPr/>
              <p:nvPr/>
            </p:nvSpPr>
            <p:spPr>
              <a:xfrm>
                <a:off x="6553080" y="434988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14d3c1"/>
                  </a:gs>
                  <a:gs pos="100000">
                    <a:srgbClr val="053e39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6813000" y="4495680"/>
                <a:ext cx="3510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4" name=""/>
          <p:cNvSpPr/>
          <p:nvPr/>
        </p:nvSpPr>
        <p:spPr>
          <a:xfrm rot="16200000">
            <a:off x="4495680" y="4038120"/>
            <a:ext cx="236196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OM Run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57800" y="2521080"/>
            <a:ext cx="380376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ver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2521080"/>
            <a:ext cx="335268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ient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81280" y="3429000"/>
            <a:ext cx="1600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P, 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81280" y="3886200"/>
            <a:ext cx="1600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X,IP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343400"/>
            <a:ext cx="1600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 B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81280" y="4800600"/>
            <a:ext cx="1600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5257800"/>
            <a:ext cx="1600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lco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1981080" y="4038120"/>
            <a:ext cx="236196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OM Run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371600" y="3886200"/>
            <a:ext cx="1371600" cy="837720"/>
            <a:chOff x="1371600" y="3886200"/>
            <a:chExt cx="1371600" cy="837720"/>
          </a:xfrm>
        </p:grpSpPr>
        <p:sp>
          <p:nvSpPr>
            <p:cNvPr id="234" name=""/>
            <p:cNvSpPr/>
            <p:nvPr/>
          </p:nvSpPr>
          <p:spPr>
            <a:xfrm>
              <a:off x="1783080" y="4177440"/>
              <a:ext cx="960120" cy="546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</a:rPr>
                <a:t>Prox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2194560" y="3886200"/>
              <a:ext cx="152280" cy="268200"/>
              <a:chOff x="2194560" y="3886200"/>
              <a:chExt cx="152280" cy="268200"/>
            </a:xfrm>
          </p:grpSpPr>
          <p:sp>
            <p:nvSpPr>
              <p:cNvPr id="236" name=""/>
              <p:cNvSpPr/>
              <p:nvPr/>
            </p:nvSpPr>
            <p:spPr>
              <a:xfrm>
                <a:off x="2272680" y="4008960"/>
                <a:ext cx="0" cy="145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194560" y="3886200"/>
                <a:ext cx="152280" cy="121320"/>
              </a:xfrm>
              <a:prstGeom prst="ellipse">
                <a:avLst/>
              </a:prstGeom>
              <a:gradFill rotWithShape="0">
                <a:gsLst>
                  <a:gs pos="0">
                    <a:srgbClr val="14d3c1"/>
                  </a:gs>
                  <a:gs pos="100000">
                    <a:srgbClr val="053e39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371600" y="4359960"/>
              <a:ext cx="366120" cy="121320"/>
              <a:chOff x="1371600" y="4359960"/>
              <a:chExt cx="366120" cy="121320"/>
            </a:xfrm>
          </p:grpSpPr>
          <p:sp>
            <p:nvSpPr>
              <p:cNvPr id="239" name=""/>
              <p:cNvSpPr/>
              <p:nvPr/>
            </p:nvSpPr>
            <p:spPr>
              <a:xfrm>
                <a:off x="1371600" y="4359960"/>
                <a:ext cx="152280" cy="121320"/>
              </a:xfrm>
              <a:prstGeom prst="ellipse">
                <a:avLst/>
              </a:prstGeom>
              <a:gradFill rotWithShape="0">
                <a:gsLst>
                  <a:gs pos="0">
                    <a:srgbClr val="14d3c1"/>
                  </a:gs>
                  <a:gs pos="100000">
                    <a:srgbClr val="053e39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1527480" y="4429440"/>
                <a:ext cx="2102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"/>
          <p:cNvSpPr/>
          <p:nvPr/>
        </p:nvSpPr>
        <p:spPr>
          <a:xfrm>
            <a:off x="792000" y="5702400"/>
            <a:ext cx="1494000" cy="5461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Other 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447920" y="5334120"/>
            <a:ext cx="152280" cy="268200"/>
            <a:chOff x="1447920" y="5334120"/>
            <a:chExt cx="152280" cy="268200"/>
          </a:xfrm>
        </p:grpSpPr>
        <p:sp>
          <p:nvSpPr>
            <p:cNvPr id="243" name=""/>
            <p:cNvSpPr/>
            <p:nvPr/>
          </p:nvSpPr>
          <p:spPr>
            <a:xfrm>
              <a:off x="1526040" y="5456880"/>
              <a:ext cx="0" cy="145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47920" y="5334120"/>
              <a:ext cx="152280" cy="121320"/>
            </a:xfrm>
            <a:prstGeom prst="ellipse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53e3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80880" y="5883120"/>
            <a:ext cx="366480" cy="122400"/>
            <a:chOff x="380880" y="5883120"/>
            <a:chExt cx="366480" cy="122400"/>
          </a:xfrm>
        </p:grpSpPr>
        <p:sp>
          <p:nvSpPr>
            <p:cNvPr id="246" name=""/>
            <p:cNvSpPr/>
            <p:nvPr/>
          </p:nvSpPr>
          <p:spPr>
            <a:xfrm>
              <a:off x="380880" y="5883120"/>
              <a:ext cx="152280" cy="122400"/>
            </a:xfrm>
            <a:prstGeom prst="ellipse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53e3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536760" y="5953320"/>
              <a:ext cx="210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85800" y="457200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3962520" y="3809880"/>
          <a:ext cx="682560" cy="13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3809880"/>
                    <a:ext cx="682560" cy="1314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0" dir="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638280" y="1676520"/>
            <a:ext cx="8004240" cy="103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uggable Security Provi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305640" y="3838680"/>
            <a:ext cx="747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4419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 Runtime Architecture</a:t>
            </a:r>
            <a:br>
              <a:rPr sz="4000"/>
            </a:br>
            <a:r>
              <a:rPr b="0" lang="en-US" sz="2800" spc="-1" strike="noStrike">
                <a:solidFill>
                  <a:srgbClr val="ff6600"/>
                </a:solidFill>
                <a:latin typeface="Arial Black"/>
              </a:rPr>
              <a:t>Flexible and extensibl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6095880" y="3359160"/>
            <a:ext cx="2743200" cy="1752480"/>
            <a:chOff x="6095880" y="3359160"/>
            <a:chExt cx="2743200" cy="1752480"/>
          </a:xfrm>
        </p:grpSpPr>
        <p:sp>
          <p:nvSpPr>
            <p:cNvPr id="256" name=""/>
            <p:cNvSpPr/>
            <p:nvPr/>
          </p:nvSpPr>
          <p:spPr>
            <a:xfrm>
              <a:off x="6095880" y="45021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238880" y="3968640"/>
              <a:ext cx="1600200" cy="1143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7924680" y="3359160"/>
              <a:ext cx="254160" cy="561960"/>
              <a:chOff x="7924680" y="3359160"/>
              <a:chExt cx="254160" cy="561960"/>
            </a:xfrm>
          </p:grpSpPr>
          <p:sp>
            <p:nvSpPr>
              <p:cNvPr id="259" name=""/>
              <p:cNvSpPr/>
              <p:nvPr/>
            </p:nvSpPr>
            <p:spPr>
              <a:xfrm>
                <a:off x="8055000" y="3616560"/>
                <a:ext cx="0" cy="3045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924680" y="3359160"/>
                <a:ext cx="254160" cy="254160"/>
              </a:xfrm>
              <a:prstGeom prst="ellipse">
                <a:avLst/>
              </a:prstGeom>
              <a:gradFill rotWithShape="0">
                <a:gsLst>
                  <a:gs pos="0">
                    <a:srgbClr val="14d3c1"/>
                  </a:gs>
                  <a:gs pos="100000">
                    <a:srgbClr val="053e39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6553080" y="4349880"/>
              <a:ext cx="610920" cy="253800"/>
              <a:chOff x="6553080" y="4349880"/>
              <a:chExt cx="610920" cy="253800"/>
            </a:xfrm>
          </p:grpSpPr>
          <p:sp>
            <p:nvSpPr>
              <p:cNvPr id="262" name=""/>
              <p:cNvSpPr/>
              <p:nvPr/>
            </p:nvSpPr>
            <p:spPr>
              <a:xfrm>
                <a:off x="6553080" y="434988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14d3c1"/>
                  </a:gs>
                  <a:gs pos="100000">
                    <a:srgbClr val="053e39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6813000" y="4495680"/>
                <a:ext cx="3510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4" name=""/>
          <p:cNvSpPr/>
          <p:nvPr/>
        </p:nvSpPr>
        <p:spPr>
          <a:xfrm rot="16200000">
            <a:off x="4495680" y="4038120"/>
            <a:ext cx="236196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OM Run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57800" y="2521080"/>
            <a:ext cx="380376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ver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" y="2521080"/>
            <a:ext cx="335268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ient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81280" y="4876920"/>
            <a:ext cx="1600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81280" y="4419720"/>
            <a:ext cx="1600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 Kerb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81280" y="3962520"/>
            <a:ext cx="1600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SL, Cer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81280" y="3505320"/>
            <a:ext cx="1600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6200000">
            <a:off x="1981080" y="4038120"/>
            <a:ext cx="236196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OM Run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371600" y="3886200"/>
            <a:ext cx="1371600" cy="837720"/>
            <a:chOff x="1371600" y="3886200"/>
            <a:chExt cx="1371600" cy="837720"/>
          </a:xfrm>
        </p:grpSpPr>
        <p:sp>
          <p:nvSpPr>
            <p:cNvPr id="273" name=""/>
            <p:cNvSpPr/>
            <p:nvPr/>
          </p:nvSpPr>
          <p:spPr>
            <a:xfrm>
              <a:off x="1783080" y="4177440"/>
              <a:ext cx="960120" cy="546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</a:rPr>
                <a:t>Prox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2194560" y="3886200"/>
              <a:ext cx="152280" cy="268200"/>
              <a:chOff x="2194560" y="3886200"/>
              <a:chExt cx="152280" cy="268200"/>
            </a:xfrm>
          </p:grpSpPr>
          <p:sp>
            <p:nvSpPr>
              <p:cNvPr id="275" name=""/>
              <p:cNvSpPr/>
              <p:nvPr/>
            </p:nvSpPr>
            <p:spPr>
              <a:xfrm>
                <a:off x="2272680" y="4008960"/>
                <a:ext cx="0" cy="145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194560" y="3886200"/>
                <a:ext cx="152280" cy="121320"/>
              </a:xfrm>
              <a:prstGeom prst="ellipse">
                <a:avLst/>
              </a:prstGeom>
              <a:gradFill rotWithShape="0">
                <a:gsLst>
                  <a:gs pos="0">
                    <a:srgbClr val="14d3c1"/>
                  </a:gs>
                  <a:gs pos="100000">
                    <a:srgbClr val="053e39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1371600" y="4359960"/>
              <a:ext cx="366120" cy="121320"/>
              <a:chOff x="1371600" y="4359960"/>
              <a:chExt cx="366120" cy="121320"/>
            </a:xfrm>
          </p:grpSpPr>
          <p:sp>
            <p:nvSpPr>
              <p:cNvPr id="278" name=""/>
              <p:cNvSpPr/>
              <p:nvPr/>
            </p:nvSpPr>
            <p:spPr>
              <a:xfrm>
                <a:off x="1371600" y="4359960"/>
                <a:ext cx="152280" cy="121320"/>
              </a:xfrm>
              <a:prstGeom prst="ellipse">
                <a:avLst/>
              </a:prstGeom>
              <a:gradFill rotWithShape="0">
                <a:gsLst>
                  <a:gs pos="0">
                    <a:srgbClr val="14d3c1"/>
                  </a:gs>
                  <a:gs pos="100000">
                    <a:srgbClr val="053e39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1527480" y="4429440"/>
                <a:ext cx="2102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0" name=""/>
          <p:cNvSpPr/>
          <p:nvPr/>
        </p:nvSpPr>
        <p:spPr>
          <a:xfrm>
            <a:off x="792000" y="5702400"/>
            <a:ext cx="1494000" cy="5461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Other 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447920" y="5334120"/>
            <a:ext cx="152280" cy="268200"/>
            <a:chOff x="1447920" y="5334120"/>
            <a:chExt cx="152280" cy="268200"/>
          </a:xfrm>
        </p:grpSpPr>
        <p:sp>
          <p:nvSpPr>
            <p:cNvPr id="282" name=""/>
            <p:cNvSpPr/>
            <p:nvPr/>
          </p:nvSpPr>
          <p:spPr>
            <a:xfrm>
              <a:off x="1526040" y="5456880"/>
              <a:ext cx="0" cy="145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47920" y="5334120"/>
              <a:ext cx="152280" cy="121320"/>
            </a:xfrm>
            <a:prstGeom prst="ellipse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53e3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80880" y="5883120"/>
            <a:ext cx="366480" cy="122400"/>
            <a:chOff x="380880" y="5883120"/>
            <a:chExt cx="366480" cy="122400"/>
          </a:xfrm>
        </p:grpSpPr>
        <p:sp>
          <p:nvSpPr>
            <p:cNvPr id="285" name=""/>
            <p:cNvSpPr/>
            <p:nvPr/>
          </p:nvSpPr>
          <p:spPr>
            <a:xfrm>
              <a:off x="380880" y="5883120"/>
              <a:ext cx="152280" cy="122400"/>
            </a:xfrm>
            <a:prstGeom prst="ellipse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53e3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536760" y="5953320"/>
              <a:ext cx="210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685800" y="457200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5797440" y="4114800"/>
            <a:ext cx="2419560" cy="22860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6308640" y="4724280"/>
            <a:ext cx="1234800" cy="739800"/>
            <a:chOff x="6308640" y="4724280"/>
            <a:chExt cx="1234800" cy="739800"/>
          </a:xfrm>
        </p:grpSpPr>
        <p:grpSp>
          <p:nvGrpSpPr>
            <p:cNvPr id="290" name=""/>
            <p:cNvGrpSpPr/>
            <p:nvPr/>
          </p:nvGrpSpPr>
          <p:grpSpPr>
            <a:xfrm>
              <a:off x="6308640" y="4770360"/>
              <a:ext cx="469800" cy="378000"/>
              <a:chOff x="6308640" y="4770360"/>
              <a:chExt cx="469800" cy="378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489360" y="4950000"/>
                <a:ext cx="289080" cy="19836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700680" y="480060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669000" y="4770360"/>
                <a:ext cx="63360" cy="6372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384600" y="502776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308640" y="4994280"/>
                <a:ext cx="63360" cy="6516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6892560" y="4724280"/>
              <a:ext cx="470160" cy="379440"/>
              <a:chOff x="6892560" y="4724280"/>
              <a:chExt cx="470160" cy="379440"/>
            </a:xfrm>
          </p:grpSpPr>
          <p:sp>
            <p:nvSpPr>
              <p:cNvPr id="297" name=""/>
              <p:cNvSpPr/>
              <p:nvPr/>
            </p:nvSpPr>
            <p:spPr>
              <a:xfrm>
                <a:off x="7073640" y="4905360"/>
                <a:ext cx="289080" cy="19836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286400" y="475776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254720" y="4724280"/>
                <a:ext cx="63360" cy="6372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972120" y="4981680"/>
                <a:ext cx="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892560" y="4950000"/>
                <a:ext cx="66960" cy="6480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6495840" y="5084640"/>
              <a:ext cx="469800" cy="379440"/>
              <a:chOff x="6495840" y="5084640"/>
              <a:chExt cx="469800" cy="379440"/>
            </a:xfrm>
          </p:grpSpPr>
          <p:sp>
            <p:nvSpPr>
              <p:cNvPr id="303" name=""/>
              <p:cNvSpPr/>
              <p:nvPr/>
            </p:nvSpPr>
            <p:spPr>
              <a:xfrm>
                <a:off x="6675120" y="5264280"/>
                <a:ext cx="290520" cy="19980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889680" y="5116680"/>
                <a:ext cx="0" cy="13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856200" y="5084640"/>
                <a:ext cx="63360" cy="6372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573600" y="5342040"/>
                <a:ext cx="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495840" y="5308560"/>
                <a:ext cx="65160" cy="6660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7254720" y="5219640"/>
              <a:ext cx="288720" cy="198720"/>
            </a:xfrm>
            <a:prstGeom prst="rect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467480" y="5072040"/>
              <a:ext cx="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434000" y="5040360"/>
              <a:ext cx="63360" cy="63360"/>
            </a:xfrm>
            <a:prstGeom prst="ellipse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151400" y="5295960"/>
              <a:ext cx="9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073640" y="5264280"/>
              <a:ext cx="65160" cy="65160"/>
            </a:xfrm>
            <a:prstGeom prst="ellipse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502320" y="5572080"/>
            <a:ext cx="1235160" cy="739800"/>
            <a:chOff x="6502320" y="5572080"/>
            <a:chExt cx="1235160" cy="739800"/>
          </a:xfrm>
        </p:grpSpPr>
        <p:grpSp>
          <p:nvGrpSpPr>
            <p:cNvPr id="314" name=""/>
            <p:cNvGrpSpPr/>
            <p:nvPr/>
          </p:nvGrpSpPr>
          <p:grpSpPr>
            <a:xfrm>
              <a:off x="6502320" y="5618160"/>
              <a:ext cx="469800" cy="378000"/>
              <a:chOff x="6502320" y="5618160"/>
              <a:chExt cx="469800" cy="378000"/>
            </a:xfrm>
          </p:grpSpPr>
          <p:sp>
            <p:nvSpPr>
              <p:cNvPr id="315" name=""/>
              <p:cNvSpPr/>
              <p:nvPr/>
            </p:nvSpPr>
            <p:spPr>
              <a:xfrm>
                <a:off x="6683400" y="5797440"/>
                <a:ext cx="288720" cy="19872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894360" y="564840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62680" y="5618160"/>
                <a:ext cx="63360" cy="6336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578640" y="5875200"/>
                <a:ext cx="9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502320" y="5842080"/>
                <a:ext cx="63360" cy="6516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086600" y="5572080"/>
              <a:ext cx="469800" cy="379440"/>
              <a:chOff x="7086600" y="5572080"/>
              <a:chExt cx="469800" cy="379440"/>
            </a:xfrm>
          </p:grpSpPr>
          <p:sp>
            <p:nvSpPr>
              <p:cNvPr id="321" name=""/>
              <p:cNvSpPr/>
              <p:nvPr/>
            </p:nvSpPr>
            <p:spPr>
              <a:xfrm>
                <a:off x="7267320" y="5753160"/>
                <a:ext cx="289080" cy="19836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480080" y="560556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448400" y="5572080"/>
                <a:ext cx="63360" cy="6372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165800" y="5829480"/>
                <a:ext cx="9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086600" y="5797440"/>
                <a:ext cx="66600" cy="6516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689520" y="5932440"/>
              <a:ext cx="470160" cy="379440"/>
              <a:chOff x="6689520" y="5932440"/>
              <a:chExt cx="470160" cy="379440"/>
            </a:xfrm>
          </p:grpSpPr>
          <p:sp>
            <p:nvSpPr>
              <p:cNvPr id="327" name=""/>
              <p:cNvSpPr/>
              <p:nvPr/>
            </p:nvSpPr>
            <p:spPr>
              <a:xfrm>
                <a:off x="6869160" y="6111720"/>
                <a:ext cx="290520" cy="20016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083360" y="596412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049880" y="5932440"/>
                <a:ext cx="63720" cy="6372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67280" y="6189840"/>
                <a:ext cx="9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689520" y="6156360"/>
                <a:ext cx="65160" cy="6660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7448400" y="6067440"/>
              <a:ext cx="289080" cy="198360"/>
            </a:xfrm>
            <a:prstGeom prst="rect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661160" y="5919840"/>
              <a:ext cx="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627680" y="5888160"/>
              <a:ext cx="63720" cy="63360"/>
            </a:xfrm>
            <a:prstGeom prst="ellipse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45080" y="6143760"/>
              <a:ext cx="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267320" y="6111720"/>
              <a:ext cx="65160" cy="65160"/>
            </a:xfrm>
            <a:prstGeom prst="ellipse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857160" y="4343400"/>
            <a:ext cx="2419560" cy="83196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4120" y="4800600"/>
            <a:ext cx="457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257800" y="4724280"/>
            <a:ext cx="0" cy="152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81480" y="4648320"/>
            <a:ext cx="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105520" y="4648320"/>
            <a:ext cx="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4724280"/>
            <a:ext cx="0" cy="152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276720" y="47242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fficient and Scalab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ing - Single Port per-protocol, per server process, regardless of # of ob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lable - Connection-Less Protocols like UDP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d Connection-Oriented (TCP) Sessions Reused by same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"/>
          <p:cNvSpPr/>
          <p:nvPr/>
        </p:nvSpPr>
        <p:spPr>
          <a:xfrm>
            <a:off x="838080" y="5486400"/>
            <a:ext cx="2419560" cy="83196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3200400" y="4876560"/>
            <a:ext cx="182880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6102360" y="3657600"/>
            <a:ext cx="2882880" cy="3124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erver 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58760" y="3657600"/>
            <a:ext cx="2882880" cy="3124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lient 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330960" y="4280040"/>
            <a:ext cx="2419200" cy="234936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6883560" y="4740120"/>
            <a:ext cx="1234800" cy="739800"/>
            <a:chOff x="6883560" y="4740120"/>
            <a:chExt cx="1234800" cy="739800"/>
          </a:xfrm>
        </p:grpSpPr>
        <p:grpSp>
          <p:nvGrpSpPr>
            <p:cNvPr id="352" name=""/>
            <p:cNvGrpSpPr/>
            <p:nvPr/>
          </p:nvGrpSpPr>
          <p:grpSpPr>
            <a:xfrm>
              <a:off x="6883560" y="4786200"/>
              <a:ext cx="469800" cy="378000"/>
              <a:chOff x="6883560" y="4786200"/>
              <a:chExt cx="469800" cy="378000"/>
            </a:xfrm>
          </p:grpSpPr>
          <p:sp>
            <p:nvSpPr>
              <p:cNvPr id="353" name=""/>
              <p:cNvSpPr/>
              <p:nvPr/>
            </p:nvSpPr>
            <p:spPr>
              <a:xfrm>
                <a:off x="7064280" y="4965840"/>
                <a:ext cx="289080" cy="19836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275600" y="481644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243920" y="4786200"/>
                <a:ext cx="63360" cy="6372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959520" y="504360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883560" y="5010120"/>
                <a:ext cx="63360" cy="6516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7467480" y="4740120"/>
              <a:ext cx="470160" cy="379440"/>
              <a:chOff x="7467480" y="4740120"/>
              <a:chExt cx="470160" cy="379440"/>
            </a:xfrm>
          </p:grpSpPr>
          <p:sp>
            <p:nvSpPr>
              <p:cNvPr id="359" name=""/>
              <p:cNvSpPr/>
              <p:nvPr/>
            </p:nvSpPr>
            <p:spPr>
              <a:xfrm>
                <a:off x="7648560" y="4921200"/>
                <a:ext cx="289080" cy="19836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861320" y="477360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829640" y="4740120"/>
                <a:ext cx="63360" cy="6372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547040" y="4997520"/>
                <a:ext cx="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467480" y="4965840"/>
                <a:ext cx="66960" cy="6480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7070760" y="5100480"/>
              <a:ext cx="469800" cy="379440"/>
              <a:chOff x="7070760" y="5100480"/>
              <a:chExt cx="469800" cy="379440"/>
            </a:xfrm>
          </p:grpSpPr>
          <p:sp>
            <p:nvSpPr>
              <p:cNvPr id="365" name=""/>
              <p:cNvSpPr/>
              <p:nvPr/>
            </p:nvSpPr>
            <p:spPr>
              <a:xfrm>
                <a:off x="7250040" y="5280120"/>
                <a:ext cx="290520" cy="19980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464600" y="5132520"/>
                <a:ext cx="0" cy="13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431120" y="5100480"/>
                <a:ext cx="63360" cy="6372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148520" y="5357880"/>
                <a:ext cx="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070760" y="5324400"/>
                <a:ext cx="65160" cy="6660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7829640" y="5235480"/>
              <a:ext cx="288720" cy="198360"/>
            </a:xfrm>
            <a:prstGeom prst="rect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042400" y="5087880"/>
              <a:ext cx="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008920" y="5056200"/>
              <a:ext cx="63360" cy="63360"/>
            </a:xfrm>
            <a:prstGeom prst="ellipse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726320" y="5311800"/>
              <a:ext cx="9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648560" y="5280120"/>
              <a:ext cx="65160" cy="65160"/>
            </a:xfrm>
            <a:prstGeom prst="ellipse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7035840" y="5578560"/>
            <a:ext cx="1235160" cy="739800"/>
            <a:chOff x="7035840" y="5578560"/>
            <a:chExt cx="1235160" cy="739800"/>
          </a:xfrm>
        </p:grpSpPr>
        <p:grpSp>
          <p:nvGrpSpPr>
            <p:cNvPr id="376" name=""/>
            <p:cNvGrpSpPr/>
            <p:nvPr/>
          </p:nvGrpSpPr>
          <p:grpSpPr>
            <a:xfrm>
              <a:off x="7035840" y="5624640"/>
              <a:ext cx="469800" cy="377640"/>
              <a:chOff x="7035840" y="5624640"/>
              <a:chExt cx="469800" cy="377640"/>
            </a:xfrm>
          </p:grpSpPr>
          <p:sp>
            <p:nvSpPr>
              <p:cNvPr id="377" name=""/>
              <p:cNvSpPr/>
              <p:nvPr/>
            </p:nvSpPr>
            <p:spPr>
              <a:xfrm>
                <a:off x="7216920" y="5803920"/>
                <a:ext cx="288720" cy="19836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427880" y="5654520"/>
                <a:ext cx="0" cy="136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396200" y="5624640"/>
                <a:ext cx="63360" cy="6336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112160" y="5881680"/>
                <a:ext cx="9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035840" y="5848200"/>
                <a:ext cx="63360" cy="6516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7620120" y="5578560"/>
              <a:ext cx="469800" cy="379440"/>
              <a:chOff x="7620120" y="5578560"/>
              <a:chExt cx="469800" cy="379440"/>
            </a:xfrm>
          </p:grpSpPr>
          <p:sp>
            <p:nvSpPr>
              <p:cNvPr id="383" name=""/>
              <p:cNvSpPr/>
              <p:nvPr/>
            </p:nvSpPr>
            <p:spPr>
              <a:xfrm>
                <a:off x="7800840" y="5759280"/>
                <a:ext cx="289080" cy="19872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013600" y="561168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981920" y="5578560"/>
                <a:ext cx="63360" cy="6336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699320" y="5835600"/>
                <a:ext cx="9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620120" y="5803920"/>
                <a:ext cx="66600" cy="6516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7223040" y="5938920"/>
              <a:ext cx="470160" cy="379440"/>
              <a:chOff x="7223040" y="5938920"/>
              <a:chExt cx="470160" cy="379440"/>
            </a:xfrm>
          </p:grpSpPr>
          <p:sp>
            <p:nvSpPr>
              <p:cNvPr id="389" name=""/>
              <p:cNvSpPr/>
              <p:nvPr/>
            </p:nvSpPr>
            <p:spPr>
              <a:xfrm>
                <a:off x="7402680" y="6118200"/>
                <a:ext cx="290520" cy="20016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616880" y="597060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583400" y="5938920"/>
                <a:ext cx="63720" cy="6336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300800" y="6195960"/>
                <a:ext cx="9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223040" y="6162840"/>
                <a:ext cx="65160" cy="6660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7981920" y="6073920"/>
              <a:ext cx="289080" cy="198360"/>
            </a:xfrm>
            <a:prstGeom prst="rect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194680" y="5926320"/>
              <a:ext cx="0" cy="13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161200" y="5894280"/>
              <a:ext cx="63720" cy="63720"/>
            </a:xfrm>
            <a:prstGeom prst="ellipse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878600" y="6149880"/>
              <a:ext cx="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800840" y="6118200"/>
              <a:ext cx="65160" cy="65160"/>
            </a:xfrm>
            <a:prstGeom prst="ellipse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539640" y="4314960"/>
            <a:ext cx="2044800" cy="97776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ent #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39640" y="5575320"/>
            <a:ext cx="2044800" cy="97776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ent #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71800" y="3962520"/>
            <a:ext cx="32004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05320" y="3962520"/>
            <a:ext cx="19461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Keep-Alive Traf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 all conn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62320" y="5070600"/>
            <a:ext cx="4267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362320" y="598500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133720" y="644220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19020000">
            <a:off x="3339720" y="5568840"/>
            <a:ext cx="25398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ogical 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nections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r “Session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fficient and Scalab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is 28 bytes over DCE-R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-Alive Messages bundled for all connections between Mach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 Runtime Archite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ure - Security is designed and built in. Not an op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herently Distrib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ugg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COM “ORB”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ly debugged and tun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M Runtime first shipped in 199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1000s of commercial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today on Win95, NT, Solari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 UNIX, HPUX, Linux, MVS, VMS, Mac, and others rolling out this ye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COM “ORB”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u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ource code licensable from The Open Group (formerly OSF and X/Ope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onformance test su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! (Built-into Win32 Platfor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parate client access license or expensive “developer”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ucture of the COM “ORB”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6" name=""/>
          <p:cNvSpPr/>
          <p:nvPr/>
        </p:nvSpPr>
        <p:spPr>
          <a:xfrm>
            <a:off x="533520" y="2743200"/>
            <a:ext cx="8381880" cy="40384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M Run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4119480"/>
            <a:ext cx="4960800" cy="63684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 and Distributed 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324480" y="4191120"/>
            <a:ext cx="2362320" cy="45720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egi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324480" y="4876920"/>
            <a:ext cx="2362320" cy="175248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Pluggable Security</a:t>
            </a:r>
            <a:br>
              <a:rPr sz="2000"/>
            </a:b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(SSP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91040" y="3733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38560" y="3733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562040" y="3733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71500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753160" y="4343400"/>
            <a:ext cx="5713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629400" y="5791320"/>
            <a:ext cx="838080" cy="30456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T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477120" y="6095880"/>
            <a:ext cx="1143000" cy="30492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b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54200" y="5791320"/>
            <a:ext cx="4960800" cy="83808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Pluggable Trans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467480" y="5791320"/>
            <a:ext cx="914400" cy="30456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76720" y="54100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62120" y="4952880"/>
            <a:ext cx="4960800" cy="60984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S-R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76720" y="472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38080" y="6248520"/>
            <a:ext cx="762120" cy="30456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0200" y="6248520"/>
            <a:ext cx="762120" cy="30456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362320" y="6248520"/>
            <a:ext cx="761760" cy="30456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6248520"/>
            <a:ext cx="762120" cy="30456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86200" y="6248520"/>
            <a:ext cx="762120" cy="30456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648320" y="6248520"/>
            <a:ext cx="990360" cy="30456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lc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620120" y="6095880"/>
            <a:ext cx="914400" cy="30492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C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62120" y="3200400"/>
            <a:ext cx="7924680" cy="6858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e Servic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utomation, Monikers, Storage, ComCat, Data Transfer, I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33520" y="2057400"/>
            <a:ext cx="8381880" cy="3808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Components an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re COM Servic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cycle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Information (Interface Repositor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kers (Nam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on (Dynamic Invo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 Categ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 Summa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“ORB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is ActiveX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arketing name for a set of technologies and services, all based on the Component Object Model (COM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’s just COM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OM” is just COM with a longer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 What is ActiveX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arketing name for a set of technologies and services, all based on COM (the model, the “ORB”, and the servic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1666800"/>
            <a:ext cx="4791240" cy="4194000"/>
            <a:chOff x="0" y="1666800"/>
            <a:chExt cx="4791240" cy="4194000"/>
          </a:xfrm>
        </p:grpSpPr>
        <p:pic>
          <p:nvPicPr>
            <p:cNvPr id="449" name="" descr=""/>
            <p:cNvPicPr/>
            <p:nvPr/>
          </p:nvPicPr>
          <p:blipFill>
            <a:blip r:embed="rId1"/>
            <a:stretch/>
          </p:blipFill>
          <p:spPr>
            <a:xfrm>
              <a:off x="0" y="1666800"/>
              <a:ext cx="4791240" cy="41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57240" y="2769840"/>
              <a:ext cx="4497480" cy="28512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-360" y="5867280"/>
            <a:ext cx="3955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net Explorer 3.x/4.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046160" y="2897280"/>
            <a:ext cx="2793960" cy="7750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ML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text and imag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4878360" y="1371600"/>
            <a:ext cx="4151520" cy="2439360"/>
            <a:chOff x="4878360" y="1371600"/>
            <a:chExt cx="4151520" cy="2439360"/>
          </a:xfrm>
        </p:grpSpPr>
        <p:sp>
          <p:nvSpPr>
            <p:cNvPr id="454" name=""/>
            <p:cNvSpPr/>
            <p:nvPr/>
          </p:nvSpPr>
          <p:spPr>
            <a:xfrm flipH="1">
              <a:off x="4878360" y="3276720"/>
              <a:ext cx="2589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99520" y="2666880"/>
              <a:ext cx="110952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HTTP 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7620120" y="1371600"/>
              <a:ext cx="1409760" cy="1352520"/>
              <a:chOff x="7620120" y="1371600"/>
              <a:chExt cx="1409760" cy="1352520"/>
            </a:xfrm>
          </p:grpSpPr>
          <p:sp>
            <p:nvSpPr>
              <p:cNvPr id="457" name=""/>
              <p:cNvSpPr/>
              <p:nvPr/>
            </p:nvSpPr>
            <p:spPr>
              <a:xfrm>
                <a:off x="8672400" y="1371600"/>
                <a:ext cx="357480" cy="13525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831080" y="2363760"/>
                <a:ext cx="442800" cy="5400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9" name=""/>
              <p:cNvGrpSpPr/>
              <p:nvPr/>
            </p:nvGrpSpPr>
            <p:grpSpPr>
              <a:xfrm>
                <a:off x="7683480" y="1746360"/>
                <a:ext cx="735120" cy="628560"/>
                <a:chOff x="7683480" y="1746360"/>
                <a:chExt cx="735120" cy="62856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7683480" y="1746360"/>
                  <a:ext cx="220680" cy="2048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7683480" y="1758960"/>
                  <a:ext cx="735120" cy="59688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7786800" y="1746360"/>
                  <a:ext cx="534960" cy="62856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7683480" y="2171880"/>
                  <a:ext cx="220680" cy="2030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8194680" y="2171880"/>
                  <a:ext cx="223920" cy="2030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8194680" y="1746360"/>
                  <a:ext cx="223920" cy="2048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689960" y="1754280"/>
                  <a:ext cx="214200" cy="1969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7689960" y="1766880"/>
                  <a:ext cx="718920" cy="581040"/>
                </a:xfrm>
                <a:prstGeom prst="rect">
                  <a:avLst/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7792920" y="1754280"/>
                  <a:ext cx="525600" cy="612720"/>
                </a:xfrm>
                <a:prstGeom prst="rect">
                  <a:avLst/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7689960" y="2171880"/>
                  <a:ext cx="214200" cy="1951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8194680" y="2171880"/>
                  <a:ext cx="214200" cy="1951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8194680" y="1754280"/>
                  <a:ext cx="214200" cy="1969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7689960" y="1766880"/>
                  <a:ext cx="214200" cy="1872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7689960" y="1781280"/>
                  <a:ext cx="718920" cy="55224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7792920" y="1766880"/>
                  <a:ext cx="525600" cy="58572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7689960" y="2168640"/>
                  <a:ext cx="214200" cy="1839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8194680" y="2168640"/>
                  <a:ext cx="214200" cy="1839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8194680" y="1766880"/>
                  <a:ext cx="214200" cy="1872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699320" y="1765440"/>
                  <a:ext cx="208080" cy="1886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699320" y="1778040"/>
                  <a:ext cx="704880" cy="561960"/>
                </a:xfrm>
                <a:prstGeom prst="rect">
                  <a:avLst/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7796160" y="1765440"/>
                  <a:ext cx="512640" cy="590400"/>
                </a:xfrm>
                <a:prstGeom prst="rect">
                  <a:avLst/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7699320" y="2168640"/>
                  <a:ext cx="208080" cy="1872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8188200" y="2168640"/>
                  <a:ext cx="216000" cy="1872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8188200" y="1765440"/>
                  <a:ext cx="216000" cy="1886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7753320" y="1951200"/>
                  <a:ext cx="588960" cy="33948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ebeb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7753320" y="1830240"/>
                  <a:ext cx="588960" cy="4446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7773840" y="1857240"/>
                  <a:ext cx="547920" cy="4111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7" name=""/>
              <p:cNvSpPr/>
              <p:nvPr/>
            </p:nvSpPr>
            <p:spPr>
              <a:xfrm>
                <a:off x="8291520" y="2325600"/>
                <a:ext cx="5400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8" name=""/>
              <p:cNvGrpSpPr/>
              <p:nvPr/>
            </p:nvGrpSpPr>
            <p:grpSpPr>
              <a:xfrm>
                <a:off x="8736120" y="2376360"/>
                <a:ext cx="212760" cy="84240"/>
                <a:chOff x="8736120" y="2376360"/>
                <a:chExt cx="212760" cy="8424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873612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875520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877248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879012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880920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882324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884232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885996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887904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889308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91216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892980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894888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" name=""/>
              <p:cNvGrpSpPr/>
              <p:nvPr/>
            </p:nvGrpSpPr>
            <p:grpSpPr>
              <a:xfrm>
                <a:off x="8736120" y="2470320"/>
                <a:ext cx="212760" cy="82440"/>
                <a:chOff x="8736120" y="2470320"/>
                <a:chExt cx="212760" cy="8244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873612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875520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77248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879012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880920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882324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884232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885996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887904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889308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891216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892980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894888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8721720" y="1406520"/>
                <a:ext cx="250920" cy="50976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7" name=""/>
              <p:cNvGrpSpPr/>
              <p:nvPr/>
            </p:nvGrpSpPr>
            <p:grpSpPr>
              <a:xfrm>
                <a:off x="8729640" y="1838160"/>
                <a:ext cx="236520" cy="86040"/>
                <a:chOff x="8729640" y="1838160"/>
                <a:chExt cx="236520" cy="8604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8729640" y="1838160"/>
                  <a:ext cx="236520" cy="8604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8736120" y="1844640"/>
                  <a:ext cx="220680" cy="61920"/>
                </a:xfrm>
                <a:prstGeom prst="rect">
                  <a:avLst/>
                </a:prstGeom>
                <a:noFill/>
                <a:ln w="12600">
                  <a:solidFill>
                    <a:srgbClr val="f6f6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8736120" y="1844640"/>
                  <a:ext cx="220680" cy="60480"/>
                </a:xfrm>
                <a:prstGeom prst="rect">
                  <a:avLst/>
                </a:prstGeom>
                <a:noFill/>
                <a:ln w="12600">
                  <a:solidFill>
                    <a:srgbClr val="f4f4f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8736120" y="1844640"/>
                  <a:ext cx="220680" cy="60480"/>
                </a:xfrm>
                <a:prstGeom prst="rect">
                  <a:avLst/>
                </a:prstGeom>
                <a:noFill/>
                <a:ln w="1260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8736120" y="1844640"/>
                  <a:ext cx="220680" cy="60480"/>
                </a:xfrm>
                <a:prstGeom prst="rect">
                  <a:avLst/>
                </a:prstGeom>
                <a:noFill/>
                <a:ln w="12600">
                  <a:solidFill>
                    <a:srgbClr val="f0f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8736120" y="1844640"/>
                  <a:ext cx="220680" cy="60480"/>
                </a:xfrm>
                <a:prstGeom prst="rect">
                  <a:avLst/>
                </a:prstGeom>
                <a:noFill/>
                <a:ln w="1260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8736120" y="1844640"/>
                  <a:ext cx="220680" cy="57240"/>
                </a:xfrm>
                <a:prstGeom prst="rect">
                  <a:avLst/>
                </a:prstGeom>
                <a:noFill/>
                <a:ln w="12600">
                  <a:solidFill>
                    <a:srgbClr val="ecece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8736120" y="1844640"/>
                  <a:ext cx="220680" cy="57240"/>
                </a:xfrm>
                <a:prstGeom prst="rect">
                  <a:avLst/>
                </a:prstGeom>
                <a:noFill/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8736120" y="1844640"/>
                  <a:ext cx="220680" cy="57240"/>
                </a:xfrm>
                <a:prstGeom prst="rect">
                  <a:avLst/>
                </a:prstGeom>
                <a:noFill/>
                <a:ln w="12600">
                  <a:solidFill>
                    <a:srgbClr val="e8e8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8736120" y="1844640"/>
                  <a:ext cx="220680" cy="57240"/>
                </a:xfrm>
                <a:prstGeom prst="rect">
                  <a:avLst/>
                </a:prstGeom>
                <a:noFill/>
                <a:ln w="12600">
                  <a:solidFill>
                    <a:srgbClr val="e6e6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8736120" y="1844640"/>
                  <a:ext cx="220680" cy="54000"/>
                </a:xfrm>
                <a:prstGeom prst="rect">
                  <a:avLst/>
                </a:prstGeom>
                <a:noFill/>
                <a:ln w="12600">
                  <a:solidFill>
                    <a:srgbClr val="e4e4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8736120" y="1844640"/>
                  <a:ext cx="220680" cy="54000"/>
                </a:xfrm>
                <a:prstGeom prst="rect">
                  <a:avLst/>
                </a:prstGeom>
                <a:noFill/>
                <a:ln w="12600">
                  <a:solidFill>
                    <a:srgbClr val="e2e2e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8736120" y="1844640"/>
                  <a:ext cx="220680" cy="54000"/>
                </a:xfrm>
                <a:prstGeom prst="rect">
                  <a:avLst/>
                </a:prstGeom>
                <a:noFill/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8736120" y="1844640"/>
                  <a:ext cx="220680" cy="54000"/>
                </a:xfrm>
                <a:prstGeom prst="rect">
                  <a:avLst/>
                </a:prstGeom>
                <a:noFill/>
                <a:ln w="12600">
                  <a:solidFill>
                    <a:srgbClr val="dede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8736120" y="1844640"/>
                  <a:ext cx="220680" cy="52560"/>
                </a:xfrm>
                <a:prstGeom prst="rect">
                  <a:avLst/>
                </a:prstGeom>
                <a:noFill/>
                <a:ln w="1260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8736120" y="1844640"/>
                  <a:ext cx="220680" cy="52560"/>
                </a:xfrm>
                <a:prstGeom prst="rect">
                  <a:avLst/>
                </a:prstGeom>
                <a:noFill/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8736120" y="1844640"/>
                  <a:ext cx="220680" cy="52560"/>
                </a:xfrm>
                <a:prstGeom prst="rect">
                  <a:avLst/>
                </a:prstGeom>
                <a:noFill/>
                <a:ln w="1260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736120" y="1844640"/>
                  <a:ext cx="220680" cy="52560"/>
                </a:xfrm>
                <a:prstGeom prst="rect">
                  <a:avLst/>
                </a:prstGeom>
                <a:noFill/>
                <a:ln w="12600">
                  <a:solidFill>
                    <a:srgbClr val="d6d6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8736120" y="1844640"/>
                  <a:ext cx="220680" cy="49320"/>
                </a:xfrm>
                <a:prstGeom prst="rect">
                  <a:avLst/>
                </a:prstGeom>
                <a:noFill/>
                <a:ln w="12600">
                  <a:solidFill>
                    <a:srgbClr val="d4d4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8736120" y="1844640"/>
                  <a:ext cx="220680" cy="49320"/>
                </a:xfrm>
                <a:prstGeom prst="rect">
                  <a:avLst/>
                </a:prstGeom>
                <a:noFill/>
                <a:ln w="12600">
                  <a:solidFill>
                    <a:srgbClr val="d2d2d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8736120" y="1844640"/>
                  <a:ext cx="220680" cy="49320"/>
                </a:xfrm>
                <a:prstGeom prst="rect">
                  <a:avLst/>
                </a:prstGeom>
                <a:noFill/>
                <a:ln w="12600">
                  <a:solidFill>
                    <a:srgbClr val="d0d0d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8736120" y="1844640"/>
                  <a:ext cx="220680" cy="49320"/>
                </a:xfrm>
                <a:prstGeom prst="rect">
                  <a:avLst/>
                </a:prstGeom>
                <a:noFill/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8736120" y="1844640"/>
                  <a:ext cx="220680" cy="46080"/>
                </a:xfrm>
                <a:prstGeom prst="rect">
                  <a:avLst/>
                </a:prstGeom>
                <a:noFill/>
                <a:ln w="1260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8736120" y="1844640"/>
                  <a:ext cx="220680" cy="46080"/>
                </a:xfrm>
                <a:prstGeom prst="rect">
                  <a:avLst/>
                </a:prstGeom>
                <a:noFill/>
                <a:ln w="12600">
                  <a:solidFill>
                    <a:srgbClr val="caca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8736120" y="1844640"/>
                  <a:ext cx="220680" cy="46080"/>
                </a:xfrm>
                <a:prstGeom prst="rect">
                  <a:avLst/>
                </a:prstGeom>
                <a:noFill/>
                <a:ln w="12600">
                  <a:solidFill>
                    <a:srgbClr val="c8c8c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8736120" y="1844640"/>
                  <a:ext cx="220680" cy="46080"/>
                </a:xfrm>
                <a:prstGeom prst="rect">
                  <a:avLst/>
                </a:prstGeom>
                <a:noFill/>
                <a:ln w="12600">
                  <a:solidFill>
                    <a:srgbClr val="c6c6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8736120" y="1844640"/>
                  <a:ext cx="220680" cy="44640"/>
                </a:xfrm>
                <a:prstGeom prst="rect">
                  <a:avLst/>
                </a:prstGeom>
                <a:noFill/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8736120" y="1844640"/>
                  <a:ext cx="220680" cy="44640"/>
                </a:xfrm>
                <a:prstGeom prst="rect">
                  <a:avLst/>
                </a:prstGeom>
                <a:noFill/>
                <a:ln w="12600">
                  <a:solidFill>
                    <a:srgbClr val="c2c2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8736120" y="1844640"/>
                  <a:ext cx="220680" cy="4464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8736120" y="1844640"/>
                  <a:ext cx="220680" cy="44640"/>
                </a:xfrm>
                <a:prstGeom prst="rect">
                  <a:avLst/>
                </a:prstGeom>
                <a:noFill/>
                <a:ln w="12600">
                  <a:solidFill>
                    <a:srgbClr val="bebe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8736120" y="1844640"/>
                  <a:ext cx="220680" cy="41400"/>
                </a:xfrm>
                <a:prstGeom prst="rect">
                  <a:avLst/>
                </a:prstGeom>
                <a:noFill/>
                <a:ln w="12600">
                  <a:solidFill>
                    <a:srgbClr val="bcbc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8736120" y="1844640"/>
                  <a:ext cx="220680" cy="41400"/>
                </a:xfrm>
                <a:prstGeom prst="rect">
                  <a:avLst/>
                </a:prstGeom>
                <a:noFill/>
                <a:ln w="12600">
                  <a:solidFill>
                    <a:srgbClr val="baba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8736120" y="1844640"/>
                  <a:ext cx="220680" cy="41400"/>
                </a:xfrm>
                <a:prstGeom prst="rect">
                  <a:avLst/>
                </a:prstGeom>
                <a:noFill/>
                <a:ln w="12600">
                  <a:solidFill>
                    <a:srgbClr val="b8b8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8736120" y="1844640"/>
                  <a:ext cx="220680" cy="38160"/>
                </a:xfrm>
                <a:prstGeom prst="rect">
                  <a:avLst/>
                </a:prstGeom>
                <a:noFill/>
                <a:ln w="12600">
                  <a:solidFill>
                    <a:srgbClr val="b6b6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8736120" y="1844640"/>
                  <a:ext cx="220680" cy="38160"/>
                </a:xfrm>
                <a:prstGeom prst="rect">
                  <a:avLst/>
                </a:prstGeom>
                <a:noFill/>
                <a:ln w="12600">
                  <a:solidFill>
                    <a:srgbClr val="b4b4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736120" y="1844640"/>
                  <a:ext cx="220680" cy="38160"/>
                </a:xfrm>
                <a:prstGeom prst="rect">
                  <a:avLst/>
                </a:prstGeom>
                <a:noFill/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8736120" y="1844640"/>
                  <a:ext cx="220680" cy="38160"/>
                </a:xfrm>
                <a:prstGeom prst="rect">
                  <a:avLst/>
                </a:prstGeom>
                <a:noFill/>
                <a:ln w="12600">
                  <a:solidFill>
                    <a:srgbClr val="b0b0b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8736120" y="1844640"/>
                  <a:ext cx="220680" cy="38160"/>
                </a:xfrm>
                <a:prstGeom prst="rect">
                  <a:avLst/>
                </a:prstGeom>
                <a:noFill/>
                <a:ln w="12600">
                  <a:solidFill>
                    <a:srgbClr val="aeae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8736120" y="1844640"/>
                  <a:ext cx="220680" cy="34920"/>
                </a:xfrm>
                <a:prstGeom prst="rect">
                  <a:avLst/>
                </a:prstGeom>
                <a:noFill/>
                <a:ln w="12600">
                  <a:solidFill>
                    <a:srgbClr val="acac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8736120" y="1844640"/>
                  <a:ext cx="220680" cy="34920"/>
                </a:xfrm>
                <a:prstGeom prst="rect">
                  <a:avLst/>
                </a:prstGeom>
                <a:noFill/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8736120" y="1844640"/>
                  <a:ext cx="220680" cy="34920"/>
                </a:xfrm>
                <a:prstGeom prst="rect">
                  <a:avLst/>
                </a:prstGeom>
                <a:noFill/>
                <a:ln w="12600">
                  <a:solidFill>
                    <a:srgbClr val="a8a8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8736120" y="1844640"/>
                  <a:ext cx="220680" cy="33480"/>
                </a:xfrm>
                <a:prstGeom prst="rect">
                  <a:avLst/>
                </a:prstGeom>
                <a:noFill/>
                <a:ln w="1260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8736120" y="1844640"/>
                  <a:ext cx="220680" cy="33480"/>
                </a:xfrm>
                <a:prstGeom prst="rect">
                  <a:avLst/>
                </a:prstGeom>
                <a:noFill/>
                <a:ln w="12600">
                  <a:solidFill>
                    <a:srgbClr val="a4a4a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8736120" y="1844640"/>
                  <a:ext cx="220680" cy="33480"/>
                </a:xfrm>
                <a:prstGeom prst="rect">
                  <a:avLst/>
                </a:prstGeom>
                <a:noFill/>
                <a:ln w="12600">
                  <a:solidFill>
                    <a:srgbClr val="a2a2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8736120" y="1844640"/>
                  <a:ext cx="220680" cy="3348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e9e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c9c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a9a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898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4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292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09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e8e8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c8c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a8a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484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282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d7d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b7b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979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575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37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1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f6f6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d6d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b6b6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969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565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3636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161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d5d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b5b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7575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3535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1515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f4f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b4b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949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545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343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d3d3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b3b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737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535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8729640" y="1838160"/>
                  <a:ext cx="236520" cy="43200"/>
                </a:xfrm>
                <a:prstGeom prst="rect">
                  <a:avLst/>
                </a:prstGeom>
                <a:solidFill>
                  <a:srgbClr val="35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8618400" y="1509840"/>
                <a:ext cx="233640" cy="83880"/>
                <a:chOff x="8618400" y="1509840"/>
                <a:chExt cx="233640" cy="8388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8618400" y="1509840"/>
                  <a:ext cx="233640" cy="8388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8624880" y="151596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f6f6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8624880" y="151596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f4f4f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8624880" y="151596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8624880" y="1515960"/>
                  <a:ext cx="217440" cy="57240"/>
                </a:xfrm>
                <a:prstGeom prst="rect">
                  <a:avLst/>
                </a:prstGeom>
                <a:noFill/>
                <a:ln w="12600">
                  <a:solidFill>
                    <a:srgbClr val="f0f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8624880" y="1515960"/>
                  <a:ext cx="217440" cy="57240"/>
                </a:xfrm>
                <a:prstGeom prst="rect">
                  <a:avLst/>
                </a:prstGeom>
                <a:noFill/>
                <a:ln w="1260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8624880" y="1515960"/>
                  <a:ext cx="217440" cy="57240"/>
                </a:xfrm>
                <a:prstGeom prst="rect">
                  <a:avLst/>
                </a:prstGeom>
                <a:noFill/>
                <a:ln w="12600">
                  <a:solidFill>
                    <a:srgbClr val="ecece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624880" y="1515960"/>
                  <a:ext cx="217440" cy="57240"/>
                </a:xfrm>
                <a:prstGeom prst="rect">
                  <a:avLst/>
                </a:prstGeom>
                <a:noFill/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8624880" y="1515960"/>
                  <a:ext cx="217440" cy="57240"/>
                </a:xfrm>
                <a:prstGeom prst="rect">
                  <a:avLst/>
                </a:prstGeom>
                <a:noFill/>
                <a:ln w="12600">
                  <a:solidFill>
                    <a:srgbClr val="e8e8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8624880" y="1515960"/>
                  <a:ext cx="217440" cy="57240"/>
                </a:xfrm>
                <a:prstGeom prst="rect">
                  <a:avLst/>
                </a:prstGeom>
                <a:noFill/>
                <a:ln w="12600">
                  <a:solidFill>
                    <a:srgbClr val="e6e6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8624880" y="1515960"/>
                  <a:ext cx="217440" cy="57240"/>
                </a:xfrm>
                <a:prstGeom prst="rect">
                  <a:avLst/>
                </a:prstGeom>
                <a:noFill/>
                <a:ln w="12600">
                  <a:solidFill>
                    <a:srgbClr val="e4e4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8624880" y="1515960"/>
                  <a:ext cx="217440" cy="55800"/>
                </a:xfrm>
                <a:prstGeom prst="rect">
                  <a:avLst/>
                </a:prstGeom>
                <a:noFill/>
                <a:ln w="12600">
                  <a:solidFill>
                    <a:srgbClr val="e2e2e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8624880" y="1515960"/>
                  <a:ext cx="217440" cy="55800"/>
                </a:xfrm>
                <a:prstGeom prst="rect">
                  <a:avLst/>
                </a:prstGeom>
                <a:noFill/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8624880" y="1515960"/>
                  <a:ext cx="217440" cy="55800"/>
                </a:xfrm>
                <a:prstGeom prst="rect">
                  <a:avLst/>
                </a:prstGeom>
                <a:noFill/>
                <a:ln w="12600">
                  <a:solidFill>
                    <a:srgbClr val="dede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8624880" y="1515960"/>
                  <a:ext cx="217440" cy="55800"/>
                </a:xfrm>
                <a:prstGeom prst="rect">
                  <a:avLst/>
                </a:prstGeom>
                <a:noFill/>
                <a:ln w="1260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8624880" y="1515960"/>
                  <a:ext cx="217440" cy="52560"/>
                </a:xfrm>
                <a:prstGeom prst="rect">
                  <a:avLst/>
                </a:prstGeom>
                <a:noFill/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8624880" y="1515960"/>
                  <a:ext cx="217440" cy="52560"/>
                </a:xfrm>
                <a:prstGeom prst="rect">
                  <a:avLst/>
                </a:prstGeom>
                <a:noFill/>
                <a:ln w="1260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8624880" y="1515960"/>
                  <a:ext cx="217440" cy="52560"/>
                </a:xfrm>
                <a:prstGeom prst="rect">
                  <a:avLst/>
                </a:prstGeom>
                <a:noFill/>
                <a:ln w="12600">
                  <a:solidFill>
                    <a:srgbClr val="d6d6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8624880" y="1515960"/>
                  <a:ext cx="217440" cy="52560"/>
                </a:xfrm>
                <a:prstGeom prst="rect">
                  <a:avLst/>
                </a:prstGeom>
                <a:noFill/>
                <a:ln w="12600">
                  <a:solidFill>
                    <a:srgbClr val="d4d4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8624880" y="1515960"/>
                  <a:ext cx="217440" cy="49320"/>
                </a:xfrm>
                <a:prstGeom prst="rect">
                  <a:avLst/>
                </a:prstGeom>
                <a:noFill/>
                <a:ln w="12600">
                  <a:solidFill>
                    <a:srgbClr val="d2d2d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8624880" y="1515960"/>
                  <a:ext cx="217440" cy="49320"/>
                </a:xfrm>
                <a:prstGeom prst="rect">
                  <a:avLst/>
                </a:prstGeom>
                <a:noFill/>
                <a:ln w="12600">
                  <a:solidFill>
                    <a:srgbClr val="d0d0d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8624880" y="1515960"/>
                  <a:ext cx="217440" cy="49320"/>
                </a:xfrm>
                <a:prstGeom prst="rect">
                  <a:avLst/>
                </a:prstGeom>
                <a:noFill/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8624880" y="1515960"/>
                  <a:ext cx="217440" cy="49320"/>
                </a:xfrm>
                <a:prstGeom prst="rect">
                  <a:avLst/>
                </a:prstGeom>
                <a:noFill/>
                <a:ln w="1260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8624880" y="1515960"/>
                  <a:ext cx="217440" cy="47880"/>
                </a:xfrm>
                <a:prstGeom prst="rect">
                  <a:avLst/>
                </a:prstGeom>
                <a:noFill/>
                <a:ln w="12600">
                  <a:solidFill>
                    <a:srgbClr val="caca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8624880" y="1515960"/>
                  <a:ext cx="217440" cy="47880"/>
                </a:xfrm>
                <a:prstGeom prst="rect">
                  <a:avLst/>
                </a:prstGeom>
                <a:noFill/>
                <a:ln w="12600">
                  <a:solidFill>
                    <a:srgbClr val="c8c8c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624880" y="1515960"/>
                  <a:ext cx="217440" cy="47880"/>
                </a:xfrm>
                <a:prstGeom prst="rect">
                  <a:avLst/>
                </a:prstGeom>
                <a:noFill/>
                <a:ln w="12600">
                  <a:solidFill>
                    <a:srgbClr val="c6c6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8624880" y="1515960"/>
                  <a:ext cx="217440" cy="47880"/>
                </a:xfrm>
                <a:prstGeom prst="rect">
                  <a:avLst/>
                </a:prstGeom>
                <a:noFill/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8624880" y="1515960"/>
                  <a:ext cx="217440" cy="44640"/>
                </a:xfrm>
                <a:prstGeom prst="rect">
                  <a:avLst/>
                </a:prstGeom>
                <a:noFill/>
                <a:ln w="12600">
                  <a:solidFill>
                    <a:srgbClr val="c2c2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8624880" y="1515960"/>
                  <a:ext cx="217440" cy="4464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8624880" y="1515960"/>
                  <a:ext cx="217440" cy="44640"/>
                </a:xfrm>
                <a:prstGeom prst="rect">
                  <a:avLst/>
                </a:prstGeom>
                <a:noFill/>
                <a:ln w="12600">
                  <a:solidFill>
                    <a:srgbClr val="bebe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8624880" y="1515960"/>
                  <a:ext cx="217440" cy="41400"/>
                </a:xfrm>
                <a:prstGeom prst="rect">
                  <a:avLst/>
                </a:prstGeom>
                <a:noFill/>
                <a:ln w="12600">
                  <a:solidFill>
                    <a:srgbClr val="bcbc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8624880" y="1515960"/>
                  <a:ext cx="217440" cy="41400"/>
                </a:xfrm>
                <a:prstGeom prst="rect">
                  <a:avLst/>
                </a:prstGeom>
                <a:noFill/>
                <a:ln w="12600">
                  <a:solidFill>
                    <a:srgbClr val="baba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8624880" y="1515960"/>
                  <a:ext cx="217440" cy="41400"/>
                </a:xfrm>
                <a:prstGeom prst="rect">
                  <a:avLst/>
                </a:prstGeom>
                <a:noFill/>
                <a:ln w="12600">
                  <a:solidFill>
                    <a:srgbClr val="b8b8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8624880" y="1515960"/>
                  <a:ext cx="217440" cy="41400"/>
                </a:xfrm>
                <a:prstGeom prst="rect">
                  <a:avLst/>
                </a:prstGeom>
                <a:noFill/>
                <a:ln w="12600">
                  <a:solidFill>
                    <a:srgbClr val="b6b6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8624880" y="1515960"/>
                  <a:ext cx="217440" cy="41400"/>
                </a:xfrm>
                <a:prstGeom prst="rect">
                  <a:avLst/>
                </a:prstGeom>
                <a:noFill/>
                <a:ln w="12600">
                  <a:solidFill>
                    <a:srgbClr val="b4b4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8624880" y="1515960"/>
                  <a:ext cx="217440" cy="39960"/>
                </a:xfrm>
                <a:prstGeom prst="rect">
                  <a:avLst/>
                </a:prstGeom>
                <a:noFill/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8624880" y="1515960"/>
                  <a:ext cx="217440" cy="39960"/>
                </a:xfrm>
                <a:prstGeom prst="rect">
                  <a:avLst/>
                </a:prstGeom>
                <a:noFill/>
                <a:ln w="12600">
                  <a:solidFill>
                    <a:srgbClr val="b0b0b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8624880" y="1515960"/>
                  <a:ext cx="217440" cy="39960"/>
                </a:xfrm>
                <a:prstGeom prst="rect">
                  <a:avLst/>
                </a:prstGeom>
                <a:noFill/>
                <a:ln w="12600">
                  <a:solidFill>
                    <a:srgbClr val="aeae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8624880" y="1515960"/>
                  <a:ext cx="217440" cy="36720"/>
                </a:xfrm>
                <a:prstGeom prst="rect">
                  <a:avLst/>
                </a:prstGeom>
                <a:noFill/>
                <a:ln w="12600">
                  <a:solidFill>
                    <a:srgbClr val="acac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8624880" y="1515960"/>
                  <a:ext cx="217440" cy="36720"/>
                </a:xfrm>
                <a:prstGeom prst="rect">
                  <a:avLst/>
                </a:prstGeom>
                <a:noFill/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8624880" y="1515960"/>
                  <a:ext cx="217440" cy="36720"/>
                </a:xfrm>
                <a:prstGeom prst="rect">
                  <a:avLst/>
                </a:prstGeom>
                <a:noFill/>
                <a:ln w="12600">
                  <a:solidFill>
                    <a:srgbClr val="a8a8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8624880" y="1515960"/>
                  <a:ext cx="217440" cy="36720"/>
                </a:xfrm>
                <a:prstGeom prst="rect">
                  <a:avLst/>
                </a:prstGeom>
                <a:noFill/>
                <a:ln w="1260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8624880" y="1515960"/>
                  <a:ext cx="217440" cy="33480"/>
                </a:xfrm>
                <a:prstGeom prst="rect">
                  <a:avLst/>
                </a:prstGeom>
                <a:noFill/>
                <a:ln w="12600">
                  <a:solidFill>
                    <a:srgbClr val="a4a4a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8624880" y="1515960"/>
                  <a:ext cx="217440" cy="33480"/>
                </a:xfrm>
                <a:prstGeom prst="rect">
                  <a:avLst/>
                </a:prstGeom>
                <a:noFill/>
                <a:ln w="12600">
                  <a:solidFill>
                    <a:srgbClr val="a2a2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8624880" y="1515960"/>
                  <a:ext cx="217440" cy="3348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8624880" y="1515960"/>
                  <a:ext cx="217440" cy="33480"/>
                </a:xfrm>
                <a:prstGeom prst="rect">
                  <a:avLst/>
                </a:prstGeom>
                <a:noFill/>
                <a:ln w="12600">
                  <a:solidFill>
                    <a:srgbClr val="9e9e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9c9c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9a9a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9898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94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9292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909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8e8e8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8c8c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8a8a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8484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8282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7d7d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7b7b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7979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7575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737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71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6f6f6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6d6d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6b6b6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6969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6565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63636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6161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5d5d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5b5b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57575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53535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51515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4f4f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4b4b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4949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4545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4343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3d3d3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3b3b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3737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3535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8618400" y="1509840"/>
                  <a:ext cx="233640" cy="42840"/>
                </a:xfrm>
                <a:prstGeom prst="rect">
                  <a:avLst/>
                </a:prstGeom>
                <a:solidFill>
                  <a:srgbClr val="35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7" name=""/>
              <p:cNvSpPr/>
              <p:nvPr/>
            </p:nvSpPr>
            <p:spPr>
              <a:xfrm>
                <a:off x="8729640" y="1414440"/>
                <a:ext cx="115920" cy="111240"/>
              </a:xfrm>
              <a:prstGeom prst="rect">
                <a:avLst/>
              </a:pr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72480" y="1467000"/>
                <a:ext cx="49320" cy="1108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772480" y="1450800"/>
                <a:ext cx="49320" cy="81000"/>
              </a:xfrm>
              <a:prstGeom prst="rect">
                <a:avLst/>
              </a:pr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772480" y="1494000"/>
                <a:ext cx="49320" cy="4284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782200" y="1482840"/>
                <a:ext cx="47520" cy="42840"/>
              </a:xfrm>
              <a:prstGeom prst="rect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742240" y="1452600"/>
                <a:ext cx="367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42240" y="1501920"/>
                <a:ext cx="36720" cy="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4" name=""/>
              <p:cNvGrpSpPr/>
              <p:nvPr/>
            </p:nvGrpSpPr>
            <p:grpSpPr>
              <a:xfrm>
                <a:off x="8729640" y="1673280"/>
                <a:ext cx="236520" cy="85680"/>
                <a:chOff x="8729640" y="1673280"/>
                <a:chExt cx="236520" cy="8568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8729640" y="1673280"/>
                  <a:ext cx="236520" cy="8568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8736120" y="1679400"/>
                  <a:ext cx="220680" cy="61920"/>
                </a:xfrm>
                <a:prstGeom prst="rect">
                  <a:avLst/>
                </a:prstGeom>
                <a:noFill/>
                <a:ln w="12600">
                  <a:solidFill>
                    <a:srgbClr val="f6f6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8736120" y="1679400"/>
                  <a:ext cx="220680" cy="61920"/>
                </a:xfrm>
                <a:prstGeom prst="rect">
                  <a:avLst/>
                </a:prstGeom>
                <a:noFill/>
                <a:ln w="12600">
                  <a:solidFill>
                    <a:srgbClr val="f4f4f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8736120" y="1679400"/>
                  <a:ext cx="220680" cy="61920"/>
                </a:xfrm>
                <a:prstGeom prst="rect">
                  <a:avLst/>
                </a:prstGeom>
                <a:noFill/>
                <a:ln w="1260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8736120" y="1679400"/>
                  <a:ext cx="220680" cy="60480"/>
                </a:xfrm>
                <a:prstGeom prst="rect">
                  <a:avLst/>
                </a:prstGeom>
                <a:noFill/>
                <a:ln w="12600">
                  <a:solidFill>
                    <a:srgbClr val="f0f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8736120" y="1679400"/>
                  <a:ext cx="220680" cy="60480"/>
                </a:xfrm>
                <a:prstGeom prst="rect">
                  <a:avLst/>
                </a:prstGeom>
                <a:noFill/>
                <a:ln w="1260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8736120" y="1679400"/>
                  <a:ext cx="220680" cy="60480"/>
                </a:xfrm>
                <a:prstGeom prst="rect">
                  <a:avLst/>
                </a:prstGeom>
                <a:noFill/>
                <a:ln w="12600">
                  <a:solidFill>
                    <a:srgbClr val="ecece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8736120" y="1679400"/>
                  <a:ext cx="220680" cy="57240"/>
                </a:xfrm>
                <a:prstGeom prst="rect">
                  <a:avLst/>
                </a:prstGeom>
                <a:noFill/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8736120" y="1679400"/>
                  <a:ext cx="220680" cy="57240"/>
                </a:xfrm>
                <a:prstGeom prst="rect">
                  <a:avLst/>
                </a:prstGeom>
                <a:noFill/>
                <a:ln w="12600">
                  <a:solidFill>
                    <a:srgbClr val="e8e8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8736120" y="1679400"/>
                  <a:ext cx="220680" cy="57240"/>
                </a:xfrm>
                <a:prstGeom prst="rect">
                  <a:avLst/>
                </a:prstGeom>
                <a:noFill/>
                <a:ln w="12600">
                  <a:solidFill>
                    <a:srgbClr val="e6e6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8736120" y="1679400"/>
                  <a:ext cx="220680" cy="57240"/>
                </a:xfrm>
                <a:prstGeom prst="rect">
                  <a:avLst/>
                </a:prstGeom>
                <a:noFill/>
                <a:ln w="12600">
                  <a:solidFill>
                    <a:srgbClr val="e4e4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8736120" y="1679400"/>
                  <a:ext cx="220680" cy="54000"/>
                </a:xfrm>
                <a:prstGeom prst="rect">
                  <a:avLst/>
                </a:prstGeom>
                <a:noFill/>
                <a:ln w="12600">
                  <a:solidFill>
                    <a:srgbClr val="e2e2e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8736120" y="1679400"/>
                  <a:ext cx="220680" cy="54000"/>
                </a:xfrm>
                <a:prstGeom prst="rect">
                  <a:avLst/>
                </a:prstGeom>
                <a:noFill/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8736120" y="1679400"/>
                  <a:ext cx="220680" cy="54000"/>
                </a:xfrm>
                <a:prstGeom prst="rect">
                  <a:avLst/>
                </a:prstGeom>
                <a:noFill/>
                <a:ln w="12600">
                  <a:solidFill>
                    <a:srgbClr val="dede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8736120" y="1679400"/>
                  <a:ext cx="220680" cy="54000"/>
                </a:xfrm>
                <a:prstGeom prst="rect">
                  <a:avLst/>
                </a:prstGeom>
                <a:noFill/>
                <a:ln w="1260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8736120" y="1679400"/>
                  <a:ext cx="220680" cy="52560"/>
                </a:xfrm>
                <a:prstGeom prst="rect">
                  <a:avLst/>
                </a:prstGeom>
                <a:noFill/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8736120" y="1679400"/>
                  <a:ext cx="220680" cy="52560"/>
                </a:xfrm>
                <a:prstGeom prst="rect">
                  <a:avLst/>
                </a:prstGeom>
                <a:noFill/>
                <a:ln w="1260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8736120" y="1679400"/>
                  <a:ext cx="220680" cy="52560"/>
                </a:xfrm>
                <a:prstGeom prst="rect">
                  <a:avLst/>
                </a:prstGeom>
                <a:noFill/>
                <a:ln w="12600">
                  <a:solidFill>
                    <a:srgbClr val="d6d6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8736120" y="1679400"/>
                  <a:ext cx="220680" cy="52560"/>
                </a:xfrm>
                <a:prstGeom prst="rect">
                  <a:avLst/>
                </a:prstGeom>
                <a:noFill/>
                <a:ln w="12600">
                  <a:solidFill>
                    <a:srgbClr val="d4d4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8736120" y="1679400"/>
                  <a:ext cx="220680" cy="49320"/>
                </a:xfrm>
                <a:prstGeom prst="rect">
                  <a:avLst/>
                </a:prstGeom>
                <a:noFill/>
                <a:ln w="12600">
                  <a:solidFill>
                    <a:srgbClr val="d2d2d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8736120" y="1679400"/>
                  <a:ext cx="220680" cy="49320"/>
                </a:xfrm>
                <a:prstGeom prst="rect">
                  <a:avLst/>
                </a:prstGeom>
                <a:noFill/>
                <a:ln w="12600">
                  <a:solidFill>
                    <a:srgbClr val="d0d0d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8736120" y="1679400"/>
                  <a:ext cx="220680" cy="49320"/>
                </a:xfrm>
                <a:prstGeom prst="rect">
                  <a:avLst/>
                </a:prstGeom>
                <a:noFill/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8736120" y="1679400"/>
                  <a:ext cx="220680" cy="49320"/>
                </a:xfrm>
                <a:prstGeom prst="rect">
                  <a:avLst/>
                </a:prstGeom>
                <a:noFill/>
                <a:ln w="1260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8736120" y="1679400"/>
                  <a:ext cx="220680" cy="46080"/>
                </a:xfrm>
                <a:prstGeom prst="rect">
                  <a:avLst/>
                </a:prstGeom>
                <a:noFill/>
                <a:ln w="12600">
                  <a:solidFill>
                    <a:srgbClr val="caca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8736120" y="1679400"/>
                  <a:ext cx="220680" cy="46080"/>
                </a:xfrm>
                <a:prstGeom prst="rect">
                  <a:avLst/>
                </a:prstGeom>
                <a:noFill/>
                <a:ln w="12600">
                  <a:solidFill>
                    <a:srgbClr val="c8c8c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8736120" y="1679400"/>
                  <a:ext cx="220680" cy="46080"/>
                </a:xfrm>
                <a:prstGeom prst="rect">
                  <a:avLst/>
                </a:prstGeom>
                <a:noFill/>
                <a:ln w="12600">
                  <a:solidFill>
                    <a:srgbClr val="c6c6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8736120" y="1679400"/>
                  <a:ext cx="220680" cy="46080"/>
                </a:xfrm>
                <a:prstGeom prst="rect">
                  <a:avLst/>
                </a:prstGeom>
                <a:noFill/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8736120" y="1679400"/>
                  <a:ext cx="220680" cy="43200"/>
                </a:xfrm>
                <a:prstGeom prst="rect">
                  <a:avLst/>
                </a:prstGeom>
                <a:noFill/>
                <a:ln w="12600">
                  <a:solidFill>
                    <a:srgbClr val="c2c2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8736120" y="1679400"/>
                  <a:ext cx="220680" cy="4320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8736120" y="1679400"/>
                  <a:ext cx="220680" cy="43200"/>
                </a:xfrm>
                <a:prstGeom prst="rect">
                  <a:avLst/>
                </a:prstGeom>
                <a:noFill/>
                <a:ln w="12600">
                  <a:solidFill>
                    <a:srgbClr val="bebe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8736120" y="1679400"/>
                  <a:ext cx="220680" cy="41400"/>
                </a:xfrm>
                <a:prstGeom prst="rect">
                  <a:avLst/>
                </a:prstGeom>
                <a:noFill/>
                <a:ln w="12600">
                  <a:solidFill>
                    <a:srgbClr val="bcbc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8736120" y="1679400"/>
                  <a:ext cx="220680" cy="41400"/>
                </a:xfrm>
                <a:prstGeom prst="rect">
                  <a:avLst/>
                </a:prstGeom>
                <a:noFill/>
                <a:ln w="12600">
                  <a:solidFill>
                    <a:srgbClr val="baba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8736120" y="1679400"/>
                  <a:ext cx="220680" cy="41400"/>
                </a:xfrm>
                <a:prstGeom prst="rect">
                  <a:avLst/>
                </a:prstGeom>
                <a:noFill/>
                <a:ln w="12600">
                  <a:solidFill>
                    <a:srgbClr val="b8b8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8736120" y="1679400"/>
                  <a:ext cx="220680" cy="41400"/>
                </a:xfrm>
                <a:prstGeom prst="rect">
                  <a:avLst/>
                </a:prstGeom>
                <a:noFill/>
                <a:ln w="12600">
                  <a:solidFill>
                    <a:srgbClr val="b6b6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8736120" y="1679400"/>
                  <a:ext cx="220680" cy="41400"/>
                </a:xfrm>
                <a:prstGeom prst="rect">
                  <a:avLst/>
                </a:prstGeom>
                <a:noFill/>
                <a:ln w="12600">
                  <a:solidFill>
                    <a:srgbClr val="b4b4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8736120" y="1679400"/>
                  <a:ext cx="220680" cy="38160"/>
                </a:xfrm>
                <a:prstGeom prst="rect">
                  <a:avLst/>
                </a:prstGeom>
                <a:noFill/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8736120" y="1679400"/>
                  <a:ext cx="220680" cy="38160"/>
                </a:xfrm>
                <a:prstGeom prst="rect">
                  <a:avLst/>
                </a:prstGeom>
                <a:noFill/>
                <a:ln w="12600">
                  <a:solidFill>
                    <a:srgbClr val="b0b0b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8736120" y="1679400"/>
                  <a:ext cx="220680" cy="38160"/>
                </a:xfrm>
                <a:prstGeom prst="rect">
                  <a:avLst/>
                </a:prstGeom>
                <a:noFill/>
                <a:ln w="12600">
                  <a:solidFill>
                    <a:srgbClr val="aeae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8736120" y="1679400"/>
                  <a:ext cx="220680" cy="35280"/>
                </a:xfrm>
                <a:prstGeom prst="rect">
                  <a:avLst/>
                </a:prstGeom>
                <a:noFill/>
                <a:ln w="12600">
                  <a:solidFill>
                    <a:srgbClr val="acac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8736120" y="1679400"/>
                  <a:ext cx="220680" cy="35280"/>
                </a:xfrm>
                <a:prstGeom prst="rect">
                  <a:avLst/>
                </a:prstGeom>
                <a:noFill/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8736120" y="1679400"/>
                  <a:ext cx="220680" cy="35280"/>
                </a:xfrm>
                <a:prstGeom prst="rect">
                  <a:avLst/>
                </a:prstGeom>
                <a:noFill/>
                <a:ln w="12600">
                  <a:solidFill>
                    <a:srgbClr val="a8a8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8736120" y="1679400"/>
                  <a:ext cx="220680" cy="35280"/>
                </a:xfrm>
                <a:prstGeom prst="rect">
                  <a:avLst/>
                </a:prstGeom>
                <a:noFill/>
                <a:ln w="1260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8736120" y="1679400"/>
                  <a:ext cx="220680" cy="33480"/>
                </a:xfrm>
                <a:prstGeom prst="rect">
                  <a:avLst/>
                </a:prstGeom>
                <a:noFill/>
                <a:ln w="12600">
                  <a:solidFill>
                    <a:srgbClr val="a4a4a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8736120" y="1679400"/>
                  <a:ext cx="220680" cy="33480"/>
                </a:xfrm>
                <a:prstGeom prst="rect">
                  <a:avLst/>
                </a:prstGeom>
                <a:noFill/>
                <a:ln w="12600">
                  <a:solidFill>
                    <a:srgbClr val="a2a2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8736120" y="1679400"/>
                  <a:ext cx="220680" cy="3348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8736120" y="1679400"/>
                  <a:ext cx="220680" cy="33480"/>
                </a:xfrm>
                <a:prstGeom prst="rect">
                  <a:avLst/>
                </a:prstGeom>
                <a:noFill/>
                <a:ln w="12600">
                  <a:solidFill>
                    <a:srgbClr val="9e9e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c9c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a9a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898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4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292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09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e8e8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c8c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a8a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484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282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d7d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b7b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979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575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37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1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f6f6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d6d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b6b6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969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565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3636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161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d5d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b5b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7575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3535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1515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f4f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b4b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949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545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343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d3d3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b3b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737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535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8729640" y="1673280"/>
                  <a:ext cx="236520" cy="42840"/>
                </a:xfrm>
                <a:prstGeom prst="rect">
                  <a:avLst/>
                </a:prstGeom>
                <a:solidFill>
                  <a:srgbClr val="35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4" name=""/>
              <p:cNvGrpSpPr/>
              <p:nvPr/>
            </p:nvGrpSpPr>
            <p:grpSpPr>
              <a:xfrm>
                <a:off x="8745480" y="1414440"/>
                <a:ext cx="233280" cy="179280"/>
                <a:chOff x="8745480" y="1414440"/>
                <a:chExt cx="233280" cy="17928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8745480" y="1506600"/>
                  <a:ext cx="233280" cy="8712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8751960" y="1512720"/>
                  <a:ext cx="217440" cy="63720"/>
                </a:xfrm>
                <a:prstGeom prst="rect">
                  <a:avLst/>
                </a:prstGeom>
                <a:noFill/>
                <a:ln w="12600">
                  <a:solidFill>
                    <a:srgbClr val="f6f6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8751960" y="1512720"/>
                  <a:ext cx="217440" cy="63720"/>
                </a:xfrm>
                <a:prstGeom prst="rect">
                  <a:avLst/>
                </a:prstGeom>
                <a:noFill/>
                <a:ln w="12600">
                  <a:solidFill>
                    <a:srgbClr val="f4f4f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f0f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ecece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e8e8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e6e6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e4e4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e2e2e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dede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8751960" y="1512720"/>
                  <a:ext cx="217440" cy="55800"/>
                </a:xfrm>
                <a:prstGeom prst="rect">
                  <a:avLst/>
                </a:prstGeom>
                <a:noFill/>
                <a:ln w="1260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8751960" y="1512720"/>
                  <a:ext cx="217440" cy="55800"/>
                </a:xfrm>
                <a:prstGeom prst="rect">
                  <a:avLst/>
                </a:prstGeom>
                <a:noFill/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8751960" y="1512720"/>
                  <a:ext cx="217440" cy="55800"/>
                </a:xfrm>
                <a:prstGeom prst="rect">
                  <a:avLst/>
                </a:prstGeom>
                <a:noFill/>
                <a:ln w="1260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8751960" y="1512720"/>
                  <a:ext cx="217440" cy="55800"/>
                </a:xfrm>
                <a:prstGeom prst="rect">
                  <a:avLst/>
                </a:prstGeom>
                <a:noFill/>
                <a:ln w="12600">
                  <a:solidFill>
                    <a:srgbClr val="d6d6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8751960" y="1512720"/>
                  <a:ext cx="217440" cy="55800"/>
                </a:xfrm>
                <a:prstGeom prst="rect">
                  <a:avLst/>
                </a:prstGeom>
                <a:noFill/>
                <a:ln w="12600">
                  <a:solidFill>
                    <a:srgbClr val="d4d4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8751960" y="1512720"/>
                  <a:ext cx="217440" cy="55800"/>
                </a:xfrm>
                <a:prstGeom prst="rect">
                  <a:avLst/>
                </a:prstGeom>
                <a:noFill/>
                <a:ln w="12600">
                  <a:solidFill>
                    <a:srgbClr val="d2d2d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8751960" y="1512720"/>
                  <a:ext cx="217440" cy="52560"/>
                </a:xfrm>
                <a:prstGeom prst="rect">
                  <a:avLst/>
                </a:prstGeom>
                <a:noFill/>
                <a:ln w="12600">
                  <a:solidFill>
                    <a:srgbClr val="d0d0d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8751960" y="1512720"/>
                  <a:ext cx="217440" cy="52560"/>
                </a:xfrm>
                <a:prstGeom prst="rect">
                  <a:avLst/>
                </a:prstGeom>
                <a:noFill/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8751960" y="1512720"/>
                  <a:ext cx="217440" cy="52560"/>
                </a:xfrm>
                <a:prstGeom prst="rect">
                  <a:avLst/>
                </a:prstGeom>
                <a:noFill/>
                <a:ln w="1260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8751960" y="1512720"/>
                  <a:ext cx="217440" cy="52560"/>
                </a:xfrm>
                <a:prstGeom prst="rect">
                  <a:avLst/>
                </a:prstGeom>
                <a:noFill/>
                <a:ln w="12600">
                  <a:solidFill>
                    <a:srgbClr val="caca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8751960" y="1512720"/>
                  <a:ext cx="217440" cy="52560"/>
                </a:xfrm>
                <a:prstGeom prst="rect">
                  <a:avLst/>
                </a:prstGeom>
                <a:noFill/>
                <a:ln w="12600">
                  <a:solidFill>
                    <a:srgbClr val="c8c8c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8751960" y="1512720"/>
                  <a:ext cx="217440" cy="47880"/>
                </a:xfrm>
                <a:prstGeom prst="rect">
                  <a:avLst/>
                </a:prstGeom>
                <a:noFill/>
                <a:ln w="12600">
                  <a:solidFill>
                    <a:srgbClr val="c6c6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8751960" y="1512720"/>
                  <a:ext cx="217440" cy="47880"/>
                </a:xfrm>
                <a:prstGeom prst="rect">
                  <a:avLst/>
                </a:prstGeom>
                <a:noFill/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8751960" y="1512720"/>
                  <a:ext cx="217440" cy="47880"/>
                </a:xfrm>
                <a:prstGeom prst="rect">
                  <a:avLst/>
                </a:prstGeom>
                <a:noFill/>
                <a:ln w="12600">
                  <a:solidFill>
                    <a:srgbClr val="c2c2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8751960" y="1512720"/>
                  <a:ext cx="217440" cy="4788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8751960" y="1512720"/>
                  <a:ext cx="217440" cy="47880"/>
                </a:xfrm>
                <a:prstGeom prst="rect">
                  <a:avLst/>
                </a:prstGeom>
                <a:noFill/>
                <a:ln w="12600">
                  <a:solidFill>
                    <a:srgbClr val="bebe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8751960" y="1512720"/>
                  <a:ext cx="217440" cy="47880"/>
                </a:xfrm>
                <a:prstGeom prst="rect">
                  <a:avLst/>
                </a:prstGeom>
                <a:noFill/>
                <a:ln w="12600">
                  <a:solidFill>
                    <a:srgbClr val="bcbc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8751960" y="1512720"/>
                  <a:ext cx="217440" cy="44640"/>
                </a:xfrm>
                <a:prstGeom prst="rect">
                  <a:avLst/>
                </a:prstGeom>
                <a:noFill/>
                <a:ln w="12600">
                  <a:solidFill>
                    <a:srgbClr val="baba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8751960" y="1512720"/>
                  <a:ext cx="217440" cy="44640"/>
                </a:xfrm>
                <a:prstGeom prst="rect">
                  <a:avLst/>
                </a:prstGeom>
                <a:noFill/>
                <a:ln w="12600">
                  <a:solidFill>
                    <a:srgbClr val="b8b8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8751960" y="1512720"/>
                  <a:ext cx="217440" cy="44640"/>
                </a:xfrm>
                <a:prstGeom prst="rect">
                  <a:avLst/>
                </a:prstGeom>
                <a:noFill/>
                <a:ln w="12600">
                  <a:solidFill>
                    <a:srgbClr val="b6b6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8751960" y="1512720"/>
                  <a:ext cx="217440" cy="44640"/>
                </a:xfrm>
                <a:prstGeom prst="rect">
                  <a:avLst/>
                </a:prstGeom>
                <a:noFill/>
                <a:ln w="12600">
                  <a:solidFill>
                    <a:srgbClr val="b4b4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8751960" y="1512720"/>
                  <a:ext cx="217440" cy="44640"/>
                </a:xfrm>
                <a:prstGeom prst="rect">
                  <a:avLst/>
                </a:prstGeom>
                <a:noFill/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8751960" y="1512720"/>
                  <a:ext cx="217440" cy="44640"/>
                </a:xfrm>
                <a:prstGeom prst="rect">
                  <a:avLst/>
                </a:prstGeom>
                <a:noFill/>
                <a:ln w="12600">
                  <a:solidFill>
                    <a:srgbClr val="b0b0b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8751960" y="1512720"/>
                  <a:ext cx="217440" cy="39960"/>
                </a:xfrm>
                <a:prstGeom prst="rect">
                  <a:avLst/>
                </a:prstGeom>
                <a:noFill/>
                <a:ln w="12600">
                  <a:solidFill>
                    <a:srgbClr val="aeae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8751960" y="1512720"/>
                  <a:ext cx="217440" cy="39960"/>
                </a:xfrm>
                <a:prstGeom prst="rect">
                  <a:avLst/>
                </a:prstGeom>
                <a:noFill/>
                <a:ln w="12600">
                  <a:solidFill>
                    <a:srgbClr val="acac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8751960" y="1512720"/>
                  <a:ext cx="217440" cy="39960"/>
                </a:xfrm>
                <a:prstGeom prst="rect">
                  <a:avLst/>
                </a:prstGeom>
                <a:noFill/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8751960" y="1512720"/>
                  <a:ext cx="217440" cy="39960"/>
                </a:xfrm>
                <a:prstGeom prst="rect">
                  <a:avLst/>
                </a:prstGeom>
                <a:noFill/>
                <a:ln w="12600">
                  <a:solidFill>
                    <a:srgbClr val="a8a8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8751960" y="1512720"/>
                  <a:ext cx="217440" cy="39960"/>
                </a:xfrm>
                <a:prstGeom prst="rect">
                  <a:avLst/>
                </a:prstGeom>
                <a:noFill/>
                <a:ln w="1260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8751960" y="1512720"/>
                  <a:ext cx="217440" cy="36720"/>
                </a:xfrm>
                <a:prstGeom prst="rect">
                  <a:avLst/>
                </a:prstGeom>
                <a:noFill/>
                <a:ln w="12600">
                  <a:solidFill>
                    <a:srgbClr val="a4a4a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8751960" y="1512720"/>
                  <a:ext cx="217440" cy="36720"/>
                </a:xfrm>
                <a:prstGeom prst="rect">
                  <a:avLst/>
                </a:prstGeom>
                <a:noFill/>
                <a:ln w="12600">
                  <a:solidFill>
                    <a:srgbClr val="a2a2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8751960" y="1512720"/>
                  <a:ext cx="217440" cy="3672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8751960" y="1512720"/>
                  <a:ext cx="217440" cy="36720"/>
                </a:xfrm>
                <a:prstGeom prst="rect">
                  <a:avLst/>
                </a:prstGeom>
                <a:noFill/>
                <a:ln w="12600">
                  <a:solidFill>
                    <a:srgbClr val="9e9e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8751960" y="1512720"/>
                  <a:ext cx="217440" cy="36720"/>
                </a:xfrm>
                <a:prstGeom prst="rect">
                  <a:avLst/>
                </a:prstGeom>
                <a:noFill/>
                <a:ln w="12600">
                  <a:solidFill>
                    <a:srgbClr val="9c9c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9a9a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9898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94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9292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909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8e8e8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8c8c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8a8a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8484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8282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7d7d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7b7b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7979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7575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737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71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6f6f6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6d6d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6b6b6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6969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6565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63636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6161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5d5d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5b5b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57575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53535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51515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4f4f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4b4b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4949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4545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4343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3d3d3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3b3b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3737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3535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8745480" y="1506600"/>
                  <a:ext cx="233280" cy="44280"/>
                </a:xfrm>
                <a:prstGeom prst="rect">
                  <a:avLst/>
                </a:prstGeom>
                <a:solidFill>
                  <a:srgbClr val="35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8856720" y="1414440"/>
                  <a:ext cx="122040" cy="11124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5" name=""/>
              <p:cNvSpPr/>
              <p:nvPr/>
            </p:nvSpPr>
            <p:spPr>
              <a:xfrm>
                <a:off x="8721720" y="1922400"/>
                <a:ext cx="257040" cy="36504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8729640" y="1930320"/>
                <a:ext cx="169920" cy="34920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8906040" y="1930320"/>
                <a:ext cx="63360" cy="34920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8691480" y="1389240"/>
                <a:ext cx="311400" cy="925200"/>
              </a:xfrm>
              <a:prstGeom prst="rect">
                <a:avLst/>
              </a:prstGeom>
              <a:noFill/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8729640" y="1751040"/>
                <a:ext cx="239760" cy="889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8726400" y="1585800"/>
                <a:ext cx="239760" cy="889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1" name=""/>
              <p:cNvGrpSpPr/>
              <p:nvPr/>
            </p:nvGrpSpPr>
            <p:grpSpPr>
              <a:xfrm>
                <a:off x="8678880" y="1620720"/>
                <a:ext cx="271440" cy="252360"/>
                <a:chOff x="8678880" y="1620720"/>
                <a:chExt cx="271440" cy="25236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8678880" y="1620720"/>
                  <a:ext cx="271440" cy="25236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8685360" y="1627200"/>
                  <a:ext cx="257040" cy="212760"/>
                </a:xfrm>
                <a:prstGeom prst="rect">
                  <a:avLst/>
                </a:prstGeom>
                <a:noFill/>
                <a:ln w="12600">
                  <a:solidFill>
                    <a:srgbClr val="f6f6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8685360" y="1627200"/>
                  <a:ext cx="257040" cy="209520"/>
                </a:xfrm>
                <a:prstGeom prst="rect">
                  <a:avLst/>
                </a:prstGeom>
                <a:noFill/>
                <a:ln w="12600">
                  <a:solidFill>
                    <a:srgbClr val="f4f4f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8685360" y="1627200"/>
                  <a:ext cx="257040" cy="209520"/>
                </a:xfrm>
                <a:prstGeom prst="rect">
                  <a:avLst/>
                </a:prstGeom>
                <a:noFill/>
                <a:ln w="1260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8685360" y="1627200"/>
                  <a:ext cx="257040" cy="206280"/>
                </a:xfrm>
                <a:prstGeom prst="rect">
                  <a:avLst/>
                </a:prstGeom>
                <a:noFill/>
                <a:ln w="12600">
                  <a:solidFill>
                    <a:srgbClr val="f0f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8685360" y="1627200"/>
                  <a:ext cx="257040" cy="204840"/>
                </a:xfrm>
                <a:prstGeom prst="rect">
                  <a:avLst/>
                </a:prstGeom>
                <a:noFill/>
                <a:ln w="1260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8685360" y="1627200"/>
                  <a:ext cx="257040" cy="201600"/>
                </a:xfrm>
                <a:prstGeom prst="rect">
                  <a:avLst/>
                </a:prstGeom>
                <a:noFill/>
                <a:ln w="12600">
                  <a:solidFill>
                    <a:srgbClr val="ecece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8685360" y="1627200"/>
                  <a:ext cx="257040" cy="198360"/>
                </a:xfrm>
                <a:prstGeom prst="rect">
                  <a:avLst/>
                </a:prstGeom>
                <a:noFill/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8685360" y="1627200"/>
                  <a:ext cx="257040" cy="198360"/>
                </a:xfrm>
                <a:prstGeom prst="rect">
                  <a:avLst/>
                </a:prstGeom>
                <a:noFill/>
                <a:ln w="12600">
                  <a:solidFill>
                    <a:srgbClr val="e8e8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8685360" y="1627200"/>
                  <a:ext cx="257040" cy="196920"/>
                </a:xfrm>
                <a:prstGeom prst="rect">
                  <a:avLst/>
                </a:prstGeom>
                <a:noFill/>
                <a:ln w="12600">
                  <a:solidFill>
                    <a:srgbClr val="e6e6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8685360" y="1627200"/>
                  <a:ext cx="257040" cy="193680"/>
                </a:xfrm>
                <a:prstGeom prst="rect">
                  <a:avLst/>
                </a:prstGeom>
                <a:noFill/>
                <a:ln w="12600">
                  <a:solidFill>
                    <a:srgbClr val="e4e4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8685360" y="1627200"/>
                  <a:ext cx="257040" cy="193680"/>
                </a:xfrm>
                <a:prstGeom prst="rect">
                  <a:avLst/>
                </a:prstGeom>
                <a:noFill/>
                <a:ln w="12600">
                  <a:solidFill>
                    <a:srgbClr val="e2e2e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8685360" y="1627200"/>
                  <a:ext cx="257040" cy="190440"/>
                </a:xfrm>
                <a:prstGeom prst="rect">
                  <a:avLst/>
                </a:prstGeom>
                <a:noFill/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8685360" y="1627200"/>
                  <a:ext cx="257040" cy="187200"/>
                </a:xfrm>
                <a:prstGeom prst="rect">
                  <a:avLst/>
                </a:prstGeom>
                <a:noFill/>
                <a:ln w="12600">
                  <a:solidFill>
                    <a:srgbClr val="dede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8685360" y="1627200"/>
                  <a:ext cx="257040" cy="185760"/>
                </a:xfrm>
                <a:prstGeom prst="rect">
                  <a:avLst/>
                </a:prstGeom>
                <a:noFill/>
                <a:ln w="1260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8685360" y="1627200"/>
                  <a:ext cx="257040" cy="182520"/>
                </a:xfrm>
                <a:prstGeom prst="rect">
                  <a:avLst/>
                </a:prstGeom>
                <a:noFill/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8685360" y="1627200"/>
                  <a:ext cx="257040" cy="182520"/>
                </a:xfrm>
                <a:prstGeom prst="rect">
                  <a:avLst/>
                </a:prstGeom>
                <a:noFill/>
                <a:ln w="1260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8685360" y="1627200"/>
                  <a:ext cx="257040" cy="179280"/>
                </a:xfrm>
                <a:prstGeom prst="rect">
                  <a:avLst/>
                </a:prstGeom>
                <a:noFill/>
                <a:ln w="12600">
                  <a:solidFill>
                    <a:srgbClr val="d6d6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8685360" y="1627200"/>
                  <a:ext cx="257040" cy="177840"/>
                </a:xfrm>
                <a:prstGeom prst="rect">
                  <a:avLst/>
                </a:prstGeom>
                <a:noFill/>
                <a:ln w="12600">
                  <a:solidFill>
                    <a:srgbClr val="d4d4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8685360" y="1627200"/>
                  <a:ext cx="257040" cy="174600"/>
                </a:xfrm>
                <a:prstGeom prst="rect">
                  <a:avLst/>
                </a:prstGeom>
                <a:noFill/>
                <a:ln w="12600">
                  <a:solidFill>
                    <a:srgbClr val="d2d2d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8685360" y="1627200"/>
                  <a:ext cx="257040" cy="174600"/>
                </a:xfrm>
                <a:prstGeom prst="rect">
                  <a:avLst/>
                </a:prstGeom>
                <a:noFill/>
                <a:ln w="12600">
                  <a:solidFill>
                    <a:srgbClr val="d0d0d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8685360" y="1627200"/>
                  <a:ext cx="257040" cy="171360"/>
                </a:xfrm>
                <a:prstGeom prst="rect">
                  <a:avLst/>
                </a:prstGeom>
                <a:noFill/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8685360" y="1627200"/>
                  <a:ext cx="257040" cy="168120"/>
                </a:xfrm>
                <a:prstGeom prst="rect">
                  <a:avLst/>
                </a:prstGeom>
                <a:noFill/>
                <a:ln w="1260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8685360" y="1627200"/>
                  <a:ext cx="257040" cy="166680"/>
                </a:xfrm>
                <a:prstGeom prst="rect">
                  <a:avLst/>
                </a:prstGeom>
                <a:noFill/>
                <a:ln w="12600">
                  <a:solidFill>
                    <a:srgbClr val="caca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8685360" y="1627200"/>
                  <a:ext cx="257040" cy="166680"/>
                </a:xfrm>
                <a:prstGeom prst="rect">
                  <a:avLst/>
                </a:prstGeom>
                <a:noFill/>
                <a:ln w="12600">
                  <a:solidFill>
                    <a:srgbClr val="c8c8c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8685360" y="1627200"/>
                  <a:ext cx="257040" cy="163440"/>
                </a:xfrm>
                <a:prstGeom prst="rect">
                  <a:avLst/>
                </a:prstGeom>
                <a:noFill/>
                <a:ln w="12600">
                  <a:solidFill>
                    <a:srgbClr val="c6c6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8685360" y="1627200"/>
                  <a:ext cx="257040" cy="160200"/>
                </a:xfrm>
                <a:prstGeom prst="rect">
                  <a:avLst/>
                </a:prstGeom>
                <a:noFill/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8685360" y="1627200"/>
                  <a:ext cx="257040" cy="158760"/>
                </a:xfrm>
                <a:prstGeom prst="rect">
                  <a:avLst/>
                </a:prstGeom>
                <a:noFill/>
                <a:ln w="12600">
                  <a:solidFill>
                    <a:srgbClr val="c2c2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8685360" y="1627200"/>
                  <a:ext cx="257040" cy="15552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8685360" y="1627200"/>
                  <a:ext cx="257040" cy="155520"/>
                </a:xfrm>
                <a:prstGeom prst="rect">
                  <a:avLst/>
                </a:prstGeom>
                <a:noFill/>
                <a:ln w="12600">
                  <a:solidFill>
                    <a:srgbClr val="bebe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8685360" y="1627200"/>
                  <a:ext cx="257040" cy="152280"/>
                </a:xfrm>
                <a:prstGeom prst="rect">
                  <a:avLst/>
                </a:prstGeom>
                <a:noFill/>
                <a:ln w="12600">
                  <a:solidFill>
                    <a:srgbClr val="bcbc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8685360" y="1627200"/>
                  <a:ext cx="257040" cy="150840"/>
                </a:xfrm>
                <a:prstGeom prst="rect">
                  <a:avLst/>
                </a:prstGeom>
                <a:noFill/>
                <a:ln w="12600">
                  <a:solidFill>
                    <a:srgbClr val="baba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8685360" y="1627200"/>
                  <a:ext cx="257040" cy="150840"/>
                </a:xfrm>
                <a:prstGeom prst="rect">
                  <a:avLst/>
                </a:prstGeom>
                <a:noFill/>
                <a:ln w="12600">
                  <a:solidFill>
                    <a:srgbClr val="b8b8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8685360" y="1627200"/>
                  <a:ext cx="257040" cy="147600"/>
                </a:xfrm>
                <a:prstGeom prst="rect">
                  <a:avLst/>
                </a:prstGeom>
                <a:noFill/>
                <a:ln w="12600">
                  <a:solidFill>
                    <a:srgbClr val="b6b6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8685360" y="1627200"/>
                  <a:ext cx="257040" cy="144360"/>
                </a:xfrm>
                <a:prstGeom prst="rect">
                  <a:avLst/>
                </a:prstGeom>
                <a:noFill/>
                <a:ln w="12600">
                  <a:solidFill>
                    <a:srgbClr val="b4b4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8685360" y="1627200"/>
                  <a:ext cx="257040" cy="141120"/>
                </a:xfrm>
                <a:prstGeom prst="rect">
                  <a:avLst/>
                </a:prstGeom>
                <a:noFill/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8685360" y="1627200"/>
                  <a:ext cx="257040" cy="139680"/>
                </a:xfrm>
                <a:prstGeom prst="rect">
                  <a:avLst/>
                </a:prstGeom>
                <a:noFill/>
                <a:ln w="12600">
                  <a:solidFill>
                    <a:srgbClr val="b0b0b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8685360" y="1627200"/>
                  <a:ext cx="257040" cy="139680"/>
                </a:xfrm>
                <a:prstGeom prst="rect">
                  <a:avLst/>
                </a:prstGeom>
                <a:noFill/>
                <a:ln w="12600">
                  <a:solidFill>
                    <a:srgbClr val="aeae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8685360" y="1627200"/>
                  <a:ext cx="257040" cy="136440"/>
                </a:xfrm>
                <a:prstGeom prst="rect">
                  <a:avLst/>
                </a:prstGeom>
                <a:noFill/>
                <a:ln w="12600">
                  <a:solidFill>
                    <a:srgbClr val="acac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8685360" y="1627200"/>
                  <a:ext cx="257040" cy="133200"/>
                </a:xfrm>
                <a:prstGeom prst="rect">
                  <a:avLst/>
                </a:prstGeom>
                <a:noFill/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8685360" y="1627200"/>
                  <a:ext cx="257040" cy="131760"/>
                </a:xfrm>
                <a:prstGeom prst="rect">
                  <a:avLst/>
                </a:prstGeom>
                <a:noFill/>
                <a:ln w="12600">
                  <a:solidFill>
                    <a:srgbClr val="a8a8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8685360" y="1627200"/>
                  <a:ext cx="257040" cy="131760"/>
                </a:xfrm>
                <a:prstGeom prst="rect">
                  <a:avLst/>
                </a:prstGeom>
                <a:noFill/>
                <a:ln w="1260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8685360" y="1627200"/>
                  <a:ext cx="257040" cy="128520"/>
                </a:xfrm>
                <a:prstGeom prst="rect">
                  <a:avLst/>
                </a:prstGeom>
                <a:noFill/>
                <a:ln w="12600">
                  <a:solidFill>
                    <a:srgbClr val="a4a4a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8685360" y="1627200"/>
                  <a:ext cx="257040" cy="125280"/>
                </a:xfrm>
                <a:prstGeom prst="rect">
                  <a:avLst/>
                </a:prstGeom>
                <a:noFill/>
                <a:ln w="12600">
                  <a:solidFill>
                    <a:srgbClr val="a2a2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8685360" y="1627200"/>
                  <a:ext cx="257040" cy="12240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8685360" y="1627200"/>
                  <a:ext cx="257040" cy="122400"/>
                </a:xfrm>
                <a:prstGeom prst="rect">
                  <a:avLst/>
                </a:prstGeom>
                <a:noFill/>
                <a:ln w="12600">
                  <a:solidFill>
                    <a:srgbClr val="9e9e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8685360" y="1627200"/>
                  <a:ext cx="257040" cy="120600"/>
                </a:xfrm>
                <a:prstGeom prst="rect">
                  <a:avLst/>
                </a:prstGeom>
                <a:noFill/>
                <a:ln w="12600">
                  <a:solidFill>
                    <a:srgbClr val="9c9c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8685360" y="1627200"/>
                  <a:ext cx="257040" cy="117360"/>
                </a:xfrm>
                <a:prstGeom prst="rect">
                  <a:avLst/>
                </a:prstGeom>
                <a:noFill/>
                <a:ln w="12600">
                  <a:solidFill>
                    <a:srgbClr val="9a9a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8685360" y="1627200"/>
                  <a:ext cx="257040" cy="114120"/>
                </a:xfrm>
                <a:prstGeom prst="rect">
                  <a:avLst/>
                </a:prstGeom>
                <a:noFill/>
                <a:ln w="12600">
                  <a:solidFill>
                    <a:srgbClr val="9898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8685360" y="1627200"/>
                  <a:ext cx="257040" cy="114120"/>
                </a:xfrm>
                <a:prstGeom prst="rect">
                  <a:avLst/>
                </a:prstGeom>
                <a:noFill/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8685360" y="1627200"/>
                  <a:ext cx="257040" cy="112680"/>
                </a:xfrm>
                <a:prstGeom prst="rect">
                  <a:avLst/>
                </a:prstGeom>
                <a:noFill/>
                <a:ln w="12600">
                  <a:solidFill>
                    <a:srgbClr val="94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8685360" y="1627200"/>
                  <a:ext cx="257040" cy="109440"/>
                </a:xfrm>
                <a:prstGeom prst="rect">
                  <a:avLst/>
                </a:prstGeom>
                <a:noFill/>
                <a:ln w="12600">
                  <a:solidFill>
                    <a:srgbClr val="9292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8685360" y="1627200"/>
                  <a:ext cx="257040" cy="106200"/>
                </a:xfrm>
                <a:prstGeom prst="rect">
                  <a:avLst/>
                </a:prstGeom>
                <a:noFill/>
                <a:ln w="12600">
                  <a:solidFill>
                    <a:srgbClr val="909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8685360" y="1627200"/>
                  <a:ext cx="257040" cy="106200"/>
                </a:xfrm>
                <a:prstGeom prst="rect">
                  <a:avLst/>
                </a:prstGeom>
                <a:noFill/>
                <a:ln w="12600">
                  <a:solidFill>
                    <a:srgbClr val="8e8e8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8685360" y="1627200"/>
                  <a:ext cx="257040" cy="104760"/>
                </a:xfrm>
                <a:prstGeom prst="rect">
                  <a:avLst/>
                </a:prstGeom>
                <a:noFill/>
                <a:ln w="12600">
                  <a:solidFill>
                    <a:srgbClr val="8c8c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8685360" y="1627200"/>
                  <a:ext cx="257040" cy="101520"/>
                </a:xfrm>
                <a:prstGeom prst="rect">
                  <a:avLst/>
                </a:prstGeom>
                <a:noFill/>
                <a:ln w="12600">
                  <a:solidFill>
                    <a:srgbClr val="8a8a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8685360" y="1627200"/>
                  <a:ext cx="257040" cy="98280"/>
                </a:xfrm>
                <a:prstGeom prst="rect">
                  <a:avLst/>
                </a:prstGeom>
                <a:noFill/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8685360" y="1627200"/>
                  <a:ext cx="257040" cy="98280"/>
                </a:xfrm>
                <a:prstGeom prst="rect">
                  <a:avLst/>
                </a:prstGeom>
                <a:noFill/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8685360" y="1627200"/>
                  <a:ext cx="257040" cy="95400"/>
                </a:xfrm>
                <a:prstGeom prst="rect">
                  <a:avLst/>
                </a:prstGeom>
                <a:noFill/>
                <a:ln w="12600">
                  <a:solidFill>
                    <a:srgbClr val="8484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8685360" y="1627200"/>
                  <a:ext cx="257040" cy="93600"/>
                </a:xfrm>
                <a:prstGeom prst="rect">
                  <a:avLst/>
                </a:prstGeom>
                <a:noFill/>
                <a:ln w="12600">
                  <a:solidFill>
                    <a:srgbClr val="8282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8685360" y="1627200"/>
                  <a:ext cx="257040" cy="90360"/>
                </a:xfrm>
                <a:prstGeom prst="rect">
                  <a:avLst/>
                </a:prstGeom>
                <a:noFill/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8685360" y="1627200"/>
                  <a:ext cx="257040" cy="87480"/>
                </a:xfrm>
                <a:prstGeom prst="rect">
                  <a:avLst/>
                </a:prstGeom>
                <a:noFill/>
                <a:ln w="12600">
                  <a:solidFill>
                    <a:srgbClr val="7d7d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8685360" y="1627200"/>
                  <a:ext cx="257040" cy="87480"/>
                </a:xfrm>
                <a:prstGeom prst="rect">
                  <a:avLst/>
                </a:prstGeom>
                <a:noFill/>
                <a:ln w="12600">
                  <a:solidFill>
                    <a:srgbClr val="7b7b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8685360" y="1627200"/>
                  <a:ext cx="257040" cy="85680"/>
                </a:xfrm>
                <a:prstGeom prst="rect">
                  <a:avLst/>
                </a:prstGeom>
                <a:noFill/>
                <a:ln w="12600">
                  <a:solidFill>
                    <a:srgbClr val="7979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8685360" y="1627200"/>
                  <a:ext cx="257040" cy="82440"/>
                </a:xfrm>
                <a:prstGeom prst="rect">
                  <a:avLst/>
                </a:prstGeom>
                <a:noFill/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8685360" y="1627200"/>
                  <a:ext cx="257040" cy="79200"/>
                </a:xfrm>
                <a:prstGeom prst="rect">
                  <a:avLst/>
                </a:prstGeom>
                <a:noFill/>
                <a:ln w="12600">
                  <a:solidFill>
                    <a:srgbClr val="7575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8685360" y="1627200"/>
                  <a:ext cx="257040" cy="76320"/>
                </a:xfrm>
                <a:prstGeom prst="rect">
                  <a:avLst/>
                </a:prstGeom>
                <a:noFill/>
                <a:ln w="12600">
                  <a:solidFill>
                    <a:srgbClr val="737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8685360" y="1627200"/>
                  <a:ext cx="257040" cy="76320"/>
                </a:xfrm>
                <a:prstGeom prst="rect">
                  <a:avLst/>
                </a:prstGeom>
                <a:noFill/>
                <a:ln w="12600">
                  <a:solidFill>
                    <a:srgbClr val="71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8685360" y="1627200"/>
                  <a:ext cx="257040" cy="74520"/>
                </a:xfrm>
                <a:prstGeom prst="rect">
                  <a:avLst/>
                </a:prstGeom>
                <a:noFill/>
                <a:ln w="12600">
                  <a:solidFill>
                    <a:srgbClr val="6f6f6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8685360" y="1627200"/>
                  <a:ext cx="257040" cy="71280"/>
                </a:xfrm>
                <a:prstGeom prst="rect">
                  <a:avLst/>
                </a:prstGeom>
                <a:noFill/>
                <a:ln w="12600">
                  <a:solidFill>
                    <a:srgbClr val="6d6d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8685360" y="1627200"/>
                  <a:ext cx="257040" cy="71280"/>
                </a:xfrm>
                <a:prstGeom prst="rect">
                  <a:avLst/>
                </a:prstGeom>
                <a:noFill/>
                <a:ln w="12600">
                  <a:solidFill>
                    <a:srgbClr val="6b6b6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8685360" y="1627200"/>
                  <a:ext cx="257040" cy="68400"/>
                </a:xfrm>
                <a:prstGeom prst="rect">
                  <a:avLst/>
                </a:prstGeom>
                <a:noFill/>
                <a:ln w="12600">
                  <a:solidFill>
                    <a:srgbClr val="6969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8685360" y="1627200"/>
                  <a:ext cx="257040" cy="66600"/>
                </a:xfrm>
                <a:prstGeom prst="rect">
                  <a:avLst/>
                </a:prstGeom>
                <a:noFill/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8685360" y="1627200"/>
                  <a:ext cx="257040" cy="63360"/>
                </a:xfrm>
                <a:prstGeom prst="rect">
                  <a:avLst/>
                </a:prstGeom>
                <a:noFill/>
                <a:ln w="12600">
                  <a:solidFill>
                    <a:srgbClr val="6565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8685360" y="1627200"/>
                  <a:ext cx="257040" cy="63360"/>
                </a:xfrm>
                <a:prstGeom prst="rect">
                  <a:avLst/>
                </a:prstGeom>
                <a:noFill/>
                <a:ln w="12600">
                  <a:solidFill>
                    <a:srgbClr val="63636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8685360" y="1627200"/>
                  <a:ext cx="257040" cy="60480"/>
                </a:xfrm>
                <a:prstGeom prst="rect">
                  <a:avLst/>
                </a:prstGeom>
                <a:noFill/>
                <a:ln w="12600">
                  <a:solidFill>
                    <a:srgbClr val="6161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8685360" y="1627200"/>
                  <a:ext cx="257040" cy="57240"/>
                </a:xfrm>
                <a:prstGeom prst="rect">
                  <a:avLst/>
                </a:prstGeom>
                <a:noFill/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8685360" y="1627200"/>
                  <a:ext cx="257040" cy="55440"/>
                </a:xfrm>
                <a:prstGeom prst="rect">
                  <a:avLst/>
                </a:prstGeom>
                <a:noFill/>
                <a:ln w="12600">
                  <a:solidFill>
                    <a:srgbClr val="5d5d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8685360" y="1627200"/>
                  <a:ext cx="257040" cy="55440"/>
                </a:xfrm>
                <a:prstGeom prst="rect">
                  <a:avLst/>
                </a:prstGeom>
                <a:noFill/>
                <a:ln w="12600">
                  <a:solidFill>
                    <a:srgbClr val="5b5b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8685360" y="1627200"/>
                  <a:ext cx="257040" cy="52200"/>
                </a:xfrm>
                <a:prstGeom prst="rect">
                  <a:avLst/>
                </a:prstGeom>
                <a:noFill/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8685360" y="1627200"/>
                  <a:ext cx="257040" cy="49320"/>
                </a:xfrm>
                <a:prstGeom prst="rect">
                  <a:avLst/>
                </a:prstGeom>
                <a:noFill/>
                <a:ln w="12600">
                  <a:solidFill>
                    <a:srgbClr val="57575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8685360" y="1627200"/>
                  <a:ext cx="257040" cy="47520"/>
                </a:xfrm>
                <a:prstGeom prst="rect">
                  <a:avLst/>
                </a:prstGeom>
                <a:noFill/>
                <a:ln w="1260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8685360" y="1627200"/>
                  <a:ext cx="257040" cy="44280"/>
                </a:xfrm>
                <a:prstGeom prst="rect">
                  <a:avLst/>
                </a:prstGeom>
                <a:noFill/>
                <a:ln w="12600">
                  <a:solidFill>
                    <a:srgbClr val="53535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8685360" y="1627200"/>
                  <a:ext cx="257040" cy="44280"/>
                </a:xfrm>
                <a:prstGeom prst="rect">
                  <a:avLst/>
                </a:prstGeom>
                <a:noFill/>
                <a:ln w="12600">
                  <a:solidFill>
                    <a:srgbClr val="51515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8685360" y="1627200"/>
                  <a:ext cx="257040" cy="41400"/>
                </a:xfrm>
                <a:prstGeom prst="rect">
                  <a:avLst/>
                </a:prstGeom>
                <a:noFill/>
                <a:ln w="12600">
                  <a:solidFill>
                    <a:srgbClr val="4f4f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8685360" y="1627200"/>
                  <a:ext cx="257040" cy="39600"/>
                </a:xfrm>
                <a:prstGeom prst="rect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8685360" y="1627200"/>
                  <a:ext cx="257040" cy="36360"/>
                </a:xfrm>
                <a:prstGeom prst="rect">
                  <a:avLst/>
                </a:prstGeom>
                <a:noFill/>
                <a:ln w="12600">
                  <a:solidFill>
                    <a:srgbClr val="4b4b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8685360" y="1627200"/>
                  <a:ext cx="257040" cy="33480"/>
                </a:xfrm>
                <a:prstGeom prst="rect">
                  <a:avLst/>
                </a:prstGeom>
                <a:noFill/>
                <a:ln w="12600">
                  <a:solidFill>
                    <a:srgbClr val="4949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8685360" y="1627200"/>
                  <a:ext cx="257040" cy="33480"/>
                </a:xfrm>
                <a:prstGeom prst="rect">
                  <a:avLst/>
                </a:prstGeom>
                <a:noFill/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8685360" y="1627200"/>
                  <a:ext cx="257040" cy="30240"/>
                </a:xfrm>
                <a:prstGeom prst="rect">
                  <a:avLst/>
                </a:prstGeom>
                <a:noFill/>
                <a:ln w="12600">
                  <a:solidFill>
                    <a:srgbClr val="4545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8685360" y="1627200"/>
                  <a:ext cx="257040" cy="30240"/>
                </a:xfrm>
                <a:prstGeom prst="rect">
                  <a:avLst/>
                </a:prstGeom>
                <a:noFill/>
                <a:ln w="12600">
                  <a:solidFill>
                    <a:srgbClr val="4343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8685360" y="1627200"/>
                  <a:ext cx="257040" cy="30240"/>
                </a:xfrm>
                <a:prstGeom prst="rect">
                  <a:avLst/>
                </a:prstGeom>
                <a:noFill/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8685360" y="1627200"/>
                  <a:ext cx="257040" cy="30240"/>
                </a:xfrm>
                <a:prstGeom prst="rect">
                  <a:avLst/>
                </a:prstGeom>
                <a:noFill/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8685360" y="1627200"/>
                  <a:ext cx="257040" cy="30240"/>
                </a:xfrm>
                <a:prstGeom prst="rect">
                  <a:avLst/>
                </a:prstGeom>
                <a:noFill/>
                <a:ln w="12600">
                  <a:solidFill>
                    <a:srgbClr val="3d3d3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8685360" y="1627200"/>
                  <a:ext cx="257040" cy="30240"/>
                </a:xfrm>
                <a:prstGeom prst="rect">
                  <a:avLst/>
                </a:prstGeom>
                <a:noFill/>
                <a:ln w="12600">
                  <a:solidFill>
                    <a:srgbClr val="3b3b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8685360" y="1627200"/>
                  <a:ext cx="257040" cy="30240"/>
                </a:xfrm>
                <a:prstGeom prst="rect">
                  <a:avLst/>
                </a:prstGeom>
                <a:noFill/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8685360" y="1627200"/>
                  <a:ext cx="257040" cy="30240"/>
                </a:xfrm>
                <a:prstGeom prst="rect">
                  <a:avLst/>
                </a:prstGeom>
                <a:noFill/>
                <a:ln w="12600">
                  <a:solidFill>
                    <a:srgbClr val="3737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8685360" y="1627200"/>
                  <a:ext cx="257040" cy="30240"/>
                </a:xfrm>
                <a:prstGeom prst="rect">
                  <a:avLst/>
                </a:prstGeom>
                <a:noFill/>
                <a:ln w="12600">
                  <a:solidFill>
                    <a:srgbClr val="3535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8678880" y="1620720"/>
                  <a:ext cx="271440" cy="42840"/>
                </a:xfrm>
                <a:prstGeom prst="rect">
                  <a:avLst/>
                </a:prstGeom>
                <a:solidFill>
                  <a:srgbClr val="35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1" name=""/>
              <p:cNvSpPr/>
              <p:nvPr/>
            </p:nvSpPr>
            <p:spPr>
              <a:xfrm>
                <a:off x="8742240" y="1623960"/>
                <a:ext cx="230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8902800" y="1647720"/>
                <a:ext cx="47520" cy="4284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8906040" y="1650960"/>
                <a:ext cx="47520" cy="4284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8805960" y="1623960"/>
                <a:ext cx="100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8805960" y="1623960"/>
                <a:ext cx="10008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620120" y="2432160"/>
                <a:ext cx="882360" cy="1616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629480" y="2451240"/>
                <a:ext cx="204840" cy="4284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843680" y="2451240"/>
                <a:ext cx="206640" cy="4284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8055000" y="2451240"/>
                <a:ext cx="206280" cy="4284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8300880" y="2536920"/>
                <a:ext cx="51120" cy="4428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632720" y="2490840"/>
                <a:ext cx="628560" cy="8712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8277120" y="2451240"/>
                <a:ext cx="101880" cy="4284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277120" y="2487600"/>
                <a:ext cx="101880" cy="4464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8397720" y="2494080"/>
                <a:ext cx="90720" cy="8712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5" name=""/>
            <p:cNvSpPr/>
            <p:nvPr/>
          </p:nvSpPr>
          <p:spPr>
            <a:xfrm>
              <a:off x="5867280" y="3352680"/>
              <a:ext cx="1067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T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952880" y="1981080"/>
              <a:ext cx="2438640" cy="118980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b18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tiveX Control or Java applet downlo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838080" y="3728880"/>
            <a:ext cx="3048120" cy="945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b18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X Control or Java ap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4038480" y="4495680"/>
            <a:ext cx="2590560" cy="2133720"/>
            <a:chOff x="4038480" y="4495680"/>
            <a:chExt cx="2590560" cy="2133720"/>
          </a:xfrm>
        </p:grpSpPr>
        <p:sp>
          <p:nvSpPr>
            <p:cNvPr id="1049" name=""/>
            <p:cNvSpPr/>
            <p:nvPr/>
          </p:nvSpPr>
          <p:spPr>
            <a:xfrm>
              <a:off x="4038480" y="4495680"/>
              <a:ext cx="609480" cy="137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113000" y="5805360"/>
              <a:ext cx="2516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COM objects or ActiveX Contr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3962520" y="3733920"/>
            <a:ext cx="5180040" cy="2119320"/>
            <a:chOff x="3962520" y="3733920"/>
            <a:chExt cx="5180040" cy="2119320"/>
          </a:xfrm>
        </p:grpSpPr>
        <p:sp>
          <p:nvSpPr>
            <p:cNvPr id="1052" name=""/>
            <p:cNvSpPr/>
            <p:nvPr/>
          </p:nvSpPr>
          <p:spPr>
            <a:xfrm>
              <a:off x="3962520" y="4419720"/>
              <a:ext cx="3429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334120" y="4572000"/>
              <a:ext cx="1371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D)C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626160" y="5029200"/>
              <a:ext cx="2516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COM objects or ActiveX Contr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5" name=""/>
            <p:cNvGrpSpPr/>
            <p:nvPr/>
          </p:nvGrpSpPr>
          <p:grpSpPr>
            <a:xfrm>
              <a:off x="7526160" y="3733920"/>
              <a:ext cx="1581480" cy="1352520"/>
              <a:chOff x="7526160" y="3733920"/>
              <a:chExt cx="1581480" cy="1352520"/>
            </a:xfrm>
          </p:grpSpPr>
          <p:sp>
            <p:nvSpPr>
              <p:cNvPr id="1056" name=""/>
              <p:cNvSpPr/>
              <p:nvPr/>
            </p:nvSpPr>
            <p:spPr>
              <a:xfrm>
                <a:off x="8707320" y="3733920"/>
                <a:ext cx="400320" cy="13525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763040" y="4726080"/>
                <a:ext cx="496800" cy="5400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8" name=""/>
              <p:cNvGrpSpPr/>
              <p:nvPr/>
            </p:nvGrpSpPr>
            <p:grpSpPr>
              <a:xfrm>
                <a:off x="7597800" y="4108320"/>
                <a:ext cx="824040" cy="628920"/>
                <a:chOff x="7597800" y="4108320"/>
                <a:chExt cx="824040" cy="628920"/>
              </a:xfrm>
            </p:grpSpPr>
            <p:sp>
              <p:nvSpPr>
                <p:cNvPr id="1059" name=""/>
                <p:cNvSpPr/>
                <p:nvPr/>
              </p:nvSpPr>
              <p:spPr>
                <a:xfrm>
                  <a:off x="7597800" y="4108320"/>
                  <a:ext cx="247680" cy="2048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7597800" y="4121280"/>
                  <a:ext cx="824040" cy="59688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7713720" y="4108320"/>
                  <a:ext cx="600120" cy="62892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7597800" y="4533840"/>
                  <a:ext cx="247680" cy="2034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8170920" y="4533840"/>
                  <a:ext cx="250920" cy="2034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8170920" y="4108320"/>
                  <a:ext cx="250920" cy="2048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7605720" y="4116240"/>
                  <a:ext cx="239760" cy="1969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7605720" y="4129200"/>
                  <a:ext cx="806400" cy="581040"/>
                </a:xfrm>
                <a:prstGeom prst="rect">
                  <a:avLst/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7719840" y="4116240"/>
                  <a:ext cx="590760" cy="613080"/>
                </a:xfrm>
                <a:prstGeom prst="rect">
                  <a:avLst/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7605720" y="4533840"/>
                  <a:ext cx="239760" cy="19548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8170920" y="4533840"/>
                  <a:ext cx="241200" cy="19548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8170920" y="4116240"/>
                  <a:ext cx="241200" cy="1969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7605720" y="4129200"/>
                  <a:ext cx="239760" cy="1872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7605720" y="4143240"/>
                  <a:ext cx="806400" cy="55260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7719840" y="4129200"/>
                  <a:ext cx="590760" cy="58572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7605720" y="4530600"/>
                  <a:ext cx="239760" cy="1843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8170920" y="4530600"/>
                  <a:ext cx="241200" cy="1843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8170920" y="4129200"/>
                  <a:ext cx="241200" cy="1872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7615080" y="4127400"/>
                  <a:ext cx="233640" cy="1890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7615080" y="4140360"/>
                  <a:ext cx="790560" cy="561960"/>
                </a:xfrm>
                <a:prstGeom prst="rect">
                  <a:avLst/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7724880" y="4127400"/>
                  <a:ext cx="574560" cy="590760"/>
                </a:xfrm>
                <a:prstGeom prst="rect">
                  <a:avLst/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7615080" y="4530600"/>
                  <a:ext cx="233640" cy="1875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8164440" y="4530600"/>
                  <a:ext cx="241200" cy="1875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8164440" y="4127400"/>
                  <a:ext cx="241200" cy="1890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7675560" y="4313160"/>
                  <a:ext cx="660240" cy="3398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ebeb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7675560" y="4192560"/>
                  <a:ext cx="660240" cy="4446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7699320" y="4219560"/>
                  <a:ext cx="614520" cy="4111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6" name=""/>
              <p:cNvSpPr/>
              <p:nvPr/>
            </p:nvSpPr>
            <p:spPr>
              <a:xfrm>
                <a:off x="8280360" y="4687920"/>
                <a:ext cx="6048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7" name=""/>
              <p:cNvGrpSpPr/>
              <p:nvPr/>
            </p:nvGrpSpPr>
            <p:grpSpPr>
              <a:xfrm>
                <a:off x="8778960" y="4738680"/>
                <a:ext cx="237960" cy="84240"/>
                <a:chOff x="8778960" y="4738680"/>
                <a:chExt cx="237960" cy="84240"/>
              </a:xfrm>
            </p:grpSpPr>
            <p:sp>
              <p:nvSpPr>
                <p:cNvPr id="1088" name=""/>
                <p:cNvSpPr/>
                <p:nvPr/>
              </p:nvSpPr>
              <p:spPr>
                <a:xfrm>
                  <a:off x="877896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879948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881856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883908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885996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887580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889776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891684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893772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895500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897588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899460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901692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8778960" y="4832280"/>
                <a:ext cx="237960" cy="82800"/>
                <a:chOff x="8778960" y="4832280"/>
                <a:chExt cx="237960" cy="8280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877896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879948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881856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883908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885996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887580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889776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891684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893772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895500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897588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899460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901692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5" name=""/>
              <p:cNvSpPr/>
              <p:nvPr/>
            </p:nvSpPr>
            <p:spPr>
              <a:xfrm>
                <a:off x="8761320" y="3768840"/>
                <a:ext cx="282600" cy="50940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6" name=""/>
              <p:cNvGrpSpPr/>
              <p:nvPr/>
            </p:nvGrpSpPr>
            <p:grpSpPr>
              <a:xfrm>
                <a:off x="8771040" y="4200480"/>
                <a:ext cx="264960" cy="85680"/>
                <a:chOff x="8771040" y="4200480"/>
                <a:chExt cx="264960" cy="8568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8771040" y="4200480"/>
                  <a:ext cx="264960" cy="8568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8777160" y="4206960"/>
                  <a:ext cx="249480" cy="61920"/>
                </a:xfrm>
                <a:prstGeom prst="rect">
                  <a:avLst/>
                </a:prstGeom>
                <a:noFill/>
                <a:ln w="12600">
                  <a:solidFill>
                    <a:srgbClr val="f6f6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8777160" y="4206960"/>
                  <a:ext cx="249480" cy="60120"/>
                </a:xfrm>
                <a:prstGeom prst="rect">
                  <a:avLst/>
                </a:prstGeom>
                <a:noFill/>
                <a:ln w="12600">
                  <a:solidFill>
                    <a:srgbClr val="f4f4f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8777160" y="4206960"/>
                  <a:ext cx="249480" cy="60120"/>
                </a:xfrm>
                <a:prstGeom prst="rect">
                  <a:avLst/>
                </a:prstGeom>
                <a:noFill/>
                <a:ln w="1260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8777160" y="4206960"/>
                  <a:ext cx="249480" cy="60120"/>
                </a:xfrm>
                <a:prstGeom prst="rect">
                  <a:avLst/>
                </a:prstGeom>
                <a:noFill/>
                <a:ln w="12600">
                  <a:solidFill>
                    <a:srgbClr val="f0f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8777160" y="4206960"/>
                  <a:ext cx="249480" cy="60120"/>
                </a:xfrm>
                <a:prstGeom prst="rect">
                  <a:avLst/>
                </a:prstGeom>
                <a:noFill/>
                <a:ln w="1260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8777160" y="4206960"/>
                  <a:ext cx="249480" cy="57240"/>
                </a:xfrm>
                <a:prstGeom prst="rect">
                  <a:avLst/>
                </a:prstGeom>
                <a:noFill/>
                <a:ln w="12600">
                  <a:solidFill>
                    <a:srgbClr val="ecece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8777160" y="4206960"/>
                  <a:ext cx="249480" cy="57240"/>
                </a:xfrm>
                <a:prstGeom prst="rect">
                  <a:avLst/>
                </a:prstGeom>
                <a:noFill/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8777160" y="4206960"/>
                  <a:ext cx="249480" cy="57240"/>
                </a:xfrm>
                <a:prstGeom prst="rect">
                  <a:avLst/>
                </a:prstGeom>
                <a:noFill/>
                <a:ln w="12600">
                  <a:solidFill>
                    <a:srgbClr val="e8e8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8777160" y="4206960"/>
                  <a:ext cx="249480" cy="57240"/>
                </a:xfrm>
                <a:prstGeom prst="rect">
                  <a:avLst/>
                </a:prstGeom>
                <a:noFill/>
                <a:ln w="12600">
                  <a:solidFill>
                    <a:srgbClr val="e6e6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8777160" y="4206960"/>
                  <a:ext cx="249480" cy="54000"/>
                </a:xfrm>
                <a:prstGeom prst="rect">
                  <a:avLst/>
                </a:prstGeom>
                <a:noFill/>
                <a:ln w="12600">
                  <a:solidFill>
                    <a:srgbClr val="e4e4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8777160" y="4206960"/>
                  <a:ext cx="249480" cy="54000"/>
                </a:xfrm>
                <a:prstGeom prst="rect">
                  <a:avLst/>
                </a:prstGeom>
                <a:noFill/>
                <a:ln w="12600">
                  <a:solidFill>
                    <a:srgbClr val="e2e2e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8777160" y="4206960"/>
                  <a:ext cx="249480" cy="54000"/>
                </a:xfrm>
                <a:prstGeom prst="rect">
                  <a:avLst/>
                </a:prstGeom>
                <a:noFill/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8777160" y="4206960"/>
                  <a:ext cx="249480" cy="54000"/>
                </a:xfrm>
                <a:prstGeom prst="rect">
                  <a:avLst/>
                </a:prstGeom>
                <a:noFill/>
                <a:ln w="12600">
                  <a:solidFill>
                    <a:srgbClr val="dede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8777160" y="4206960"/>
                  <a:ext cx="249480" cy="52200"/>
                </a:xfrm>
                <a:prstGeom prst="rect">
                  <a:avLst/>
                </a:prstGeom>
                <a:noFill/>
                <a:ln w="1260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8777160" y="4206960"/>
                  <a:ext cx="249480" cy="52200"/>
                </a:xfrm>
                <a:prstGeom prst="rect">
                  <a:avLst/>
                </a:prstGeom>
                <a:noFill/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8777160" y="4206960"/>
                  <a:ext cx="249480" cy="52200"/>
                </a:xfrm>
                <a:prstGeom prst="rect">
                  <a:avLst/>
                </a:prstGeom>
                <a:noFill/>
                <a:ln w="1260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8777160" y="4206960"/>
                  <a:ext cx="249480" cy="52200"/>
                </a:xfrm>
                <a:prstGeom prst="rect">
                  <a:avLst/>
                </a:prstGeom>
                <a:noFill/>
                <a:ln w="12600">
                  <a:solidFill>
                    <a:srgbClr val="d6d6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8777160" y="4206960"/>
                  <a:ext cx="249480" cy="48960"/>
                </a:xfrm>
                <a:prstGeom prst="rect">
                  <a:avLst/>
                </a:prstGeom>
                <a:noFill/>
                <a:ln w="12600">
                  <a:solidFill>
                    <a:srgbClr val="d4d4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8777160" y="4206960"/>
                  <a:ext cx="249480" cy="48960"/>
                </a:xfrm>
                <a:prstGeom prst="rect">
                  <a:avLst/>
                </a:prstGeom>
                <a:noFill/>
                <a:ln w="12600">
                  <a:solidFill>
                    <a:srgbClr val="d2d2d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8777160" y="4206960"/>
                  <a:ext cx="249480" cy="48960"/>
                </a:xfrm>
                <a:prstGeom prst="rect">
                  <a:avLst/>
                </a:prstGeom>
                <a:noFill/>
                <a:ln w="12600">
                  <a:solidFill>
                    <a:srgbClr val="d0d0d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8777160" y="4206960"/>
                  <a:ext cx="249480" cy="48960"/>
                </a:xfrm>
                <a:prstGeom prst="rect">
                  <a:avLst/>
                </a:prstGeom>
                <a:noFill/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8777160" y="4206960"/>
                  <a:ext cx="249480" cy="46080"/>
                </a:xfrm>
                <a:prstGeom prst="rect">
                  <a:avLst/>
                </a:prstGeom>
                <a:noFill/>
                <a:ln w="1260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8777160" y="4206960"/>
                  <a:ext cx="249480" cy="46080"/>
                </a:xfrm>
                <a:prstGeom prst="rect">
                  <a:avLst/>
                </a:prstGeom>
                <a:noFill/>
                <a:ln w="12600">
                  <a:solidFill>
                    <a:srgbClr val="caca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8777160" y="4206960"/>
                  <a:ext cx="249480" cy="46080"/>
                </a:xfrm>
                <a:prstGeom prst="rect">
                  <a:avLst/>
                </a:prstGeom>
                <a:noFill/>
                <a:ln w="12600">
                  <a:solidFill>
                    <a:srgbClr val="c8c8c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8777160" y="4206960"/>
                  <a:ext cx="249480" cy="46080"/>
                </a:xfrm>
                <a:prstGeom prst="rect">
                  <a:avLst/>
                </a:prstGeom>
                <a:noFill/>
                <a:ln w="12600">
                  <a:solidFill>
                    <a:srgbClr val="c6c6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8777160" y="4206960"/>
                  <a:ext cx="249480" cy="44280"/>
                </a:xfrm>
                <a:prstGeom prst="rect">
                  <a:avLst/>
                </a:prstGeom>
                <a:noFill/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8777160" y="4206960"/>
                  <a:ext cx="249480" cy="44280"/>
                </a:xfrm>
                <a:prstGeom prst="rect">
                  <a:avLst/>
                </a:prstGeom>
                <a:noFill/>
                <a:ln w="12600">
                  <a:solidFill>
                    <a:srgbClr val="c2c2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8777160" y="4206960"/>
                  <a:ext cx="249480" cy="4428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8777160" y="4206960"/>
                  <a:ext cx="249480" cy="44280"/>
                </a:xfrm>
                <a:prstGeom prst="rect">
                  <a:avLst/>
                </a:prstGeom>
                <a:noFill/>
                <a:ln w="12600">
                  <a:solidFill>
                    <a:srgbClr val="bebe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8777160" y="4206960"/>
                  <a:ext cx="249480" cy="41040"/>
                </a:xfrm>
                <a:prstGeom prst="rect">
                  <a:avLst/>
                </a:prstGeom>
                <a:noFill/>
                <a:ln w="12600">
                  <a:solidFill>
                    <a:srgbClr val="bcbc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8777160" y="4206960"/>
                  <a:ext cx="249480" cy="41040"/>
                </a:xfrm>
                <a:prstGeom prst="rect">
                  <a:avLst/>
                </a:prstGeom>
                <a:noFill/>
                <a:ln w="12600">
                  <a:solidFill>
                    <a:srgbClr val="baba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8777160" y="4206960"/>
                  <a:ext cx="249480" cy="41040"/>
                </a:xfrm>
                <a:prstGeom prst="rect">
                  <a:avLst/>
                </a:prstGeom>
                <a:noFill/>
                <a:ln w="12600">
                  <a:solidFill>
                    <a:srgbClr val="b8b8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8777160" y="4206960"/>
                  <a:ext cx="249480" cy="38160"/>
                </a:xfrm>
                <a:prstGeom prst="rect">
                  <a:avLst/>
                </a:prstGeom>
                <a:noFill/>
                <a:ln w="12600">
                  <a:solidFill>
                    <a:srgbClr val="b6b6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8777160" y="4206960"/>
                  <a:ext cx="249480" cy="38160"/>
                </a:xfrm>
                <a:prstGeom prst="rect">
                  <a:avLst/>
                </a:prstGeom>
                <a:noFill/>
                <a:ln w="12600">
                  <a:solidFill>
                    <a:srgbClr val="b4b4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8777160" y="4206960"/>
                  <a:ext cx="249480" cy="38160"/>
                </a:xfrm>
                <a:prstGeom prst="rect">
                  <a:avLst/>
                </a:prstGeom>
                <a:noFill/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8777160" y="4206960"/>
                  <a:ext cx="249480" cy="38160"/>
                </a:xfrm>
                <a:prstGeom prst="rect">
                  <a:avLst/>
                </a:prstGeom>
                <a:noFill/>
                <a:ln w="12600">
                  <a:solidFill>
                    <a:srgbClr val="b0b0b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8777160" y="4206960"/>
                  <a:ext cx="249480" cy="38160"/>
                </a:xfrm>
                <a:prstGeom prst="rect">
                  <a:avLst/>
                </a:prstGeom>
                <a:noFill/>
                <a:ln w="12600">
                  <a:solidFill>
                    <a:srgbClr val="aeae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8777160" y="4206960"/>
                  <a:ext cx="249480" cy="34920"/>
                </a:xfrm>
                <a:prstGeom prst="rect">
                  <a:avLst/>
                </a:prstGeom>
                <a:noFill/>
                <a:ln w="12600">
                  <a:solidFill>
                    <a:srgbClr val="acac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8777160" y="4206960"/>
                  <a:ext cx="249480" cy="34920"/>
                </a:xfrm>
                <a:prstGeom prst="rect">
                  <a:avLst/>
                </a:prstGeom>
                <a:noFill/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8777160" y="4206960"/>
                  <a:ext cx="249480" cy="34920"/>
                </a:xfrm>
                <a:prstGeom prst="rect">
                  <a:avLst/>
                </a:prstGeom>
                <a:noFill/>
                <a:ln w="12600">
                  <a:solidFill>
                    <a:srgbClr val="a8a8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8777160" y="4206960"/>
                  <a:ext cx="249480" cy="33120"/>
                </a:xfrm>
                <a:prstGeom prst="rect">
                  <a:avLst/>
                </a:prstGeom>
                <a:noFill/>
                <a:ln w="1260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8777160" y="4206960"/>
                  <a:ext cx="249480" cy="33120"/>
                </a:xfrm>
                <a:prstGeom prst="rect">
                  <a:avLst/>
                </a:prstGeom>
                <a:noFill/>
                <a:ln w="12600">
                  <a:solidFill>
                    <a:srgbClr val="a4a4a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8777160" y="4206960"/>
                  <a:ext cx="249480" cy="33120"/>
                </a:xfrm>
                <a:prstGeom prst="rect">
                  <a:avLst/>
                </a:prstGeom>
                <a:noFill/>
                <a:ln w="12600">
                  <a:solidFill>
                    <a:srgbClr val="a2a2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8777160" y="4206960"/>
                  <a:ext cx="249480" cy="3312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e9e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c9c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a9a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898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4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292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09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e8e8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c8c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a8a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484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282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d7d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b7b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979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575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37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1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f6f6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d6d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b6b6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969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565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3636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161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d5d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b5b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7575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3535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1515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f4f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b4b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949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545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343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d3d3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b3b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737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535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8771040" y="4200480"/>
                  <a:ext cx="264960" cy="42840"/>
                </a:xfrm>
                <a:prstGeom prst="rect">
                  <a:avLst/>
                </a:prstGeom>
                <a:solidFill>
                  <a:srgbClr val="35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6" name=""/>
              <p:cNvGrpSpPr/>
              <p:nvPr/>
            </p:nvGrpSpPr>
            <p:grpSpPr>
              <a:xfrm>
                <a:off x="8647200" y="3871800"/>
                <a:ext cx="260280" cy="84240"/>
                <a:chOff x="8647200" y="3871800"/>
                <a:chExt cx="260280" cy="84240"/>
              </a:xfrm>
            </p:grpSpPr>
            <p:sp>
              <p:nvSpPr>
                <p:cNvPr id="1217" name=""/>
                <p:cNvSpPr/>
                <p:nvPr/>
              </p:nvSpPr>
              <p:spPr>
                <a:xfrm>
                  <a:off x="8647200" y="3871800"/>
                  <a:ext cx="260280" cy="8424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8653320" y="3878280"/>
                  <a:ext cx="244440" cy="60480"/>
                </a:xfrm>
                <a:prstGeom prst="rect">
                  <a:avLst/>
                </a:prstGeom>
                <a:noFill/>
                <a:ln w="12600">
                  <a:solidFill>
                    <a:srgbClr val="f6f6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8653320" y="3878280"/>
                  <a:ext cx="244440" cy="60480"/>
                </a:xfrm>
                <a:prstGeom prst="rect">
                  <a:avLst/>
                </a:prstGeom>
                <a:noFill/>
                <a:ln w="12600">
                  <a:solidFill>
                    <a:srgbClr val="f4f4f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8653320" y="3878280"/>
                  <a:ext cx="244440" cy="60480"/>
                </a:xfrm>
                <a:prstGeom prst="rect">
                  <a:avLst/>
                </a:prstGeom>
                <a:noFill/>
                <a:ln w="1260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8653320" y="3878280"/>
                  <a:ext cx="244440" cy="57240"/>
                </a:xfrm>
                <a:prstGeom prst="rect">
                  <a:avLst/>
                </a:prstGeom>
                <a:noFill/>
                <a:ln w="12600">
                  <a:solidFill>
                    <a:srgbClr val="f0f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8653320" y="3878280"/>
                  <a:ext cx="244440" cy="57240"/>
                </a:xfrm>
                <a:prstGeom prst="rect">
                  <a:avLst/>
                </a:prstGeom>
                <a:noFill/>
                <a:ln w="1260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8653320" y="3878280"/>
                  <a:ext cx="244440" cy="57240"/>
                </a:xfrm>
                <a:prstGeom prst="rect">
                  <a:avLst/>
                </a:prstGeom>
                <a:noFill/>
                <a:ln w="12600">
                  <a:solidFill>
                    <a:srgbClr val="ecece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8653320" y="3878280"/>
                  <a:ext cx="244440" cy="57240"/>
                </a:xfrm>
                <a:prstGeom prst="rect">
                  <a:avLst/>
                </a:prstGeom>
                <a:noFill/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8653320" y="3878280"/>
                  <a:ext cx="244440" cy="57240"/>
                </a:xfrm>
                <a:prstGeom prst="rect">
                  <a:avLst/>
                </a:prstGeom>
                <a:noFill/>
                <a:ln w="12600">
                  <a:solidFill>
                    <a:srgbClr val="e8e8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8653320" y="3878280"/>
                  <a:ext cx="244440" cy="57240"/>
                </a:xfrm>
                <a:prstGeom prst="rect">
                  <a:avLst/>
                </a:prstGeom>
                <a:noFill/>
                <a:ln w="12600">
                  <a:solidFill>
                    <a:srgbClr val="e6e6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8653320" y="3878280"/>
                  <a:ext cx="244440" cy="57240"/>
                </a:xfrm>
                <a:prstGeom prst="rect">
                  <a:avLst/>
                </a:prstGeom>
                <a:noFill/>
                <a:ln w="12600">
                  <a:solidFill>
                    <a:srgbClr val="e4e4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8653320" y="3878280"/>
                  <a:ext cx="244440" cy="55440"/>
                </a:xfrm>
                <a:prstGeom prst="rect">
                  <a:avLst/>
                </a:prstGeom>
                <a:noFill/>
                <a:ln w="12600">
                  <a:solidFill>
                    <a:srgbClr val="e2e2e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8653320" y="3878280"/>
                  <a:ext cx="244440" cy="55440"/>
                </a:xfrm>
                <a:prstGeom prst="rect">
                  <a:avLst/>
                </a:prstGeom>
                <a:noFill/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8653320" y="3878280"/>
                  <a:ext cx="244440" cy="55440"/>
                </a:xfrm>
                <a:prstGeom prst="rect">
                  <a:avLst/>
                </a:prstGeom>
                <a:noFill/>
                <a:ln w="12600">
                  <a:solidFill>
                    <a:srgbClr val="dede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8653320" y="3878280"/>
                  <a:ext cx="244440" cy="55440"/>
                </a:xfrm>
                <a:prstGeom prst="rect">
                  <a:avLst/>
                </a:prstGeom>
                <a:noFill/>
                <a:ln w="1260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8653320" y="3878280"/>
                  <a:ext cx="244440" cy="52200"/>
                </a:xfrm>
                <a:prstGeom prst="rect">
                  <a:avLst/>
                </a:prstGeom>
                <a:noFill/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8653320" y="3878280"/>
                  <a:ext cx="244440" cy="52200"/>
                </a:xfrm>
                <a:prstGeom prst="rect">
                  <a:avLst/>
                </a:prstGeom>
                <a:noFill/>
                <a:ln w="1260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8653320" y="3878280"/>
                  <a:ext cx="244440" cy="52200"/>
                </a:xfrm>
                <a:prstGeom prst="rect">
                  <a:avLst/>
                </a:prstGeom>
                <a:noFill/>
                <a:ln w="12600">
                  <a:solidFill>
                    <a:srgbClr val="d6d6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8653320" y="3878280"/>
                  <a:ext cx="244440" cy="52200"/>
                </a:xfrm>
                <a:prstGeom prst="rect">
                  <a:avLst/>
                </a:prstGeom>
                <a:noFill/>
                <a:ln w="12600">
                  <a:solidFill>
                    <a:srgbClr val="d4d4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8653320" y="3878280"/>
                  <a:ext cx="244440" cy="49320"/>
                </a:xfrm>
                <a:prstGeom prst="rect">
                  <a:avLst/>
                </a:prstGeom>
                <a:noFill/>
                <a:ln w="12600">
                  <a:solidFill>
                    <a:srgbClr val="d2d2d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8653320" y="3878280"/>
                  <a:ext cx="244440" cy="49320"/>
                </a:xfrm>
                <a:prstGeom prst="rect">
                  <a:avLst/>
                </a:prstGeom>
                <a:noFill/>
                <a:ln w="12600">
                  <a:solidFill>
                    <a:srgbClr val="d0d0d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8653320" y="3878280"/>
                  <a:ext cx="244440" cy="49320"/>
                </a:xfrm>
                <a:prstGeom prst="rect">
                  <a:avLst/>
                </a:prstGeom>
                <a:noFill/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8653320" y="3878280"/>
                  <a:ext cx="244440" cy="49320"/>
                </a:xfrm>
                <a:prstGeom prst="rect">
                  <a:avLst/>
                </a:prstGeom>
                <a:noFill/>
                <a:ln w="1260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8653320" y="3878280"/>
                  <a:ext cx="244440" cy="47520"/>
                </a:xfrm>
                <a:prstGeom prst="rect">
                  <a:avLst/>
                </a:prstGeom>
                <a:noFill/>
                <a:ln w="12600">
                  <a:solidFill>
                    <a:srgbClr val="caca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8653320" y="3878280"/>
                  <a:ext cx="244440" cy="47520"/>
                </a:xfrm>
                <a:prstGeom prst="rect">
                  <a:avLst/>
                </a:prstGeom>
                <a:noFill/>
                <a:ln w="12600">
                  <a:solidFill>
                    <a:srgbClr val="c8c8c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8653320" y="3878280"/>
                  <a:ext cx="244440" cy="47520"/>
                </a:xfrm>
                <a:prstGeom prst="rect">
                  <a:avLst/>
                </a:prstGeom>
                <a:noFill/>
                <a:ln w="12600">
                  <a:solidFill>
                    <a:srgbClr val="c6c6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8653320" y="3878280"/>
                  <a:ext cx="244440" cy="47520"/>
                </a:xfrm>
                <a:prstGeom prst="rect">
                  <a:avLst/>
                </a:prstGeom>
                <a:noFill/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8653320" y="3878280"/>
                  <a:ext cx="244440" cy="44280"/>
                </a:xfrm>
                <a:prstGeom prst="rect">
                  <a:avLst/>
                </a:prstGeom>
                <a:noFill/>
                <a:ln w="12600">
                  <a:solidFill>
                    <a:srgbClr val="c2c2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8653320" y="3878280"/>
                  <a:ext cx="244440" cy="4428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8653320" y="3878280"/>
                  <a:ext cx="244440" cy="44280"/>
                </a:xfrm>
                <a:prstGeom prst="rect">
                  <a:avLst/>
                </a:prstGeom>
                <a:noFill/>
                <a:ln w="12600">
                  <a:solidFill>
                    <a:srgbClr val="bebe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8653320" y="3878280"/>
                  <a:ext cx="244440" cy="41400"/>
                </a:xfrm>
                <a:prstGeom prst="rect">
                  <a:avLst/>
                </a:prstGeom>
                <a:noFill/>
                <a:ln w="12600">
                  <a:solidFill>
                    <a:srgbClr val="bcbc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8653320" y="3878280"/>
                  <a:ext cx="244440" cy="41400"/>
                </a:xfrm>
                <a:prstGeom prst="rect">
                  <a:avLst/>
                </a:prstGeom>
                <a:noFill/>
                <a:ln w="12600">
                  <a:solidFill>
                    <a:srgbClr val="baba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8653320" y="3878280"/>
                  <a:ext cx="244440" cy="41400"/>
                </a:xfrm>
                <a:prstGeom prst="rect">
                  <a:avLst/>
                </a:prstGeom>
                <a:noFill/>
                <a:ln w="12600">
                  <a:solidFill>
                    <a:srgbClr val="b8b8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8653320" y="3878280"/>
                  <a:ext cx="244440" cy="41400"/>
                </a:xfrm>
                <a:prstGeom prst="rect">
                  <a:avLst/>
                </a:prstGeom>
                <a:noFill/>
                <a:ln w="12600">
                  <a:solidFill>
                    <a:srgbClr val="b6b6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8653320" y="3878280"/>
                  <a:ext cx="244440" cy="41400"/>
                </a:xfrm>
                <a:prstGeom prst="rect">
                  <a:avLst/>
                </a:prstGeom>
                <a:noFill/>
                <a:ln w="12600">
                  <a:solidFill>
                    <a:srgbClr val="b4b4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8653320" y="3878280"/>
                  <a:ext cx="244440" cy="39600"/>
                </a:xfrm>
                <a:prstGeom prst="rect">
                  <a:avLst/>
                </a:prstGeom>
                <a:noFill/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8653320" y="3878280"/>
                  <a:ext cx="244440" cy="39600"/>
                </a:xfrm>
                <a:prstGeom prst="rect">
                  <a:avLst/>
                </a:prstGeom>
                <a:noFill/>
                <a:ln w="12600">
                  <a:solidFill>
                    <a:srgbClr val="b0b0b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8653320" y="3878280"/>
                  <a:ext cx="244440" cy="39600"/>
                </a:xfrm>
                <a:prstGeom prst="rect">
                  <a:avLst/>
                </a:prstGeom>
                <a:noFill/>
                <a:ln w="12600">
                  <a:solidFill>
                    <a:srgbClr val="aeae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8653320" y="3878280"/>
                  <a:ext cx="244440" cy="36360"/>
                </a:xfrm>
                <a:prstGeom prst="rect">
                  <a:avLst/>
                </a:prstGeom>
                <a:noFill/>
                <a:ln w="12600">
                  <a:solidFill>
                    <a:srgbClr val="acac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8653320" y="3878280"/>
                  <a:ext cx="244440" cy="36360"/>
                </a:xfrm>
                <a:prstGeom prst="rect">
                  <a:avLst/>
                </a:prstGeom>
                <a:noFill/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8653320" y="3878280"/>
                  <a:ext cx="244440" cy="36360"/>
                </a:xfrm>
                <a:prstGeom prst="rect">
                  <a:avLst/>
                </a:prstGeom>
                <a:noFill/>
                <a:ln w="12600">
                  <a:solidFill>
                    <a:srgbClr val="a8a8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8653320" y="3878280"/>
                  <a:ext cx="244440" cy="36360"/>
                </a:xfrm>
                <a:prstGeom prst="rect">
                  <a:avLst/>
                </a:prstGeom>
                <a:noFill/>
                <a:ln w="1260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8653320" y="3878280"/>
                  <a:ext cx="244440" cy="33480"/>
                </a:xfrm>
                <a:prstGeom prst="rect">
                  <a:avLst/>
                </a:prstGeom>
                <a:noFill/>
                <a:ln w="12600">
                  <a:solidFill>
                    <a:srgbClr val="a4a4a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8653320" y="3878280"/>
                  <a:ext cx="244440" cy="33480"/>
                </a:xfrm>
                <a:prstGeom prst="rect">
                  <a:avLst/>
                </a:prstGeom>
                <a:noFill/>
                <a:ln w="12600">
                  <a:solidFill>
                    <a:srgbClr val="a2a2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8653320" y="3878280"/>
                  <a:ext cx="244440" cy="3348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8653320" y="3878280"/>
                  <a:ext cx="244440" cy="33480"/>
                </a:xfrm>
                <a:prstGeom prst="rect">
                  <a:avLst/>
                </a:prstGeom>
                <a:noFill/>
                <a:ln w="12600">
                  <a:solidFill>
                    <a:srgbClr val="9e9e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9c9c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9a9a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9898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94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9292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909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8e8e8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8c8c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8a8a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8484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8282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7d7d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7b7b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7979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7575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737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71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6f6f6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6d6d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6b6b6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6969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6565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63636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6161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5d5d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5b5b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57575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53535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51515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4f4f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4b4b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4949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4545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4343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3d3d3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3b3b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3737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3535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8647200" y="3871800"/>
                  <a:ext cx="260280" cy="42840"/>
                </a:xfrm>
                <a:prstGeom prst="rect">
                  <a:avLst/>
                </a:prstGeom>
                <a:solidFill>
                  <a:srgbClr val="35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6" name=""/>
              <p:cNvSpPr/>
              <p:nvPr/>
            </p:nvSpPr>
            <p:spPr>
              <a:xfrm>
                <a:off x="8771040" y="3776760"/>
                <a:ext cx="129960" cy="110880"/>
              </a:xfrm>
              <a:prstGeom prst="rect">
                <a:avLst/>
              </a:pr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8818560" y="3828960"/>
                <a:ext cx="55440" cy="1112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8818560" y="3813120"/>
                <a:ext cx="55440" cy="81000"/>
              </a:xfrm>
              <a:prstGeom prst="rect">
                <a:avLst/>
              </a:pr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8818560" y="3855960"/>
                <a:ext cx="55440" cy="4284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8829720" y="3844800"/>
                <a:ext cx="54000" cy="42840"/>
              </a:xfrm>
              <a:prstGeom prst="rect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8785080" y="3814920"/>
                <a:ext cx="4140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8785080" y="3863880"/>
                <a:ext cx="41400" cy="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3" name=""/>
              <p:cNvGrpSpPr/>
              <p:nvPr/>
            </p:nvGrpSpPr>
            <p:grpSpPr>
              <a:xfrm>
                <a:off x="8771040" y="4035600"/>
                <a:ext cx="264960" cy="85680"/>
                <a:chOff x="8771040" y="4035600"/>
                <a:chExt cx="264960" cy="85680"/>
              </a:xfrm>
            </p:grpSpPr>
            <p:sp>
              <p:nvSpPr>
                <p:cNvPr id="1324" name=""/>
                <p:cNvSpPr/>
                <p:nvPr/>
              </p:nvSpPr>
              <p:spPr>
                <a:xfrm>
                  <a:off x="8771040" y="4035600"/>
                  <a:ext cx="264960" cy="8568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8777160" y="4041720"/>
                  <a:ext cx="249480" cy="61920"/>
                </a:xfrm>
                <a:prstGeom prst="rect">
                  <a:avLst/>
                </a:prstGeom>
                <a:noFill/>
                <a:ln w="12600">
                  <a:solidFill>
                    <a:srgbClr val="f6f6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8777160" y="4041720"/>
                  <a:ext cx="249480" cy="61920"/>
                </a:xfrm>
                <a:prstGeom prst="rect">
                  <a:avLst/>
                </a:prstGeom>
                <a:noFill/>
                <a:ln w="12600">
                  <a:solidFill>
                    <a:srgbClr val="f4f4f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8777160" y="4041720"/>
                  <a:ext cx="249480" cy="61920"/>
                </a:xfrm>
                <a:prstGeom prst="rect">
                  <a:avLst/>
                </a:prstGeom>
                <a:noFill/>
                <a:ln w="1260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8777160" y="4041720"/>
                  <a:ext cx="249480" cy="60480"/>
                </a:xfrm>
                <a:prstGeom prst="rect">
                  <a:avLst/>
                </a:prstGeom>
                <a:noFill/>
                <a:ln w="12600">
                  <a:solidFill>
                    <a:srgbClr val="f0f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8777160" y="4041720"/>
                  <a:ext cx="249480" cy="60480"/>
                </a:xfrm>
                <a:prstGeom prst="rect">
                  <a:avLst/>
                </a:prstGeom>
                <a:noFill/>
                <a:ln w="1260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8777160" y="4041720"/>
                  <a:ext cx="249480" cy="60480"/>
                </a:xfrm>
                <a:prstGeom prst="rect">
                  <a:avLst/>
                </a:prstGeom>
                <a:noFill/>
                <a:ln w="12600">
                  <a:solidFill>
                    <a:srgbClr val="ecece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8777160" y="4041720"/>
                  <a:ext cx="249480" cy="57240"/>
                </a:xfrm>
                <a:prstGeom prst="rect">
                  <a:avLst/>
                </a:prstGeom>
                <a:noFill/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8777160" y="4041720"/>
                  <a:ext cx="249480" cy="57240"/>
                </a:xfrm>
                <a:prstGeom prst="rect">
                  <a:avLst/>
                </a:prstGeom>
                <a:noFill/>
                <a:ln w="12600">
                  <a:solidFill>
                    <a:srgbClr val="e8e8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8777160" y="4041720"/>
                  <a:ext cx="249480" cy="57240"/>
                </a:xfrm>
                <a:prstGeom prst="rect">
                  <a:avLst/>
                </a:prstGeom>
                <a:noFill/>
                <a:ln w="12600">
                  <a:solidFill>
                    <a:srgbClr val="e6e6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8777160" y="4041720"/>
                  <a:ext cx="249480" cy="57240"/>
                </a:xfrm>
                <a:prstGeom prst="rect">
                  <a:avLst/>
                </a:prstGeom>
                <a:noFill/>
                <a:ln w="12600">
                  <a:solidFill>
                    <a:srgbClr val="e4e4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8777160" y="4041720"/>
                  <a:ext cx="249480" cy="54000"/>
                </a:xfrm>
                <a:prstGeom prst="rect">
                  <a:avLst/>
                </a:prstGeom>
                <a:noFill/>
                <a:ln w="12600">
                  <a:solidFill>
                    <a:srgbClr val="e2e2e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8777160" y="4041720"/>
                  <a:ext cx="249480" cy="54000"/>
                </a:xfrm>
                <a:prstGeom prst="rect">
                  <a:avLst/>
                </a:prstGeom>
                <a:noFill/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8777160" y="4041720"/>
                  <a:ext cx="249480" cy="54000"/>
                </a:xfrm>
                <a:prstGeom prst="rect">
                  <a:avLst/>
                </a:prstGeom>
                <a:noFill/>
                <a:ln w="12600">
                  <a:solidFill>
                    <a:srgbClr val="dede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8777160" y="4041720"/>
                  <a:ext cx="249480" cy="54000"/>
                </a:xfrm>
                <a:prstGeom prst="rect">
                  <a:avLst/>
                </a:prstGeom>
                <a:noFill/>
                <a:ln w="1260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8777160" y="4041720"/>
                  <a:ext cx="249480" cy="52560"/>
                </a:xfrm>
                <a:prstGeom prst="rect">
                  <a:avLst/>
                </a:prstGeom>
                <a:noFill/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8777160" y="4041720"/>
                  <a:ext cx="249480" cy="52560"/>
                </a:xfrm>
                <a:prstGeom prst="rect">
                  <a:avLst/>
                </a:prstGeom>
                <a:noFill/>
                <a:ln w="1260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8777160" y="4041720"/>
                  <a:ext cx="249480" cy="52560"/>
                </a:xfrm>
                <a:prstGeom prst="rect">
                  <a:avLst/>
                </a:prstGeom>
                <a:noFill/>
                <a:ln w="12600">
                  <a:solidFill>
                    <a:srgbClr val="d6d6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8777160" y="4041720"/>
                  <a:ext cx="249480" cy="52560"/>
                </a:xfrm>
                <a:prstGeom prst="rect">
                  <a:avLst/>
                </a:prstGeom>
                <a:noFill/>
                <a:ln w="12600">
                  <a:solidFill>
                    <a:srgbClr val="d4d4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8777160" y="4041720"/>
                  <a:ext cx="249480" cy="49320"/>
                </a:xfrm>
                <a:prstGeom prst="rect">
                  <a:avLst/>
                </a:prstGeom>
                <a:noFill/>
                <a:ln w="12600">
                  <a:solidFill>
                    <a:srgbClr val="d2d2d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8777160" y="4041720"/>
                  <a:ext cx="249480" cy="49320"/>
                </a:xfrm>
                <a:prstGeom prst="rect">
                  <a:avLst/>
                </a:prstGeom>
                <a:noFill/>
                <a:ln w="12600">
                  <a:solidFill>
                    <a:srgbClr val="d0d0d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8777160" y="4041720"/>
                  <a:ext cx="249480" cy="49320"/>
                </a:xfrm>
                <a:prstGeom prst="rect">
                  <a:avLst/>
                </a:prstGeom>
                <a:noFill/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8777160" y="4041720"/>
                  <a:ext cx="249480" cy="49320"/>
                </a:xfrm>
                <a:prstGeom prst="rect">
                  <a:avLst/>
                </a:prstGeom>
                <a:noFill/>
                <a:ln w="1260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8777160" y="4041720"/>
                  <a:ext cx="249480" cy="46080"/>
                </a:xfrm>
                <a:prstGeom prst="rect">
                  <a:avLst/>
                </a:prstGeom>
                <a:noFill/>
                <a:ln w="12600">
                  <a:solidFill>
                    <a:srgbClr val="caca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8777160" y="4041720"/>
                  <a:ext cx="249480" cy="46080"/>
                </a:xfrm>
                <a:prstGeom prst="rect">
                  <a:avLst/>
                </a:prstGeom>
                <a:noFill/>
                <a:ln w="12600">
                  <a:solidFill>
                    <a:srgbClr val="c8c8c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8777160" y="4041720"/>
                  <a:ext cx="249480" cy="46080"/>
                </a:xfrm>
                <a:prstGeom prst="rect">
                  <a:avLst/>
                </a:prstGeom>
                <a:noFill/>
                <a:ln w="12600">
                  <a:solidFill>
                    <a:srgbClr val="c6c6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8777160" y="4041720"/>
                  <a:ext cx="249480" cy="46080"/>
                </a:xfrm>
                <a:prstGeom prst="rect">
                  <a:avLst/>
                </a:prstGeom>
                <a:noFill/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8777160" y="4041720"/>
                  <a:ext cx="249480" cy="42840"/>
                </a:xfrm>
                <a:prstGeom prst="rect">
                  <a:avLst/>
                </a:prstGeom>
                <a:noFill/>
                <a:ln w="12600">
                  <a:solidFill>
                    <a:srgbClr val="c2c2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8777160" y="4041720"/>
                  <a:ext cx="249480" cy="4284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8777160" y="4041720"/>
                  <a:ext cx="249480" cy="42840"/>
                </a:xfrm>
                <a:prstGeom prst="rect">
                  <a:avLst/>
                </a:prstGeom>
                <a:noFill/>
                <a:ln w="12600">
                  <a:solidFill>
                    <a:srgbClr val="bebe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8777160" y="4041720"/>
                  <a:ext cx="249480" cy="41400"/>
                </a:xfrm>
                <a:prstGeom prst="rect">
                  <a:avLst/>
                </a:prstGeom>
                <a:noFill/>
                <a:ln w="12600">
                  <a:solidFill>
                    <a:srgbClr val="bcbc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8777160" y="4041720"/>
                  <a:ext cx="249480" cy="41400"/>
                </a:xfrm>
                <a:prstGeom prst="rect">
                  <a:avLst/>
                </a:prstGeom>
                <a:noFill/>
                <a:ln w="12600">
                  <a:solidFill>
                    <a:srgbClr val="baba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8777160" y="4041720"/>
                  <a:ext cx="249480" cy="41400"/>
                </a:xfrm>
                <a:prstGeom prst="rect">
                  <a:avLst/>
                </a:prstGeom>
                <a:noFill/>
                <a:ln w="12600">
                  <a:solidFill>
                    <a:srgbClr val="b8b8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8777160" y="4041720"/>
                  <a:ext cx="249480" cy="41400"/>
                </a:xfrm>
                <a:prstGeom prst="rect">
                  <a:avLst/>
                </a:prstGeom>
                <a:noFill/>
                <a:ln w="12600">
                  <a:solidFill>
                    <a:srgbClr val="b6b6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8777160" y="4041720"/>
                  <a:ext cx="249480" cy="41400"/>
                </a:xfrm>
                <a:prstGeom prst="rect">
                  <a:avLst/>
                </a:prstGeom>
                <a:noFill/>
                <a:ln w="12600">
                  <a:solidFill>
                    <a:srgbClr val="b4b4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8777160" y="4041720"/>
                  <a:ext cx="249480" cy="38160"/>
                </a:xfrm>
                <a:prstGeom prst="rect">
                  <a:avLst/>
                </a:prstGeom>
                <a:noFill/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8777160" y="4041720"/>
                  <a:ext cx="249480" cy="38160"/>
                </a:xfrm>
                <a:prstGeom prst="rect">
                  <a:avLst/>
                </a:prstGeom>
                <a:noFill/>
                <a:ln w="12600">
                  <a:solidFill>
                    <a:srgbClr val="b0b0b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8777160" y="4041720"/>
                  <a:ext cx="249480" cy="38160"/>
                </a:xfrm>
                <a:prstGeom prst="rect">
                  <a:avLst/>
                </a:prstGeom>
                <a:noFill/>
                <a:ln w="12600">
                  <a:solidFill>
                    <a:srgbClr val="aeae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8777160" y="4041720"/>
                  <a:ext cx="249480" cy="34920"/>
                </a:xfrm>
                <a:prstGeom prst="rect">
                  <a:avLst/>
                </a:prstGeom>
                <a:noFill/>
                <a:ln w="12600">
                  <a:solidFill>
                    <a:srgbClr val="acac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8777160" y="4041720"/>
                  <a:ext cx="249480" cy="34920"/>
                </a:xfrm>
                <a:prstGeom prst="rect">
                  <a:avLst/>
                </a:prstGeom>
                <a:noFill/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8777160" y="4041720"/>
                  <a:ext cx="249480" cy="34920"/>
                </a:xfrm>
                <a:prstGeom prst="rect">
                  <a:avLst/>
                </a:prstGeom>
                <a:noFill/>
                <a:ln w="12600">
                  <a:solidFill>
                    <a:srgbClr val="a8a8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8777160" y="4041720"/>
                  <a:ext cx="249480" cy="34920"/>
                </a:xfrm>
                <a:prstGeom prst="rect">
                  <a:avLst/>
                </a:prstGeom>
                <a:noFill/>
                <a:ln w="1260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8777160" y="4041720"/>
                  <a:ext cx="249480" cy="33480"/>
                </a:xfrm>
                <a:prstGeom prst="rect">
                  <a:avLst/>
                </a:prstGeom>
                <a:noFill/>
                <a:ln w="12600">
                  <a:solidFill>
                    <a:srgbClr val="a4a4a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8777160" y="4041720"/>
                  <a:ext cx="249480" cy="33480"/>
                </a:xfrm>
                <a:prstGeom prst="rect">
                  <a:avLst/>
                </a:prstGeom>
                <a:noFill/>
                <a:ln w="12600">
                  <a:solidFill>
                    <a:srgbClr val="a2a2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8777160" y="4041720"/>
                  <a:ext cx="249480" cy="3348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8777160" y="4041720"/>
                  <a:ext cx="249480" cy="33480"/>
                </a:xfrm>
                <a:prstGeom prst="rect">
                  <a:avLst/>
                </a:prstGeom>
                <a:noFill/>
                <a:ln w="12600">
                  <a:solidFill>
                    <a:srgbClr val="9e9e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c9c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a9a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898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4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292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09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e8e8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c8c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a8a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484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282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d7d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b7b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979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575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37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1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f6f6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d6d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b6b6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969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565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3636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161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d5d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b5b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7575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3535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1515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f4f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b4b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949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545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343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d3d3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b3b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737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535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8771040" y="4035600"/>
                  <a:ext cx="264960" cy="42840"/>
                </a:xfrm>
                <a:prstGeom prst="rect">
                  <a:avLst/>
                </a:prstGeom>
                <a:solidFill>
                  <a:srgbClr val="35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3" name=""/>
              <p:cNvGrpSpPr/>
              <p:nvPr/>
            </p:nvGrpSpPr>
            <p:grpSpPr>
              <a:xfrm>
                <a:off x="8788320" y="3776760"/>
                <a:ext cx="262080" cy="179280"/>
                <a:chOff x="8788320" y="3776760"/>
                <a:chExt cx="262080" cy="179280"/>
              </a:xfrm>
            </p:grpSpPr>
            <p:sp>
              <p:nvSpPr>
                <p:cNvPr id="1424" name=""/>
                <p:cNvSpPr/>
                <p:nvPr/>
              </p:nvSpPr>
              <p:spPr>
                <a:xfrm>
                  <a:off x="8788320" y="3868560"/>
                  <a:ext cx="262080" cy="8748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8794800" y="3875040"/>
                  <a:ext cx="245880" cy="63720"/>
                </a:xfrm>
                <a:prstGeom prst="rect">
                  <a:avLst/>
                </a:prstGeom>
                <a:noFill/>
                <a:ln w="12600">
                  <a:solidFill>
                    <a:srgbClr val="f6f6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8794800" y="3875040"/>
                  <a:ext cx="245880" cy="63720"/>
                </a:xfrm>
                <a:prstGeom prst="rect">
                  <a:avLst/>
                </a:prstGeom>
                <a:noFill/>
                <a:ln w="12600">
                  <a:solidFill>
                    <a:srgbClr val="f4f4f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f0f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ecece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e8e8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e6e6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e4e4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e2e2e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dede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8794800" y="3875040"/>
                  <a:ext cx="245880" cy="55440"/>
                </a:xfrm>
                <a:prstGeom prst="rect">
                  <a:avLst/>
                </a:prstGeom>
                <a:noFill/>
                <a:ln w="1260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8794800" y="3875040"/>
                  <a:ext cx="245880" cy="55440"/>
                </a:xfrm>
                <a:prstGeom prst="rect">
                  <a:avLst/>
                </a:prstGeom>
                <a:noFill/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8794800" y="3875040"/>
                  <a:ext cx="245880" cy="55440"/>
                </a:xfrm>
                <a:prstGeom prst="rect">
                  <a:avLst/>
                </a:prstGeom>
                <a:noFill/>
                <a:ln w="1260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8794800" y="3875040"/>
                  <a:ext cx="245880" cy="55440"/>
                </a:xfrm>
                <a:prstGeom prst="rect">
                  <a:avLst/>
                </a:prstGeom>
                <a:noFill/>
                <a:ln w="12600">
                  <a:solidFill>
                    <a:srgbClr val="d6d6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8794800" y="3875040"/>
                  <a:ext cx="245880" cy="55440"/>
                </a:xfrm>
                <a:prstGeom prst="rect">
                  <a:avLst/>
                </a:prstGeom>
                <a:noFill/>
                <a:ln w="12600">
                  <a:solidFill>
                    <a:srgbClr val="d4d4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8794800" y="3875040"/>
                  <a:ext cx="245880" cy="55440"/>
                </a:xfrm>
                <a:prstGeom prst="rect">
                  <a:avLst/>
                </a:prstGeom>
                <a:noFill/>
                <a:ln w="12600">
                  <a:solidFill>
                    <a:srgbClr val="d2d2d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8794800" y="3875040"/>
                  <a:ext cx="245880" cy="52560"/>
                </a:xfrm>
                <a:prstGeom prst="rect">
                  <a:avLst/>
                </a:prstGeom>
                <a:noFill/>
                <a:ln w="12600">
                  <a:solidFill>
                    <a:srgbClr val="d0d0d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8794800" y="3875040"/>
                  <a:ext cx="245880" cy="52560"/>
                </a:xfrm>
                <a:prstGeom prst="rect">
                  <a:avLst/>
                </a:prstGeom>
                <a:noFill/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8794800" y="3875040"/>
                  <a:ext cx="245880" cy="52560"/>
                </a:xfrm>
                <a:prstGeom prst="rect">
                  <a:avLst/>
                </a:prstGeom>
                <a:noFill/>
                <a:ln w="1260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8794800" y="3875040"/>
                  <a:ext cx="245880" cy="52560"/>
                </a:xfrm>
                <a:prstGeom prst="rect">
                  <a:avLst/>
                </a:prstGeom>
                <a:noFill/>
                <a:ln w="12600">
                  <a:solidFill>
                    <a:srgbClr val="caca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8794800" y="3875040"/>
                  <a:ext cx="245880" cy="52560"/>
                </a:xfrm>
                <a:prstGeom prst="rect">
                  <a:avLst/>
                </a:prstGeom>
                <a:noFill/>
                <a:ln w="12600">
                  <a:solidFill>
                    <a:srgbClr val="c8c8c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8794800" y="3875040"/>
                  <a:ext cx="245880" cy="47520"/>
                </a:xfrm>
                <a:prstGeom prst="rect">
                  <a:avLst/>
                </a:prstGeom>
                <a:noFill/>
                <a:ln w="12600">
                  <a:solidFill>
                    <a:srgbClr val="c6c6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8794800" y="3875040"/>
                  <a:ext cx="245880" cy="47520"/>
                </a:xfrm>
                <a:prstGeom prst="rect">
                  <a:avLst/>
                </a:prstGeom>
                <a:noFill/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8794800" y="3875040"/>
                  <a:ext cx="245880" cy="47520"/>
                </a:xfrm>
                <a:prstGeom prst="rect">
                  <a:avLst/>
                </a:prstGeom>
                <a:noFill/>
                <a:ln w="12600">
                  <a:solidFill>
                    <a:srgbClr val="c2c2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8794800" y="3875040"/>
                  <a:ext cx="245880" cy="4752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8794800" y="3875040"/>
                  <a:ext cx="245880" cy="47520"/>
                </a:xfrm>
                <a:prstGeom prst="rect">
                  <a:avLst/>
                </a:prstGeom>
                <a:noFill/>
                <a:ln w="12600">
                  <a:solidFill>
                    <a:srgbClr val="bebe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8794800" y="3875040"/>
                  <a:ext cx="245880" cy="47520"/>
                </a:xfrm>
                <a:prstGeom prst="rect">
                  <a:avLst/>
                </a:prstGeom>
                <a:noFill/>
                <a:ln w="12600">
                  <a:solidFill>
                    <a:srgbClr val="bcbc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8794800" y="3875040"/>
                  <a:ext cx="245880" cy="44640"/>
                </a:xfrm>
                <a:prstGeom prst="rect">
                  <a:avLst/>
                </a:prstGeom>
                <a:noFill/>
                <a:ln w="12600">
                  <a:solidFill>
                    <a:srgbClr val="baba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8794800" y="3875040"/>
                  <a:ext cx="245880" cy="44640"/>
                </a:xfrm>
                <a:prstGeom prst="rect">
                  <a:avLst/>
                </a:prstGeom>
                <a:noFill/>
                <a:ln w="12600">
                  <a:solidFill>
                    <a:srgbClr val="b8b8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8794800" y="3875040"/>
                  <a:ext cx="245880" cy="44640"/>
                </a:xfrm>
                <a:prstGeom prst="rect">
                  <a:avLst/>
                </a:prstGeom>
                <a:noFill/>
                <a:ln w="12600">
                  <a:solidFill>
                    <a:srgbClr val="b6b6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8794800" y="3875040"/>
                  <a:ext cx="245880" cy="44640"/>
                </a:xfrm>
                <a:prstGeom prst="rect">
                  <a:avLst/>
                </a:prstGeom>
                <a:noFill/>
                <a:ln w="12600">
                  <a:solidFill>
                    <a:srgbClr val="b4b4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8794800" y="3875040"/>
                  <a:ext cx="245880" cy="44640"/>
                </a:xfrm>
                <a:prstGeom prst="rect">
                  <a:avLst/>
                </a:prstGeom>
                <a:noFill/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8794800" y="3875040"/>
                  <a:ext cx="245880" cy="44640"/>
                </a:xfrm>
                <a:prstGeom prst="rect">
                  <a:avLst/>
                </a:prstGeom>
                <a:noFill/>
                <a:ln w="12600">
                  <a:solidFill>
                    <a:srgbClr val="b0b0b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8794800" y="3875040"/>
                  <a:ext cx="245880" cy="39600"/>
                </a:xfrm>
                <a:prstGeom prst="rect">
                  <a:avLst/>
                </a:prstGeom>
                <a:noFill/>
                <a:ln w="12600">
                  <a:solidFill>
                    <a:srgbClr val="aeae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8794800" y="3875040"/>
                  <a:ext cx="245880" cy="39600"/>
                </a:xfrm>
                <a:prstGeom prst="rect">
                  <a:avLst/>
                </a:prstGeom>
                <a:noFill/>
                <a:ln w="12600">
                  <a:solidFill>
                    <a:srgbClr val="acac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8794800" y="3875040"/>
                  <a:ext cx="245880" cy="39600"/>
                </a:xfrm>
                <a:prstGeom prst="rect">
                  <a:avLst/>
                </a:prstGeom>
                <a:noFill/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8794800" y="3875040"/>
                  <a:ext cx="245880" cy="39600"/>
                </a:xfrm>
                <a:prstGeom prst="rect">
                  <a:avLst/>
                </a:prstGeom>
                <a:noFill/>
                <a:ln w="12600">
                  <a:solidFill>
                    <a:srgbClr val="a8a8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8794800" y="3875040"/>
                  <a:ext cx="245880" cy="39600"/>
                </a:xfrm>
                <a:prstGeom prst="rect">
                  <a:avLst/>
                </a:prstGeom>
                <a:noFill/>
                <a:ln w="1260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8794800" y="3875040"/>
                  <a:ext cx="245880" cy="36720"/>
                </a:xfrm>
                <a:prstGeom prst="rect">
                  <a:avLst/>
                </a:prstGeom>
                <a:noFill/>
                <a:ln w="12600">
                  <a:solidFill>
                    <a:srgbClr val="a4a4a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8794800" y="3875040"/>
                  <a:ext cx="245880" cy="36720"/>
                </a:xfrm>
                <a:prstGeom prst="rect">
                  <a:avLst/>
                </a:prstGeom>
                <a:noFill/>
                <a:ln w="12600">
                  <a:solidFill>
                    <a:srgbClr val="a2a2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8794800" y="3875040"/>
                  <a:ext cx="245880" cy="3672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8794800" y="3875040"/>
                  <a:ext cx="245880" cy="36720"/>
                </a:xfrm>
                <a:prstGeom prst="rect">
                  <a:avLst/>
                </a:prstGeom>
                <a:noFill/>
                <a:ln w="12600">
                  <a:solidFill>
                    <a:srgbClr val="9e9e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8794800" y="3875040"/>
                  <a:ext cx="245880" cy="36720"/>
                </a:xfrm>
                <a:prstGeom prst="rect">
                  <a:avLst/>
                </a:prstGeom>
                <a:noFill/>
                <a:ln w="12600">
                  <a:solidFill>
                    <a:srgbClr val="9c9c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9a9a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9898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94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9292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909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8e8e8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8c8c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8a8a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8484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8282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7d7d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7b7b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7979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7575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737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71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6f6f6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6d6d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6b6b6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6969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6565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63636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6161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5d5d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5b5b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57575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53535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51515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4f4f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4b4b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4949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4545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4343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3d3d3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3b3b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3737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3535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8788320" y="3868560"/>
                  <a:ext cx="262080" cy="44640"/>
                </a:xfrm>
                <a:prstGeom prst="rect">
                  <a:avLst/>
                </a:prstGeom>
                <a:solidFill>
                  <a:srgbClr val="35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8913960" y="3776760"/>
                  <a:ext cx="136440" cy="11088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4" name=""/>
              <p:cNvSpPr/>
              <p:nvPr/>
            </p:nvSpPr>
            <p:spPr>
              <a:xfrm>
                <a:off x="8761320" y="4284720"/>
                <a:ext cx="289080" cy="36504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8771040" y="4292640"/>
                <a:ext cx="190440" cy="34920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8969400" y="4292640"/>
                <a:ext cx="69840" cy="34920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8728200" y="3751200"/>
                <a:ext cx="349200" cy="925560"/>
              </a:xfrm>
              <a:prstGeom prst="rect">
                <a:avLst/>
              </a:prstGeom>
              <a:noFill/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8771040" y="4113360"/>
                <a:ext cx="268200" cy="889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8767800" y="3948120"/>
                <a:ext cx="268200" cy="889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0" name=""/>
              <p:cNvGrpSpPr/>
              <p:nvPr/>
            </p:nvGrpSpPr>
            <p:grpSpPr>
              <a:xfrm>
                <a:off x="8713800" y="3983040"/>
                <a:ext cx="304920" cy="252360"/>
                <a:chOff x="8713800" y="3983040"/>
                <a:chExt cx="304920" cy="252360"/>
              </a:xfrm>
            </p:grpSpPr>
            <p:sp>
              <p:nvSpPr>
                <p:cNvPr id="1531" name=""/>
                <p:cNvSpPr/>
                <p:nvPr/>
              </p:nvSpPr>
              <p:spPr>
                <a:xfrm>
                  <a:off x="8713800" y="3983040"/>
                  <a:ext cx="304920" cy="25236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8720280" y="3989520"/>
                  <a:ext cx="290520" cy="212760"/>
                </a:xfrm>
                <a:prstGeom prst="rect">
                  <a:avLst/>
                </a:prstGeom>
                <a:noFill/>
                <a:ln w="12600">
                  <a:solidFill>
                    <a:srgbClr val="f6f6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8720280" y="3989520"/>
                  <a:ext cx="290520" cy="209520"/>
                </a:xfrm>
                <a:prstGeom prst="rect">
                  <a:avLst/>
                </a:prstGeom>
                <a:noFill/>
                <a:ln w="12600">
                  <a:solidFill>
                    <a:srgbClr val="f4f4f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8720280" y="3989520"/>
                  <a:ext cx="290520" cy="209520"/>
                </a:xfrm>
                <a:prstGeom prst="rect">
                  <a:avLst/>
                </a:prstGeom>
                <a:noFill/>
                <a:ln w="1260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8720280" y="3989520"/>
                  <a:ext cx="290520" cy="206280"/>
                </a:xfrm>
                <a:prstGeom prst="rect">
                  <a:avLst/>
                </a:prstGeom>
                <a:noFill/>
                <a:ln w="12600">
                  <a:solidFill>
                    <a:srgbClr val="f0f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8720280" y="3989520"/>
                  <a:ext cx="290520" cy="204480"/>
                </a:xfrm>
                <a:prstGeom prst="rect">
                  <a:avLst/>
                </a:prstGeom>
                <a:noFill/>
                <a:ln w="1260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8720280" y="3989520"/>
                  <a:ext cx="290520" cy="201600"/>
                </a:xfrm>
                <a:prstGeom prst="rect">
                  <a:avLst/>
                </a:prstGeom>
                <a:noFill/>
                <a:ln w="12600">
                  <a:solidFill>
                    <a:srgbClr val="ecece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8720280" y="3989520"/>
                  <a:ext cx="290520" cy="198360"/>
                </a:xfrm>
                <a:prstGeom prst="rect">
                  <a:avLst/>
                </a:prstGeom>
                <a:noFill/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8720280" y="3989520"/>
                  <a:ext cx="290520" cy="198360"/>
                </a:xfrm>
                <a:prstGeom prst="rect">
                  <a:avLst/>
                </a:prstGeom>
                <a:noFill/>
                <a:ln w="12600">
                  <a:solidFill>
                    <a:srgbClr val="e8e8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8720280" y="3989520"/>
                  <a:ext cx="290520" cy="196560"/>
                </a:xfrm>
                <a:prstGeom prst="rect">
                  <a:avLst/>
                </a:prstGeom>
                <a:noFill/>
                <a:ln w="12600">
                  <a:solidFill>
                    <a:srgbClr val="e6e6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8720280" y="3989520"/>
                  <a:ext cx="290520" cy="193680"/>
                </a:xfrm>
                <a:prstGeom prst="rect">
                  <a:avLst/>
                </a:prstGeom>
                <a:noFill/>
                <a:ln w="12600">
                  <a:solidFill>
                    <a:srgbClr val="e4e4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8720280" y="3989520"/>
                  <a:ext cx="290520" cy="193680"/>
                </a:xfrm>
                <a:prstGeom prst="rect">
                  <a:avLst/>
                </a:prstGeom>
                <a:noFill/>
                <a:ln w="12600">
                  <a:solidFill>
                    <a:srgbClr val="e2e2e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8720280" y="3989520"/>
                  <a:ext cx="290520" cy="190440"/>
                </a:xfrm>
                <a:prstGeom prst="rect">
                  <a:avLst/>
                </a:prstGeom>
                <a:noFill/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8720280" y="3989520"/>
                  <a:ext cx="290520" cy="187200"/>
                </a:xfrm>
                <a:prstGeom prst="rect">
                  <a:avLst/>
                </a:prstGeom>
                <a:noFill/>
                <a:ln w="12600">
                  <a:solidFill>
                    <a:srgbClr val="dede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8720280" y="3989520"/>
                  <a:ext cx="290520" cy="185760"/>
                </a:xfrm>
                <a:prstGeom prst="rect">
                  <a:avLst/>
                </a:prstGeom>
                <a:noFill/>
                <a:ln w="1260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8720280" y="3989520"/>
                  <a:ext cx="290520" cy="182520"/>
                </a:xfrm>
                <a:prstGeom prst="rect">
                  <a:avLst/>
                </a:prstGeom>
                <a:noFill/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8720280" y="3989520"/>
                  <a:ext cx="290520" cy="182520"/>
                </a:xfrm>
                <a:prstGeom prst="rect">
                  <a:avLst/>
                </a:prstGeom>
                <a:noFill/>
                <a:ln w="1260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8720280" y="3989520"/>
                  <a:ext cx="290520" cy="179280"/>
                </a:xfrm>
                <a:prstGeom prst="rect">
                  <a:avLst/>
                </a:prstGeom>
                <a:noFill/>
                <a:ln w="12600">
                  <a:solidFill>
                    <a:srgbClr val="d6d6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8720280" y="3989520"/>
                  <a:ext cx="290520" cy="177840"/>
                </a:xfrm>
                <a:prstGeom prst="rect">
                  <a:avLst/>
                </a:prstGeom>
                <a:noFill/>
                <a:ln w="12600">
                  <a:solidFill>
                    <a:srgbClr val="d4d4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8720280" y="3989520"/>
                  <a:ext cx="290520" cy="174600"/>
                </a:xfrm>
                <a:prstGeom prst="rect">
                  <a:avLst/>
                </a:prstGeom>
                <a:noFill/>
                <a:ln w="12600">
                  <a:solidFill>
                    <a:srgbClr val="d2d2d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8720280" y="3989520"/>
                  <a:ext cx="290520" cy="174600"/>
                </a:xfrm>
                <a:prstGeom prst="rect">
                  <a:avLst/>
                </a:prstGeom>
                <a:noFill/>
                <a:ln w="12600">
                  <a:solidFill>
                    <a:srgbClr val="d0d0d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8720280" y="3989520"/>
                  <a:ext cx="290520" cy="171360"/>
                </a:xfrm>
                <a:prstGeom prst="rect">
                  <a:avLst/>
                </a:prstGeom>
                <a:noFill/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8720280" y="3989520"/>
                  <a:ext cx="290520" cy="168120"/>
                </a:xfrm>
                <a:prstGeom prst="rect">
                  <a:avLst/>
                </a:prstGeom>
                <a:noFill/>
                <a:ln w="1260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8720280" y="3989520"/>
                  <a:ext cx="290520" cy="166680"/>
                </a:xfrm>
                <a:prstGeom prst="rect">
                  <a:avLst/>
                </a:prstGeom>
                <a:noFill/>
                <a:ln w="12600">
                  <a:solidFill>
                    <a:srgbClr val="caca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8720280" y="3989520"/>
                  <a:ext cx="290520" cy="166680"/>
                </a:xfrm>
                <a:prstGeom prst="rect">
                  <a:avLst/>
                </a:prstGeom>
                <a:noFill/>
                <a:ln w="12600">
                  <a:solidFill>
                    <a:srgbClr val="c8c8c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8720280" y="3989520"/>
                  <a:ext cx="290520" cy="163440"/>
                </a:xfrm>
                <a:prstGeom prst="rect">
                  <a:avLst/>
                </a:prstGeom>
                <a:noFill/>
                <a:ln w="12600">
                  <a:solidFill>
                    <a:srgbClr val="c6c6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8720280" y="3989520"/>
                  <a:ext cx="290520" cy="160200"/>
                </a:xfrm>
                <a:prstGeom prst="rect">
                  <a:avLst/>
                </a:prstGeom>
                <a:noFill/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8720280" y="3989520"/>
                  <a:ext cx="290520" cy="158760"/>
                </a:xfrm>
                <a:prstGeom prst="rect">
                  <a:avLst/>
                </a:prstGeom>
                <a:noFill/>
                <a:ln w="12600">
                  <a:solidFill>
                    <a:srgbClr val="c2c2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8720280" y="3989520"/>
                  <a:ext cx="290520" cy="15552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8720280" y="3989520"/>
                  <a:ext cx="290520" cy="155520"/>
                </a:xfrm>
                <a:prstGeom prst="rect">
                  <a:avLst/>
                </a:prstGeom>
                <a:noFill/>
                <a:ln w="12600">
                  <a:solidFill>
                    <a:srgbClr val="bebe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8720280" y="3989520"/>
                  <a:ext cx="290520" cy="152280"/>
                </a:xfrm>
                <a:prstGeom prst="rect">
                  <a:avLst/>
                </a:prstGeom>
                <a:noFill/>
                <a:ln w="12600">
                  <a:solidFill>
                    <a:srgbClr val="bcbc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8720280" y="3989520"/>
                  <a:ext cx="290520" cy="150840"/>
                </a:xfrm>
                <a:prstGeom prst="rect">
                  <a:avLst/>
                </a:prstGeom>
                <a:noFill/>
                <a:ln w="12600">
                  <a:solidFill>
                    <a:srgbClr val="baba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8720280" y="3989520"/>
                  <a:ext cx="290520" cy="150840"/>
                </a:xfrm>
                <a:prstGeom prst="rect">
                  <a:avLst/>
                </a:prstGeom>
                <a:noFill/>
                <a:ln w="12600">
                  <a:solidFill>
                    <a:srgbClr val="b8b8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8720280" y="3989520"/>
                  <a:ext cx="290520" cy="147600"/>
                </a:xfrm>
                <a:prstGeom prst="rect">
                  <a:avLst/>
                </a:prstGeom>
                <a:noFill/>
                <a:ln w="12600">
                  <a:solidFill>
                    <a:srgbClr val="b6b6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8720280" y="3989520"/>
                  <a:ext cx="290520" cy="144360"/>
                </a:xfrm>
                <a:prstGeom prst="rect">
                  <a:avLst/>
                </a:prstGeom>
                <a:noFill/>
                <a:ln w="12600">
                  <a:solidFill>
                    <a:srgbClr val="b4b4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8720280" y="3989520"/>
                  <a:ext cx="290520" cy="141120"/>
                </a:xfrm>
                <a:prstGeom prst="rect">
                  <a:avLst/>
                </a:prstGeom>
                <a:noFill/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8720280" y="3989520"/>
                  <a:ext cx="290520" cy="139680"/>
                </a:xfrm>
                <a:prstGeom prst="rect">
                  <a:avLst/>
                </a:prstGeom>
                <a:noFill/>
                <a:ln w="12600">
                  <a:solidFill>
                    <a:srgbClr val="b0b0b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8720280" y="3989520"/>
                  <a:ext cx="290520" cy="139680"/>
                </a:xfrm>
                <a:prstGeom prst="rect">
                  <a:avLst/>
                </a:prstGeom>
                <a:noFill/>
                <a:ln w="12600">
                  <a:solidFill>
                    <a:srgbClr val="aeae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8720280" y="3989520"/>
                  <a:ext cx="290520" cy="136440"/>
                </a:xfrm>
                <a:prstGeom prst="rect">
                  <a:avLst/>
                </a:prstGeom>
                <a:noFill/>
                <a:ln w="12600">
                  <a:solidFill>
                    <a:srgbClr val="acac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8720280" y="3989520"/>
                  <a:ext cx="290520" cy="133200"/>
                </a:xfrm>
                <a:prstGeom prst="rect">
                  <a:avLst/>
                </a:prstGeom>
                <a:noFill/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8720280" y="3989520"/>
                  <a:ext cx="290520" cy="131760"/>
                </a:xfrm>
                <a:prstGeom prst="rect">
                  <a:avLst/>
                </a:prstGeom>
                <a:noFill/>
                <a:ln w="12600">
                  <a:solidFill>
                    <a:srgbClr val="a8a8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8720280" y="3989520"/>
                  <a:ext cx="290520" cy="131760"/>
                </a:xfrm>
                <a:prstGeom prst="rect">
                  <a:avLst/>
                </a:prstGeom>
                <a:noFill/>
                <a:ln w="1260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8720280" y="3989520"/>
                  <a:ext cx="290520" cy="128520"/>
                </a:xfrm>
                <a:prstGeom prst="rect">
                  <a:avLst/>
                </a:prstGeom>
                <a:noFill/>
                <a:ln w="12600">
                  <a:solidFill>
                    <a:srgbClr val="a4a4a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8720280" y="3989520"/>
                  <a:ext cx="290520" cy="125280"/>
                </a:xfrm>
                <a:prstGeom prst="rect">
                  <a:avLst/>
                </a:prstGeom>
                <a:noFill/>
                <a:ln w="12600">
                  <a:solidFill>
                    <a:srgbClr val="a2a2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8720280" y="3989520"/>
                  <a:ext cx="290520" cy="12204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8720280" y="3989520"/>
                  <a:ext cx="290520" cy="122040"/>
                </a:xfrm>
                <a:prstGeom prst="rect">
                  <a:avLst/>
                </a:prstGeom>
                <a:noFill/>
                <a:ln w="12600">
                  <a:solidFill>
                    <a:srgbClr val="9e9e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8720280" y="3989520"/>
                  <a:ext cx="290520" cy="120600"/>
                </a:xfrm>
                <a:prstGeom prst="rect">
                  <a:avLst/>
                </a:prstGeom>
                <a:noFill/>
                <a:ln w="12600">
                  <a:solidFill>
                    <a:srgbClr val="9c9c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8720280" y="3989520"/>
                  <a:ext cx="290520" cy="117360"/>
                </a:xfrm>
                <a:prstGeom prst="rect">
                  <a:avLst/>
                </a:prstGeom>
                <a:noFill/>
                <a:ln w="12600">
                  <a:solidFill>
                    <a:srgbClr val="9a9a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8720280" y="3989520"/>
                  <a:ext cx="290520" cy="114120"/>
                </a:xfrm>
                <a:prstGeom prst="rect">
                  <a:avLst/>
                </a:prstGeom>
                <a:noFill/>
                <a:ln w="12600">
                  <a:solidFill>
                    <a:srgbClr val="9898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8720280" y="3989520"/>
                  <a:ext cx="290520" cy="114120"/>
                </a:xfrm>
                <a:prstGeom prst="rect">
                  <a:avLst/>
                </a:prstGeom>
                <a:noFill/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8720280" y="3989520"/>
                  <a:ext cx="290520" cy="112680"/>
                </a:xfrm>
                <a:prstGeom prst="rect">
                  <a:avLst/>
                </a:prstGeom>
                <a:noFill/>
                <a:ln w="12600">
                  <a:solidFill>
                    <a:srgbClr val="94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8720280" y="3989520"/>
                  <a:ext cx="290520" cy="109440"/>
                </a:xfrm>
                <a:prstGeom prst="rect">
                  <a:avLst/>
                </a:prstGeom>
                <a:noFill/>
                <a:ln w="12600">
                  <a:solidFill>
                    <a:srgbClr val="9292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8720280" y="3989520"/>
                  <a:ext cx="290520" cy="106200"/>
                </a:xfrm>
                <a:prstGeom prst="rect">
                  <a:avLst/>
                </a:prstGeom>
                <a:noFill/>
                <a:ln w="12600">
                  <a:solidFill>
                    <a:srgbClr val="909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8720280" y="3989520"/>
                  <a:ext cx="290520" cy="106200"/>
                </a:xfrm>
                <a:prstGeom prst="rect">
                  <a:avLst/>
                </a:prstGeom>
                <a:noFill/>
                <a:ln w="12600">
                  <a:solidFill>
                    <a:srgbClr val="8e8e8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8720280" y="3989520"/>
                  <a:ext cx="290520" cy="104760"/>
                </a:xfrm>
                <a:prstGeom prst="rect">
                  <a:avLst/>
                </a:prstGeom>
                <a:noFill/>
                <a:ln w="12600">
                  <a:solidFill>
                    <a:srgbClr val="8c8c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8720280" y="3989520"/>
                  <a:ext cx="290520" cy="101520"/>
                </a:xfrm>
                <a:prstGeom prst="rect">
                  <a:avLst/>
                </a:prstGeom>
                <a:noFill/>
                <a:ln w="12600">
                  <a:solidFill>
                    <a:srgbClr val="8a8a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8720280" y="3989520"/>
                  <a:ext cx="290520" cy="98280"/>
                </a:xfrm>
                <a:prstGeom prst="rect">
                  <a:avLst/>
                </a:prstGeom>
                <a:noFill/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8720280" y="3989520"/>
                  <a:ext cx="290520" cy="98280"/>
                </a:xfrm>
                <a:prstGeom prst="rect">
                  <a:avLst/>
                </a:prstGeom>
                <a:noFill/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8720280" y="3989520"/>
                  <a:ext cx="290520" cy="95040"/>
                </a:xfrm>
                <a:prstGeom prst="rect">
                  <a:avLst/>
                </a:prstGeom>
                <a:noFill/>
                <a:ln w="12600">
                  <a:solidFill>
                    <a:srgbClr val="8484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8720280" y="3989520"/>
                  <a:ext cx="290520" cy="93600"/>
                </a:xfrm>
                <a:prstGeom prst="rect">
                  <a:avLst/>
                </a:prstGeom>
                <a:noFill/>
                <a:ln w="12600">
                  <a:solidFill>
                    <a:srgbClr val="8282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8720280" y="3989520"/>
                  <a:ext cx="290520" cy="90360"/>
                </a:xfrm>
                <a:prstGeom prst="rect">
                  <a:avLst/>
                </a:prstGeom>
                <a:noFill/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8720280" y="3989520"/>
                  <a:ext cx="290520" cy="87120"/>
                </a:xfrm>
                <a:prstGeom prst="rect">
                  <a:avLst/>
                </a:prstGeom>
                <a:noFill/>
                <a:ln w="12600">
                  <a:solidFill>
                    <a:srgbClr val="7d7d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8720280" y="3989520"/>
                  <a:ext cx="290520" cy="87120"/>
                </a:xfrm>
                <a:prstGeom prst="rect">
                  <a:avLst/>
                </a:prstGeom>
                <a:noFill/>
                <a:ln w="12600">
                  <a:solidFill>
                    <a:srgbClr val="7b7b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8720280" y="3989520"/>
                  <a:ext cx="290520" cy="85680"/>
                </a:xfrm>
                <a:prstGeom prst="rect">
                  <a:avLst/>
                </a:prstGeom>
                <a:noFill/>
                <a:ln w="12600">
                  <a:solidFill>
                    <a:srgbClr val="7979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8720280" y="3989520"/>
                  <a:ext cx="290520" cy="82440"/>
                </a:xfrm>
                <a:prstGeom prst="rect">
                  <a:avLst/>
                </a:prstGeom>
                <a:noFill/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8720280" y="3989520"/>
                  <a:ext cx="290520" cy="79200"/>
                </a:xfrm>
                <a:prstGeom prst="rect">
                  <a:avLst/>
                </a:prstGeom>
                <a:noFill/>
                <a:ln w="12600">
                  <a:solidFill>
                    <a:srgbClr val="7575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8720280" y="3989520"/>
                  <a:ext cx="290520" cy="75960"/>
                </a:xfrm>
                <a:prstGeom prst="rect">
                  <a:avLst/>
                </a:prstGeom>
                <a:noFill/>
                <a:ln w="12600">
                  <a:solidFill>
                    <a:srgbClr val="737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8720280" y="3989520"/>
                  <a:ext cx="290520" cy="75960"/>
                </a:xfrm>
                <a:prstGeom prst="rect">
                  <a:avLst/>
                </a:prstGeom>
                <a:noFill/>
                <a:ln w="12600">
                  <a:solidFill>
                    <a:srgbClr val="71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8720280" y="3989520"/>
                  <a:ext cx="290520" cy="74520"/>
                </a:xfrm>
                <a:prstGeom prst="rect">
                  <a:avLst/>
                </a:prstGeom>
                <a:noFill/>
                <a:ln w="12600">
                  <a:solidFill>
                    <a:srgbClr val="6f6f6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8720280" y="3989520"/>
                  <a:ext cx="290520" cy="71280"/>
                </a:xfrm>
                <a:prstGeom prst="rect">
                  <a:avLst/>
                </a:prstGeom>
                <a:noFill/>
                <a:ln w="12600">
                  <a:solidFill>
                    <a:srgbClr val="6d6d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8720280" y="3989520"/>
                  <a:ext cx="290520" cy="71280"/>
                </a:xfrm>
                <a:prstGeom prst="rect">
                  <a:avLst/>
                </a:prstGeom>
                <a:noFill/>
                <a:ln w="12600">
                  <a:solidFill>
                    <a:srgbClr val="6b6b6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8720280" y="3989520"/>
                  <a:ext cx="290520" cy="68040"/>
                </a:xfrm>
                <a:prstGeom prst="rect">
                  <a:avLst/>
                </a:prstGeom>
                <a:noFill/>
                <a:ln w="12600">
                  <a:solidFill>
                    <a:srgbClr val="6969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8720280" y="3989520"/>
                  <a:ext cx="290520" cy="66600"/>
                </a:xfrm>
                <a:prstGeom prst="rect">
                  <a:avLst/>
                </a:prstGeom>
                <a:noFill/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8720280" y="3989520"/>
                  <a:ext cx="290520" cy="63360"/>
                </a:xfrm>
                <a:prstGeom prst="rect">
                  <a:avLst/>
                </a:prstGeom>
                <a:noFill/>
                <a:ln w="12600">
                  <a:solidFill>
                    <a:srgbClr val="6565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8720280" y="3989520"/>
                  <a:ext cx="290520" cy="63360"/>
                </a:xfrm>
                <a:prstGeom prst="rect">
                  <a:avLst/>
                </a:prstGeom>
                <a:noFill/>
                <a:ln w="12600">
                  <a:solidFill>
                    <a:srgbClr val="63636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8720280" y="3989520"/>
                  <a:ext cx="290520" cy="60120"/>
                </a:xfrm>
                <a:prstGeom prst="rect">
                  <a:avLst/>
                </a:prstGeom>
                <a:noFill/>
                <a:ln w="12600">
                  <a:solidFill>
                    <a:srgbClr val="6161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8720280" y="3989520"/>
                  <a:ext cx="290520" cy="56880"/>
                </a:xfrm>
                <a:prstGeom prst="rect">
                  <a:avLst/>
                </a:prstGeom>
                <a:noFill/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>
                  <a:off x="8720280" y="3989520"/>
                  <a:ext cx="290520" cy="55440"/>
                </a:xfrm>
                <a:prstGeom prst="rect">
                  <a:avLst/>
                </a:prstGeom>
                <a:noFill/>
                <a:ln w="12600">
                  <a:solidFill>
                    <a:srgbClr val="5d5d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>
                  <a:off x="8720280" y="3989520"/>
                  <a:ext cx="290520" cy="55440"/>
                </a:xfrm>
                <a:prstGeom prst="rect">
                  <a:avLst/>
                </a:prstGeom>
                <a:noFill/>
                <a:ln w="12600">
                  <a:solidFill>
                    <a:srgbClr val="5b5b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8720280" y="3989520"/>
                  <a:ext cx="290520" cy="52200"/>
                </a:xfrm>
                <a:prstGeom prst="rect">
                  <a:avLst/>
                </a:prstGeom>
                <a:noFill/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8720280" y="3989520"/>
                  <a:ext cx="290520" cy="48960"/>
                </a:xfrm>
                <a:prstGeom prst="rect">
                  <a:avLst/>
                </a:prstGeom>
                <a:noFill/>
                <a:ln w="12600">
                  <a:solidFill>
                    <a:srgbClr val="57575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8720280" y="3989520"/>
                  <a:ext cx="290520" cy="47520"/>
                </a:xfrm>
                <a:prstGeom prst="rect">
                  <a:avLst/>
                </a:prstGeom>
                <a:noFill/>
                <a:ln w="1260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8720280" y="3989520"/>
                  <a:ext cx="290520" cy="44280"/>
                </a:xfrm>
                <a:prstGeom prst="rect">
                  <a:avLst/>
                </a:prstGeom>
                <a:noFill/>
                <a:ln w="12600">
                  <a:solidFill>
                    <a:srgbClr val="53535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8720280" y="3989520"/>
                  <a:ext cx="290520" cy="44280"/>
                </a:xfrm>
                <a:prstGeom prst="rect">
                  <a:avLst/>
                </a:prstGeom>
                <a:noFill/>
                <a:ln w="12600">
                  <a:solidFill>
                    <a:srgbClr val="51515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8720280" y="3989520"/>
                  <a:ext cx="290520" cy="41040"/>
                </a:xfrm>
                <a:prstGeom prst="rect">
                  <a:avLst/>
                </a:prstGeom>
                <a:noFill/>
                <a:ln w="12600">
                  <a:solidFill>
                    <a:srgbClr val="4f4f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8720280" y="3989520"/>
                  <a:ext cx="290520" cy="39600"/>
                </a:xfrm>
                <a:prstGeom prst="rect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8720280" y="3989520"/>
                  <a:ext cx="290520" cy="36360"/>
                </a:xfrm>
                <a:prstGeom prst="rect">
                  <a:avLst/>
                </a:prstGeom>
                <a:noFill/>
                <a:ln w="12600">
                  <a:solidFill>
                    <a:srgbClr val="4b4b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8720280" y="3989520"/>
                  <a:ext cx="290520" cy="33120"/>
                </a:xfrm>
                <a:prstGeom prst="rect">
                  <a:avLst/>
                </a:prstGeom>
                <a:noFill/>
                <a:ln w="12600">
                  <a:solidFill>
                    <a:srgbClr val="4949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8720280" y="3989520"/>
                  <a:ext cx="290520" cy="33120"/>
                </a:xfrm>
                <a:prstGeom prst="rect">
                  <a:avLst/>
                </a:prstGeom>
                <a:noFill/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8720280" y="3989520"/>
                  <a:ext cx="290520" cy="29880"/>
                </a:xfrm>
                <a:prstGeom prst="rect">
                  <a:avLst/>
                </a:prstGeom>
                <a:noFill/>
                <a:ln w="12600">
                  <a:solidFill>
                    <a:srgbClr val="4545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8720280" y="3989520"/>
                  <a:ext cx="290520" cy="29880"/>
                </a:xfrm>
                <a:prstGeom prst="rect">
                  <a:avLst/>
                </a:prstGeom>
                <a:noFill/>
                <a:ln w="12600">
                  <a:solidFill>
                    <a:srgbClr val="4343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8720280" y="3989520"/>
                  <a:ext cx="290520" cy="29880"/>
                </a:xfrm>
                <a:prstGeom prst="rect">
                  <a:avLst/>
                </a:prstGeom>
                <a:noFill/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8720280" y="3989520"/>
                  <a:ext cx="290520" cy="29880"/>
                </a:xfrm>
                <a:prstGeom prst="rect">
                  <a:avLst/>
                </a:prstGeom>
                <a:noFill/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8720280" y="3989520"/>
                  <a:ext cx="290520" cy="29880"/>
                </a:xfrm>
                <a:prstGeom prst="rect">
                  <a:avLst/>
                </a:prstGeom>
                <a:noFill/>
                <a:ln w="12600">
                  <a:solidFill>
                    <a:srgbClr val="3d3d3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8720280" y="3989520"/>
                  <a:ext cx="290520" cy="29880"/>
                </a:xfrm>
                <a:prstGeom prst="rect">
                  <a:avLst/>
                </a:prstGeom>
                <a:noFill/>
                <a:ln w="12600">
                  <a:solidFill>
                    <a:srgbClr val="3b3b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8720280" y="3989520"/>
                  <a:ext cx="290520" cy="29880"/>
                </a:xfrm>
                <a:prstGeom prst="rect">
                  <a:avLst/>
                </a:prstGeom>
                <a:noFill/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8720280" y="3989520"/>
                  <a:ext cx="290520" cy="29880"/>
                </a:xfrm>
                <a:prstGeom prst="rect">
                  <a:avLst/>
                </a:prstGeom>
                <a:noFill/>
                <a:ln w="12600">
                  <a:solidFill>
                    <a:srgbClr val="3737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8720280" y="3989520"/>
                  <a:ext cx="290520" cy="29880"/>
                </a:xfrm>
                <a:prstGeom prst="rect">
                  <a:avLst/>
                </a:prstGeom>
                <a:noFill/>
                <a:ln w="12600">
                  <a:solidFill>
                    <a:srgbClr val="3535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8713800" y="3983040"/>
                  <a:ext cx="304920" cy="42840"/>
                </a:xfrm>
                <a:prstGeom prst="rect">
                  <a:avLst/>
                </a:prstGeom>
                <a:solidFill>
                  <a:srgbClr val="35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0" name=""/>
              <p:cNvSpPr/>
              <p:nvPr/>
            </p:nvSpPr>
            <p:spPr>
              <a:xfrm>
                <a:off x="8785080" y="3986280"/>
                <a:ext cx="25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8964720" y="4010040"/>
                <a:ext cx="54000" cy="4284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8969400" y="4013280"/>
                <a:ext cx="52200" cy="4284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8856720" y="3986280"/>
                <a:ext cx="112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8856720" y="3986280"/>
                <a:ext cx="11268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7526160" y="4794120"/>
                <a:ext cx="990720" cy="16200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537320" y="4813200"/>
                <a:ext cx="230400" cy="4284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777080" y="4813200"/>
                <a:ext cx="231840" cy="4284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8013600" y="4813200"/>
                <a:ext cx="231840" cy="4284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8290080" y="4898880"/>
                <a:ext cx="56880" cy="4464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7540560" y="4853160"/>
                <a:ext cx="704880" cy="8712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8263080" y="4813200"/>
                <a:ext cx="114120" cy="4284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8263080" y="4849920"/>
                <a:ext cx="114120" cy="4428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8399520" y="4856040"/>
                <a:ext cx="101520" cy="8748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4" name=""/>
          <p:cNvSpPr/>
          <p:nvPr/>
        </p:nvSpPr>
        <p:spPr>
          <a:xfrm>
            <a:off x="914400" y="4923000"/>
            <a:ext cx="2971800" cy="6094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b18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X Scri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Experience:  How It Work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 Compon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X Contro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COM components with “design-time” U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written in C++, Java, VB, Delphi,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f-regist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ized for download and exec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 appl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 on both Active Client or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alk indirectly over HTTP or directly over 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crosoft Java V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 V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 COM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Java classes from any application/language, not just browser/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Java objec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COM ob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integration of Java applets with other languages and scri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ts Java applets talk to other Java appl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ts Java applets talk to ActiveX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s Java applets access to all PC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0" name="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706920" cy="2971800"/>
          </a:xfrm>
          <a:prstGeom prst="rect">
            <a:avLst/>
          </a:prstGeom>
          <a:ln w="0">
            <a:noFill/>
          </a:ln>
        </p:spPr>
      </p:pic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ansaction Server</a:t>
            </a:r>
            <a:br>
              <a:rPr sz="4000"/>
            </a:b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“Viper”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-360" y="1885680"/>
            <a:ext cx="86360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ntime execu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ironment for server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s COM archi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cture with transa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s concurrency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threading, queuing, atomicity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is easy to encapsulate business logic in middle-t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X Core Product Statu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”COM first released in Windows NT 4.0, August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95 version released January 199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aris 2.x release immi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UNICES, MVS, and VMS to fol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intosh version in H1 199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Group source licenses available by mid-1997; DCE integration project by end of 199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sourc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 Overview B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Understanding ActiveX and O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by David Chappel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a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n95 ver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http://www.microsoft.com/oledev/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laris and other non-Win32 ver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http://www.sagus.com/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ica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http://www.microsoft.com/workshop/&gt; and &lt;http://www.microsoft.com/oledev/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Inside CO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by Dale Rogers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ling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www.microsoft.com/workshop/resources/email.h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7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1" name="new%20ms%20with%20tagline%208x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grpSp>
        <p:nvGrpSpPr>
          <p:cNvPr id="1662" name=""/>
          <p:cNvGrpSpPr/>
          <p:nvPr/>
        </p:nvGrpSpPr>
        <p:grpSpPr>
          <a:xfrm>
            <a:off x="7864560" y="6264360"/>
            <a:ext cx="1197360" cy="376200"/>
            <a:chOff x="7864560" y="6264360"/>
            <a:chExt cx="1197360" cy="376200"/>
          </a:xfrm>
        </p:grpSpPr>
        <p:pic>
          <p:nvPicPr>
            <p:cNvPr id="1663" name="" descr=""/>
            <p:cNvPicPr/>
            <p:nvPr/>
          </p:nvPicPr>
          <p:blipFill>
            <a:blip r:embed="rId2"/>
            <a:stretch/>
          </p:blipFill>
          <p:spPr>
            <a:xfrm>
              <a:off x="7864560" y="6297480"/>
              <a:ext cx="1039680" cy="3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4" name=""/>
            <p:cNvSpPr/>
            <p:nvPr/>
          </p:nvSpPr>
          <p:spPr>
            <a:xfrm>
              <a:off x="8835840" y="6264360"/>
              <a:ext cx="2260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5e574e"/>
                  </a:solidFill>
                  <a:latin typeface="Arial Narrow"/>
                </a:rPr>
                <a:t>™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nted: Software Compon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wave” requires applications, content, operating systems, networking, distributed services to be integrated as never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solutions won’t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one vendor or one team of programmers can move fast enou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leverage others’ work and to build and ship smaller pieces increment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evolve smaller pieces asynchronously without sacrificing the who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lutions…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SA” architecture was Microsoft’s 2nd generation component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I (often with different “levels”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 (Microsoft) -supplied intermediary DLL with out-of-band management rout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I for real components/servers to plug in “underneat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great (e.g. ODBC) but has crucial limi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afe decentralized extension or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: 3rd Generation Compon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fied programming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OS and apps — unification of system handle-based “objects” and variety of app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in-process and remote interaction — unification of DLLs and R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for binary deployment, conne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pieces or “components” find and connect to each other through clearly defined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ves fundamental problems of software integration, independent ev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ufacturing process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s on the Interent/Intranet cli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 based server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Server P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crosoft Transaction Server (Vip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tier “client/server”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 Tier Client/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5867280"/>
            <a:ext cx="8458200" cy="83844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Third-Tier - Databases, Legac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4343400"/>
            <a:ext cx="1067040" cy="152388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4343400"/>
            <a:ext cx="990360" cy="152388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tc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4343400"/>
            <a:ext cx="990720" cy="152388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3886200"/>
            <a:ext cx="845820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id-Tier - HTTP, Biz Objects, Active Server Pages, Scrip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2362320"/>
            <a:ext cx="1066680" cy="152388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2362320"/>
            <a:ext cx="990720" cy="152388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905120"/>
            <a:ext cx="845820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Desktop” - Compound Documents, Controls, Scrip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X Builds on CO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’s initial thrust: integrating desktop applications with O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 technology is generically useful, being applied to a range of other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00’s of shipping, commercially available, produ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ld class development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, VC, VJ, Delphi, PowerSoft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03T01:13:36Z</dcterms:created>
  <dc:creator>Charlie Kindel</dc:creator>
  <dc:description>This presentation was given by Charlie Kindel at Object World East '97.</dc:description>
  <cp:keywords>COM ActiveX OLE DCOM Objects Components</cp:keywords>
  <dc:language>en-US</dc:language>
  <cp:lastModifiedBy>Michael Gross</cp:lastModifiedBy>
  <cp:lastPrinted>1997-03-05T05:56:03Z</cp:lastPrinted>
  <dcterms:modified xsi:type="dcterms:W3CDTF">1997-10-06T17:43:29Z</dcterms:modified>
  <cp:revision>25</cp:revision>
  <dc:subject>ActiveX and COM</dc:subject>
  <dc:title>ActiveX Overview</dc:title>
</cp:coreProperties>
</file>