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0868C-3D34-4E1B-AD5C-7A6371429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F66B-D408-4CBC-998D-021399D19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6E9B3-1BFA-4E66-A903-2397A532CB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E287-E677-43F3-AFFA-CD02A12DC2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5C8C-59EE-41FA-BF05-933DE69A2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EDCC-8121-46C6-B1BD-F01D0CBF1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FA37E-9170-4E03-89F4-8D8566DC9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A6B8-2244-42D0-87C1-9EDA1432B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59E3-3AFA-49BA-8BF6-A3B56AC33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FF57D-06B4-4B22-B476-5EE1B842C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F16BB-B9B2-4AA5-9636-2BB4B2FA3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F829-4CCA-4658-A292-C9E2CFC01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057400" y="6400440"/>
            <a:ext cx="5105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édric Bertho   -   Comparaison entr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20120" y="6400440"/>
            <a:ext cx="838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B7BD-EA45-471F-9805-2642B04216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2/10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400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2520" y="35812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img10" descr=""/>
          <p:cNvPicPr/>
          <p:nvPr/>
        </p:nvPicPr>
        <p:blipFill>
          <a:blip r:embed="rId1"/>
          <a:stretch/>
        </p:blipFill>
        <p:spPr>
          <a:xfrm>
            <a:off x="2666880" y="4419720"/>
            <a:ext cx="4056120" cy="1112760"/>
          </a:xfrm>
          <a:prstGeom prst="rect">
            <a:avLst/>
          </a:prstGeom>
          <a:ln w="0">
            <a:noFill/>
          </a:ln>
        </p:spPr>
      </p:pic>
      <p:pic>
        <p:nvPicPr>
          <p:cNvPr id="44" name="sm_perl_id_bk_wt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854360" cy="1854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ar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D406-AB89-4297-B3D4-5AF9A56B3F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685800"/>
            <a:ext cx="7238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$filename = "cooktest1.1-1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 (F, $filename) or die ("can't open $filename: $!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@lines = &lt;F&gt;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23924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ilename = "cooktest1.1-1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t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 = open (file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excep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sys.stderr.write ("can't open %s: %s %s\n" 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(filename, sys.exc_type, sys.exc_valu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lines = f.readlin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2F69-E219-4FBB-9E14-7D09666305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Lequel choisir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approprié  aux  débutants  en  program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5053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eurs  familiers  du  C,  Sed,  Awk  ou  des  commande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838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81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 programmation  orientée  objet  et  les  gros  pro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9718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495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de chaînes de caractères et les 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181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  grand  support  actuel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37437-713C-494D-970D-CC45A310F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Sources - réfé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4197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zop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0666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buzz.builder.com/cgi-bin/WebX?14@133.uWaUauuNrDb^1@.ee7bc67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676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byte.com/printableArticle?doc_id=BYT20000201S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3623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python.org/doc/Compariso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1240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starship.python.net/~da/jak/cookbook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809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http://www.culte.org/projets/doc/scripting.s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BA56-D9FC-4557-9628-5450FE2387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95480" y="7621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752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gines  de  Perl  et 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24382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 quoi  servent-il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312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similitud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09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lles  sont  leurs  différences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4495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s  d’utili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181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quel  choisir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7735-00C7-480F-AAF6-6A2C1566D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rigines de Perl et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yth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1143000"/>
            <a:ext cx="6553080" cy="20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90  par  Guido  van  Ros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projet  Amo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  issu  des  Monthy  Python’s  Flying  Cir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3886200"/>
            <a:ext cx="655308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  avancé  de  scripting  (interpré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é  en  1987  par  Larry 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tiné  initialement  au  traitement  de  chaînes de caractères  sous 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actical  Extraction  and  Report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8D5B-7B7C-4718-9ACA-747D5436E5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 quoi servent-il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762120"/>
            <a:ext cx="769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veloppement  rapide  de  diverses  tâches  courantes  telles  que  des  scripts d ’administration système, analyse de fichiers textuel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totypage  rapide  d’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faces  avec  d’autres  programmes  (C, Jav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errogation  de  bases  de  donn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ogrammation  Internet, Common  Gateway 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 d’images,  interfaces  graphiques (avec  modules  et  bibliothèq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2E414-640D-4C08-B003-EEB62FB5A5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similitud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ratuits,  portables  et  Open 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96056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ngages  « interactifs » et  interprétés  évol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59884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ation  procédurale  ou  orientée ob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3864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èdent  de  fortes  communautés  de  développ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8769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sent  de  nombreux  modules  et  bibliothèques  d’out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222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ulti-plateformes  (Unix, Windows, BeOs,  MacOS, Amiga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235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pport  de  structures  de  données  riches  et  dynamiques (listes, hashtabl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864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93B83-0449-4A69-9127-A44B060A63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 est  plus  gros,  mais  Python  grossit  plus v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981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rientation  objet :  native  pour  Python,  superficielle  pour 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29718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 « There ’s more than one way to do it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029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de Python : plus constante et uniforme,  voir  restri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038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 « Life’s better without brac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BDC6-BDBE-46C7-AFFF-CDA33CF45D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omp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85000" cy="4514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68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parison of Six XML Parsers Processing Each Test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Quelles sont leurs différenc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5FC7-D22C-441D-8901-07009B9115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81080" y="152280"/>
            <a:ext cx="5105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xemples d’utilis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457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533520"/>
            <a:ext cx="76960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(split(/:/, $ENV{'PATH'})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opendir(DIR, $_) or die "can't opendir $_: $!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grep {!/^\./ &amp;&amp; print "$_\n" } readdir(DI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closedir DI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yth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#!/usr/local/bin/pyth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mport os, string, 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d in string.split(os.environ['PATH'], ':'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for f in os.listdir(d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mode = os.lstat(d + '/' + f)[stat.ST_MODE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if not stat.S_ISDIR(mod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</a:rPr>
              <a:t>print 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84945-6879-4F7D-909D-0038DA68A2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ythonwi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02640" cy="58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édric Bertho - Généralités et Comparaison entre Perl et Pyth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3F8D-9DC4-42FE-ABF4-FE25C4B170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1T15:11:22Z</dcterms:created>
  <dc:creator>Ced</dc:creator>
  <dc:description/>
  <dc:language>en-US</dc:language>
  <cp:lastModifiedBy>Ced</cp:lastModifiedBy>
  <dcterms:modified xsi:type="dcterms:W3CDTF">2000-10-11T22:29:03Z</dcterms:modified>
  <cp:revision>20</cp:revision>
  <dc:subject/>
  <dc:title>vs</dc:title>
</cp:coreProperties>
</file>